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8F5AE-A667-4A2D-B74D-B5F48E0B5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473-AF27-4505-B072-08DE7D8D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B8B-05AB-4BF3-841D-875CF9F5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C86-8132-4537-9A9C-9E0A6C70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982-E04E-4E8E-8160-7516C2C3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4AF-8CAE-44B7-BC9B-CF1A447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919-2DAE-4898-A153-6E74614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009-C4CE-4677-B650-0BA0A16C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911-214A-4DBB-9BF6-E0F325D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70E-DE3E-46DC-945D-653C26B4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411-1919-4472-A18E-BF29798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1FF-8BAF-4DF0-81B3-D092309A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7C5-A8A1-404A-98E3-7B08662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90A81-3069-4BF6-A118-85C30D2EE5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14 - George W. War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Speaks To 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umpets before each st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peaks to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is great power we're l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t your he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disquie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trust in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 and trust in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trust in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 and trust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umpets before each 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God's vast real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many offic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re it not 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ely would have sai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must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lace for you prepar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must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lace for you prep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umpets before each 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this 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been prepared for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retur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e you shall be to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that where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 you may also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that where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 you may also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4:04:08Z</dcterms:created>
  <dc:creator>Lanora Campbell</dc:creator>
  <dc:description/>
  <dc:language>en-US</dc:language>
  <cp:lastModifiedBy/>
  <cp:revision>1</cp:revision>
  <dc:subject/>
  <dc:title>Hymnal</dc:title>
</cp:coreProperties>
</file>