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37F42-BD2A-4A9B-A2D8-5BA6BE985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8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4D64-7859-452B-AE27-B671CA67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6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BE1-A5D1-46F0-9EF4-7C0F4CF9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96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D194-4646-41A1-A096-4162F160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76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9480" y="17060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76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9480" y="3689640"/>
            <a:ext cx="260604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31CB-A5EB-470C-9133-365ECB5D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367-ED59-4277-A7EB-F49EE1F0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9C2-19AD-4D12-A7AE-171BAB6D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C9E6-A349-4EC8-AF0D-32913C6D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256-0AA6-4622-AEC6-EE30480D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46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F11-A87E-4E5C-BA27-D250CEBF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883-4335-4054-83BF-47900939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960" y="36896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E35-1A8F-45E8-8B00-81C81A6D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960" y="1706040"/>
            <a:ext cx="3949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640"/>
            <a:ext cx="80946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E75-BDBA-4024-A6C2-00006BC8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4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040"/>
            <a:ext cx="80946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876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328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720" y="5613120"/>
            <a:ext cx="20858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19845-8A4A-4DD5-BF06-4DC34915564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0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rise, Eternal, O My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cked in their pride purs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ake the poor their pre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m be taken in the sn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they for others l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cked, thru his pride of f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God will never cal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n the counsels of his heart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is not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in his heart he thus hath sai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never moved shall b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no adversity at all shall e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to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cursing, fraud, and foul dece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mouth is always fille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vanity and mischief li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ath his tongue conceal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ise, Eternal, O my God, lift u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hand on high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t not the poor and hum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s out of Thy mem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judge the fatherless and th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ath oppression sor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man, who is but sprung of ear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them oppress no m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6:30:30Z</dcterms:created>
  <dc:creator>Lanora Campbell</dc:creator>
  <dc:description/>
  <dc:language>en-US</dc:language>
  <cp:lastModifiedBy/>
  <cp:revision>1</cp:revision>
  <dc:subject/>
  <dc:title/>
</cp:coreProperties>
</file>