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93522-448B-4F1B-AD61-7AD7462C3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BE9-7528-4918-A390-E0FEC424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BAC-C377-4B58-814E-02A7E967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0B7-904F-47D9-9C1E-B494CB4C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76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948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76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948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5B0-1227-438E-ACF9-5F74FF65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621-7645-4D71-9AF9-94929EDE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17D-ED6F-43D7-9226-12113122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793-CF70-48DE-B4F0-8F67232C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47B-4292-4783-BD7E-F63F4753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46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48D-DC85-4FC3-9BFC-F0674BA6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544-0875-41DC-AA13-BE044E0B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6D1-16FC-44F9-888F-3AB9B997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07B-F4C0-4362-94C9-8787D84F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876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32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858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622D6-4169-45D7-8297-D30F4AABCB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3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.P. Bliss, 19th c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nderful Words of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 them over again to 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derful words of Lif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e more of their beauty se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derful words of Li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s of life and beau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me faith and dut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utiful words, wonderful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derful words of Li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utiful words, wonderful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derful words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56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, the blessed O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to all 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ner, list to the loving ca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derful words of Lif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o freely giv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without leave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utiful words, wonderful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derful words of Li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utiful words, wonderful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derful words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56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etly echo the gospel cal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 pardon and peace to al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derful words of Li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only Savi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ctify for e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utiful words, wonderful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derful words of Li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utiful words, wonderful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derful words of Li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9:51:16Z</dcterms:created>
  <dc:creator>Lanora Campbell</dc:creator>
  <dc:description/>
  <dc:language>en-US</dc:language>
  <cp:lastModifiedBy/>
  <cp:revision>1</cp:revision>
  <dc:subject/>
  <dc:title/>
</cp:coreProperties>
</file>