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BB08D-D875-4197-B8C4-F11243F12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9C2-2616-4E8D-946B-7F971854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D41-1C90-49AE-B9C9-A083440C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F6E-FABF-4AE7-87A0-A5883945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05D-E0E4-4EA2-ADF8-6D8FAAE8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C73-F129-4CF0-8651-69107C41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A4B-F1E9-4207-9875-D9C98C9D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D40-8948-4688-9205-2965CBCD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232-14E3-40CD-9D2F-E10D0770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5F8-3CC2-4292-8B83-C0082D7A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16C-60A4-4110-AF8C-29B174AA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1BF-146E-4F4D-A830-D80C187F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2DC-5A05-4181-BE8F-E47ACC01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1BF9F-DC4D-4516-BE58-97357AEEA91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6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Psalter, 1912 Moore's Psalm Singer's Pocket Companion, 17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st Perfect Is The Law Of Go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perfect is the law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toring those that str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testimony is most s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laiming wisdom's 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ecepts of the Lord are righ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joy they fill the hea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's commandments all are p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learest light imp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ear of God is undefil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ever shall endu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atutes of the Lord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th and righteousness most p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s which from my mou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ed, the thoughts within my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pt, O Lord, for Thou m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ck and my Redeemer 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21:24:20Z</dcterms:created>
  <dc:creator>Lanora Campbell</dc:creator>
  <dc:description/>
  <dc:language>en-US</dc:language>
  <cp:lastModifiedBy/>
  <cp:revision>1</cp:revision>
  <dc:subject/>
  <dc:title>Hymnal</dc:title>
</cp:coreProperties>
</file>