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FF30-7714-46EA-811F-EE8D72FD1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D6E-E5E8-4302-9E9B-F75A9C0D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BF0-BE55-40AE-91B5-BEBACFF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8D8-4660-4ADB-BC86-EF938F26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0A5-6E15-4FCC-9B66-2D29E2B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DF6-0064-46F4-993B-587DAC9F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D8C-1BBB-4896-ACD7-8ABA058C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9EC-4F03-4F8A-82A3-49DCFDB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AF3-2653-434D-9C93-B05C3F3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53E-A9B5-44E3-B8C8-B61A505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04C-4175-4E9C-94E2-DC31D82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B46-D90F-4F7B-A463-AF8FFD9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F7F-8AF0-40B9-8055-E9CE8E5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475A3-8D7D-4ED1-9B5E-7A4102DDA0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Shall Dwell On Thy Holy Hil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ternal, who shall d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temple of Thy g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shall on Thy Holy h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fixed abiding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walks in righteous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is actions just and cl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se words the truth expr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ken from a heart sinc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ne'er with sland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ngue utters malice and decei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ne'er his neighbor wr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a sland'rous tale repe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ill claim no usu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th bribes pollute his h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ho thus shall frame his lif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ll unmoved forever st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02:02Z</dcterms:created>
  <dc:creator>Lanora Campbell</dc:creator>
  <dc:description/>
  <dc:language>en-US</dc:language>
  <cp:lastModifiedBy/>
  <cp:revision>1</cp:revision>
  <dc:subject/>
  <dc:title/>
</cp:coreProperties>
</file>