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33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F2293-DDBD-48BA-8E68-3AABDA85B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D8D-2077-4F4C-AFDD-12907760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C80-BA01-4B8D-A23D-2406BD1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BE6-210A-461B-8E58-BC0EE3FE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280" y="170604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280" y="3690360"/>
            <a:ext cx="260676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809-4CBD-4F73-B17C-3802D7D0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A1A-F178-4235-86F1-C8FACD6A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4F9-6B5D-4D38-A3B0-417C7F1D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DF4-AE3F-46AB-9D4E-CCDE1D73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00B-7662-496A-B8AD-56FF141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585720"/>
            <a:ext cx="8096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7F2-5605-45CE-AA2D-15D387E2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F5D-9534-45E8-B7A3-D04C1F5D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5400" y="369036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234-6F07-4DAE-858E-74EE0987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5400" y="1706040"/>
            <a:ext cx="39510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3690360"/>
            <a:ext cx="809640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94E-4AF4-4BB8-AFDB-72C97261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585720"/>
            <a:ext cx="80964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706040"/>
            <a:ext cx="8096400" cy="37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04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5613480"/>
            <a:ext cx="28447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3360" y="5613480"/>
            <a:ext cx="20890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8F988-7659-4C58-9DCB-66269B7AE4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 234 -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eremiah E. Rankin, 1828-1904, William G. Tomer, 1832-18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d Be With You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be with you till we meet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His counsels guide, uphold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His sheep securely fold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be with you till we meet ag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0360" y="357120"/>
            <a:ext cx="900288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,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 at Jesus' fee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,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e with you til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be with you till we meet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th His wings protecting hide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ily bread He will provide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be with you till we meet ag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,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 at Jesus' fee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,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e with you til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be with you till we meet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life's perils thick confound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His arms unfailing round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be with you till we meet ag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,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 at Jesus' fee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,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e with you til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7120" y="357120"/>
            <a:ext cx="90061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be with you till we meet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love's banner floating o'er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mite death's threatening wave before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be with you till we meet ag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7120" y="357120"/>
            <a:ext cx="9007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,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 at Jesus' fee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we me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,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ill we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e with you til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20:22:47Z</dcterms:created>
  <dc:creator>Lanora Campbell</dc:creator>
  <dc:description/>
  <dc:language>en-US</dc:language>
  <cp:lastModifiedBy/>
  <cp:revision>1</cp:revision>
  <dc:subject/>
  <dc:title>Hymnal</dc:title>
</cp:coreProperties>
</file>