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A0100-359B-42A8-B729-7EAA9B8C6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765-6C9C-4B5F-B7D5-F913B5B3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33C-24DD-4808-8D56-8C794774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695-6587-49ED-B51D-53C7F5F6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E70-0E23-4658-92E4-A53A1381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E61-6A85-49FE-B012-62CD2FB0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6B8-4544-4465-9096-4020DAA1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D9F-9487-451F-8C83-8368B9D7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10A-F1A6-4CBD-8A15-2C5D6D10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BF2-8284-471E-9B3E-3CD86BB9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FA3-0059-492C-86F3-A24F758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744-6F66-4AE2-B743-5F1ECE27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CA8-27D5-46D2-A401-C5BBE0E3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6E2B8-AFDD-4D4D-9F7D-BF3B02F91C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ive Judgment To The King, 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judgment to the King, O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the royal s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irit of Thy righteousn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may rightly ju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hills and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forth peace, Prosperity for 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defend the needy o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rush those who oppr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may He live, long 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and moon above shall sh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gentle rain on meadows gre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ow'rs that water eart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n His days shall peace abou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justice shall he ru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ighteousness shall fill the ea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long as time ex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ea to sea, to ends of ea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His dominion b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enemies shall lick the du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oes bow down to Hi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s of west and 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bring their tribute unto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all earth's kings shall b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, all nations yield to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05:31Z</dcterms:created>
  <dc:creator>Lanora Campbell</dc:creator>
  <dc:description/>
  <dc:language>en-US</dc:language>
  <cp:lastModifiedBy/>
  <cp:revision>1</cp:revision>
  <dc:subject/>
  <dc:title>Hymnal</dc:title>
</cp:coreProperties>
</file>