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6A287-CF0A-4F30-BFC9-BABFFECEC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D6A-7598-4061-AE2B-006B1AB3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261-A335-4F54-B739-3A2B6BED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710-2452-4CF0-AC13-EB1E2829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54A-1CCE-4DA9-941F-5EA2167A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FF8-1725-4914-AD29-DAD2CB86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65B-6FD5-4A9C-A72E-1F3641CF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331-54EE-4E98-90FB-5B847039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3BD-39E9-4B08-846F-D13E7473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48F-37E9-414D-83DB-9FBF7708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91C-F38B-4BBB-8AC1-714389B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723-5EBD-4889-AB6C-4F63EF89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091-B9C4-47D0-A461-2C270386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58937-0F86-4FE0-A9B1-FFDB434D5C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rancis Scott Key, 1779-1843, Attributed to John Stafford Smith, 1750-18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tar-Spangled Bann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ay, can you see, by the dawn's early l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 proudly we hai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twilight's last gleam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se broad stripes and bright sta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u the perilous f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'er the ramparts we watch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so gallantly stream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rockets' red gl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s bursting in a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proof thru the n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ur flag was still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ay, does that star-spang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ner yet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'er the land of the f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home of the br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us be it ever, when free men sha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their loved h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war's desolatio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t with vict'ry and pe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the heav'n-rescued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Pow'r that hath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reserved us a natio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onquer we mu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our cause it is ju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is be our mott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In God is our trust!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star-spang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ner in triumph shal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'er the land of the f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home of the brav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5:13:48Z</dcterms:created>
  <dc:creator>Lanora Campbell</dc:creator>
  <dc:description/>
  <dc:language>en-US</dc:language>
  <cp:lastModifiedBy/>
  <cp:revision>1</cp:revision>
  <dc:subject/>
  <dc:title>Hymnal</dc:title>
</cp:coreProperties>
</file>