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FEFDC-F4A3-4730-A866-F026D8455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95A-4341-4B1B-9743-A60D7D0C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A37-8C72-4F29-B235-93A1A553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141-8CB9-4554-B6EF-3646DFF3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720-63D5-4115-AE7A-5D5F3CB7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F22-C9E1-4BC4-AFC9-DAFFF03C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BC2-C7A6-45F4-865D-FC32A26D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844-7EC5-4BBF-8C5F-83514AB2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239-10DD-459C-AA14-62A83841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31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615-C6D1-460A-AD93-000E3450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3A0-0E39-43B0-8D24-12C18C14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07F-CD87-4491-B771-A0D307B3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E8B-A857-41AD-BEB4-515FD592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44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8CCC3-AE1C-4733-B58D-B3E53DB6C4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e 15 -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salm 11 - Dwight Arm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is Eyes Behold The Children Of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Eternal I put all my trust; How can you say, to a mountain escap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e like a bird from the peril, in haste? See how the wicked aim with their bow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ively shoot at the upright in heart! Impious men who wait in the d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foundations are falling apar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the righteous man do in this pl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, the Eternal is there on His thr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eyes behold the children of me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nd proving the right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heart; Requiting evil, violent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on the Eternal shall send from above Fi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il and brimstone and scorching hot wind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portion of their cup to b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Eternal loves righteous deed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are upright shall look on His fac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ooks on them and favor im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6:34:37Z</dcterms:created>
  <dc:creator>Lanora Campbell</dc:creator>
  <dc:description/>
  <dc:language>en-US</dc:language>
  <cp:lastModifiedBy/>
  <cp:revision>1</cp:revision>
  <dc:subject/>
  <dc:title/>
</cp:coreProperties>
</file>