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336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18164-8743-4A08-953B-E2D46FE84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"/>
          <p:cNvSpPr/>
          <p:nvPr/>
        </p:nvSpPr>
        <p:spPr>
          <a:xfrm>
            <a:off x="777960" y="4776840"/>
            <a:ext cx="62132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791-6E14-4BD0-B2EE-8F7C38A6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8712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438-53D0-4EA0-A442-66735B0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18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D17-8693-4257-A97E-82D4F8F4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168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6960" y="170604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168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6960" y="3687120"/>
            <a:ext cx="260460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A19-A280-4489-B049-4A7C3023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597-6B9C-4E91-BD81-D10DAA3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4AE-2225-4478-94F6-9843411F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B61-7762-44F3-B0C3-DF28412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6AE-459E-451D-AFFF-98010BAF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7520"/>
            <a:ext cx="808992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1E9-B7AC-4E46-A984-91F21349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B71-DF04-44A3-9E49-A8181B4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1800" y="368712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93B-CECE-4570-A84D-C3176BA4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1800" y="1706040"/>
            <a:ext cx="394776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87120"/>
            <a:ext cx="8089920" cy="180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748-31C0-4F91-B6FA-3B5E938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7520"/>
            <a:ext cx="808992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8992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120"/>
            <a:ext cx="208116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560" y="5613120"/>
            <a:ext cx="28400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120"/>
            <a:ext cx="208116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AEAEF-566D-4211-86BA-434459D67E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26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2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o The Nations Make Plans In V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the nations make pla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vain Against the One Anoi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ing, Let us strip off all His chord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His bands asu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es their scheme, from hea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aughs; Holds them in der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peaks to them in His great wr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is most holy sovereign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let me tell the Eternal's word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rulers of this world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y son this day I decre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my begott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all inherit all of the ear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all rule all na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all be King of all the earth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all rule with a rod of ir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104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kings be wise and take warning now, O let me tell His edic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k now the Lord with trembling and fear, Lest you end in ru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t He be angry, quickly submit; Worship Him with rever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rs of earth take warning now; Place your trust in the One true G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5:19:38Z</dcterms:created>
  <dc:creator>Lanora Campbell</dc:creator>
  <dc:description/>
  <dc:language>en-US</dc:language>
  <cp:lastModifiedBy/>
  <cp:revision>1</cp:revision>
  <dc:subject/>
  <dc:title/>
</cp:coreProperties>
</file>