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0ECB9-CC37-47D6-A98B-F0C77F19D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AB4-F423-4D83-AD7A-68E03B61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291-876C-42D9-A1D5-8DDB8997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205-6044-47B9-BD67-AC0870F2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27D-38F6-485F-A24B-26D3D337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784-EF39-4272-835A-0DB4C67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99A-6531-46B9-9759-F4BCE423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483-2E2A-48F7-B965-25AF909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350-83E3-436E-A001-D2C331E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480-9961-4227-BCB4-BEE043E2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80D-C489-42CF-8D42-37F53919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8AC-89C2-430A-A9E6-470CBC54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398-74D2-4E43-932D-84F9D3D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AE105-0E31-4F0D-9614-DFF68465BA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rd You Dealt Well With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rd, You dealt well with me as Your word say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 me in judgment and knowledge, I p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hough I strayed, I have turned to Your way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 believe Your commandments are ju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ud men and godless besmear me with li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minds are dull and their hearts are as gros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delight in Your precepts and law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with thousands in silver and go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hands have fashioned and made 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Lord; To understand and to learn Your command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see me shall fear You and rejoi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 trusted and hoped in Your 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now, O Lord, that Your judgments are righ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id afflict me in Your faithful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now console me with Your steadfast lov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 rely on Your mercy and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Your salvation my soul does cry ou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become like a wine-skin in smok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 do I not forget Your righteous la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ays must your servant end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ill You judge those who, persecute m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are false and regard not Your la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almost made an end of my lif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as for me, I forsake not Your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4:55:18Z</dcterms:created>
  <dc:creator>Lanora Campbell</dc:creator>
  <dc:description/>
  <dc:language>en-US</dc:language>
  <cp:lastModifiedBy/>
  <cp:revision>1</cp:revision>
  <dc:subject/>
  <dc:title>Hymnal</dc:title>
</cp:coreProperties>
</file>