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38463-A955-4744-BE27-ED37FB680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7B66-0814-4C0C-A9FF-FE672E16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ACCF-C9EC-4442-BBCC-C5F322AF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6040-8F4D-458F-84A1-6A37A677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29FC-E8A9-4FD9-96A5-2A3C22DD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2483-B9DE-4E36-AACB-308B64DE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642E-F415-4536-AFD1-03DFB04F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2A62-A834-447E-828D-8FEB6589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0EEC-A675-4CC7-A460-D12B6300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C1FD-E306-47A2-A20C-5EB02BF8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15EF-711D-44E6-907A-159BF7B2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139-7DC5-4273-8AA5-2C2164F4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2379-DC6F-4D61-89C5-661792B2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403E5-0763-4A7B-8E28-8C140123857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64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38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t Thy Chastening Be In Measur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, do not in hot displeas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y thy heavy hand on 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y chast'ning be in measur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rebukes from anger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y hand most surely presse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Thy arrows stick withi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ath my weary flesh distress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s my bones no rest from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'er my head like billows rush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transgressions risen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a burden heavy crush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er far than I can b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athsome are my wounds neglect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own folly makes it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wed with grief and much afflict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day I mourning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my loins are filled with burn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in me no more rem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feeble, bruised and mourn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aning loud thro' inward p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desires and ceaseless wail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ud unveil'd before Thee l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ts my heart my strength is fail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its light has left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12:44:29Z</dcterms:created>
  <dc:creator>Lanora Campbell</dc:creator>
  <dc:description/>
  <dc:language>en-US</dc:language>
  <cp:lastModifiedBy/>
  <cp:revision>1</cp:revision>
  <dc:subject/>
  <dc:title>Hymnal</dc:title>
</cp:coreProperties>
</file>