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30D97-E5D3-4092-98C0-43A1581D6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553-13F2-4479-A35E-CAEE1D72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4F6-B761-47B3-90D2-3283EB9A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04E-9728-4B01-B2F6-00955299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867-AA38-4E13-90D8-98C8506D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B45-9344-4BBA-ACEA-74B0D1CE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DAE-6B7A-4ABB-9201-9A646B2F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5C9-32E8-49C8-8EF4-94936EFF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CB5-0DA7-4099-A73D-EC517B7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B48-011F-4EC2-82E4-3D229FF7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C34-1697-4817-8FE8-716E4900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7DB-1A31-4DC4-9F9E-0E19F26F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0BE-2E4A-4932-B7FA-61084D2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5FC9F-4449-48D5-BB0A-B525BB2865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ames W. Van DeVenter, 1855-1939, Winfield S. Weeden, 1847-19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Surrender 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Jesus I surrend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Him I freely gi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ever love and trust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presence daily 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Thee, my blessed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Jesus I surrend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mbly at His feet I b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ldly pleasures all forsak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e, Jesus, take me now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Thee, my blessed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Jesus I surrend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me, Savior, wholly Thin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me feel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ly know that Thou are m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Thee, my blessed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Jesus I surrender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give myself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me with Thy love and pow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y blessing fall on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urrender al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o Thee, my blessed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urrender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4:12:29Z</dcterms:created>
  <dc:creator>Lanora Campbell</dc:creator>
  <dc:description/>
  <dc:language>en-US</dc:language>
  <cp:lastModifiedBy/>
  <cp:revision>1</cp:revision>
  <dc:subject/>
  <dc:title>Hymnal</dc:title>
</cp:coreProperties>
</file>