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336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6859-6D5D-41CB-86FE-5ADF8BD92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7A3-04BF-4FE4-9AEB-D59D68B0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712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1F5-5433-4F20-8D4F-EB1150E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18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AA6-8C20-4F7B-AD9E-3CFB678F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168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696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168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696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157-C093-4EEE-B8BB-A135CFB6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7BA-1F81-4A88-83A5-FF3F0C54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284-C6D3-4DDF-AD8A-91814CC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92C-8775-4C64-8818-700110F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ED1-6EA2-4B98-AAC3-1FCCAF6E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520"/>
            <a:ext cx="808992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4CE-8FAE-4822-84C2-975BC66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9FB-C5C6-4530-8398-56CE0507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18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D96-23D9-42BA-92AC-316D5EA3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300-475A-4092-8EEF-76F8E4E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116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00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116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2A7B4-B476-4C09-88B9-E90B0F936C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56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ge 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4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In God And Stand In A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and answer when I cal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Righteous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distress You set me fre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now my pray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ow men love vanit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hood they seek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ing glory into sh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long will sons of men love van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how long love vain intrigue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 after li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 in God and stand in a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ease to s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 that God has set apa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godly 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we might see some go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will s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look and smile on 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Righteous Go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has given me more jo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they all know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lone makes me to dw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ly in peac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46:06Z</dcterms:created>
  <dc:creator>Lanora Campbell</dc:creator>
  <dc:description/>
  <dc:language>en-US</dc:language>
  <cp:lastModifiedBy/>
  <cp:revision>1</cp:revision>
  <dc:subject/>
  <dc:title/>
</cp:coreProperties>
</file>