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F4653-AE0C-47C6-A570-68942FB12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134-4CFA-454E-A1F9-B5156459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DDF-DABE-43E1-90A2-4E47015E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4CB5-1D6E-4745-9AAF-0E6C86A2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128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128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DD12-15BD-4545-A174-BFB629A2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3D5-20D1-405E-BC72-539DEC52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E71-5A3E-4E98-A5E3-C6DAA938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C35-33DF-4211-B8D2-25968114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243-CF1D-436F-82AB-66DBBED8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720"/>
            <a:ext cx="809640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1C1-70A0-421C-868F-7AF5A81D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364C-8CB1-479D-9B7B-A0DC312B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E2D-EFDB-424D-948A-C143D00A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1C9-8AE4-4FA6-B8F7-29BCA64E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480"/>
            <a:ext cx="28447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A1D6B-7FC8-4941-B967-6AC82A78CA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8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oseph Addison, 1712, Franz Joseph Haydn, 17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pacious Firmament On Hig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pacious firmament on hig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all the blue ethereal sk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pangled heavens, a shining fra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great Original procla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'unwearied sun, from day to d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his Creator's power displ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ublishes to every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k of an almight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on as the evening shades prevai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on takes up the wondrous ta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nightly to the listening ear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s the story of her birt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st all the stars that round her bur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ll the planets in their tur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rm the tidings as they rol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pread the truth from pole to p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ough in solemn silence 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round this dark terrestrial ba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ough no real voice nor s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dst the radiant orbs be foun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eason's ear they all rejoi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utter forth a glorious voi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ver singing as they sh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The hand that made us is divine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7:41:39Z</dcterms:created>
  <dc:creator>Lanora Campbell</dc:creator>
  <dc:description/>
  <dc:language>en-US</dc:language>
  <cp:lastModifiedBy/>
  <cp:revision>1</cp:revision>
  <dc:subject/>
  <dc:title>Hymnal</dc:title>
</cp:coreProperties>
</file>