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1480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90993-A9DA-4D68-9E57-139B1F012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968C-2855-4062-8F66-C08FC70E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8856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3DE4-ADD3-4E57-BA77-8CA084CC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252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26F0-0CC7-4E6A-9B55-CA7D5997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8400" y="170640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8400" y="3688560"/>
            <a:ext cx="2605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B17-7EF2-4D49-B3BF-BF67CA5C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BED-1E81-45BA-B771-F183BB07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016-5F12-47C6-9204-0E45D197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FB52-2696-45C8-BECC-557D4BE9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9CD3-EFD1-4673-BCB3-CBF8BBA3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7160"/>
            <a:ext cx="809136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039-DFCA-4D30-B8D7-5329A2FF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A001-E866-4895-A182-CA919230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2520" y="368856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F1AA-0E44-40F6-91D0-A801C0EA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2520" y="1706400"/>
            <a:ext cx="3948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88560"/>
            <a:ext cx="809136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14BA-6618-415B-AD26-AC6A5D4A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7160"/>
            <a:ext cx="809136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400"/>
            <a:ext cx="80913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5613120"/>
            <a:ext cx="20829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1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26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220A8-131B-44EF-9820-F9D89DE7EB5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3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Verses 1-3 Edward Perronet, 1779, 1780 Verse 4 John Rippon, 1787 Oliver Holden, 17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 Hail The Power of Jesus' Na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ail the power of Jesus' name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angels prostrate fall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ing forth the royal diade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ail Him Lord of al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ing forth the royal diade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ail Him Lord of 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chosen seed of Israel's ra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 who did hear the cal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Him who saves you by His gra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ail Him Lord of all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il Him who saves you by His gra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ail Him Lord of 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every kindred, every trib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this terrestrial ball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im all majesty ascrib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ail Him Lord of al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im all majesty ascrib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ail Him Lord of 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that with yonder sacred thro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at His feet may fal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'll join the everlasting so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ail Him Lord of al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'll join the everlasting so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hail Him Lord of al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5:41:55Z</dcterms:created>
  <dc:creator>Lanora Campbell</dc:creator>
  <dc:description/>
  <dc:language>en-US</dc:language>
  <cp:lastModifiedBy/>
  <cp:revision>1</cp:revision>
  <dc:subject/>
  <dc:title/>
</cp:coreProperties>
</file>