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55C1F-B851-4BF2-9728-DB41AD5C4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684-0429-471D-9BD9-D30B5C3B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4F3-3491-4422-AC01-BB07B834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31E-217D-49D1-BFB2-04AFE90E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9F5-8B27-473A-9ADB-3900858A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CDC-5AF6-4417-9003-65ACFC1F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B7D-159C-4E9A-BD46-D8DEA05E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B4B-893F-4EC9-9D0E-D222E897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71D-D500-4163-9891-81D2418E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51A-5D2D-4B6C-A200-59092423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527-4512-4530-AF63-C9B84DDF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D2C-0D76-443C-93CF-11079140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BBD-5DB2-4AEE-A995-6E483572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B1F37-94FF-4FD1-B394-37DF277DED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0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 Corinthians 13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I Have Not Char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' I speak with tongues of m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' I speak as ange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have not cha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become as noth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ecome as sounding bras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 tinkling cymba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gift of prophec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 I am as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360" y="357120"/>
            <a:ext cx="900288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' I know all mysteri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' I have all knowledg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 have not char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become as no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' I give all I posses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y body bur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 have not char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I am as no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ity will suffer lo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ity is kin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vies not nor vaunts itself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aveth not unseem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keth not to have her w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is eas'ly angere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 have not char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I am as no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0360" y="357120"/>
            <a:ext cx="900288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ity rejoiceth not in iniqui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rejoiceth in the truth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ieves and bears all thing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s all thing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ures all thing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ver thinketh evi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 have not char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I am as no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ther there be propheci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ther there be knowledg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shall likewise pass aw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charity remaine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and hope and charit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f these abid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among the three of the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ity is great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9:48:19Z</dcterms:created>
  <dc:creator>Lanora Campbell</dc:creator>
  <dc:description/>
  <dc:language>en-US</dc:language>
  <cp:lastModifiedBy/>
  <cp:revision>1</cp:revision>
  <dc:subject/>
  <dc:title>Hymnal</dc:title>
</cp:coreProperties>
</file>