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7440C-1549-42AC-8A92-74C15D8ACA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EAF1-0812-465F-BC97-E17A5ECB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9D36-8EB4-493D-A441-62AD1E95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78C4-83A1-443E-BC35-E299CBB8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92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416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92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416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2767-18AB-48B7-BDB6-C86333F6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7815-4941-488A-A86B-F22959C9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B5B7-69CB-4C94-A8A6-BB9A2171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A701-D931-49BB-B001-FEA2F462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BC61-65B1-497A-A59D-E0D854E6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720"/>
            <a:ext cx="81010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FBA5-966E-4132-A5D8-F0E4D0D8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E5F1-8E7F-49DD-A752-B6277AC4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FD7C-C186-4CE6-8958-3A88F1DA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3017-8D10-4F5F-8BAC-A1E0DA3D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941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9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3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39AFE-5D33-4B6B-808A-8AC2F1A4B47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58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illiam Clayton, 19th cent. English Folk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e, Come, Ye Sai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, come, ye sain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oil nor labor fea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with joy, wend your w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gh hard to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journey may appea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ce shall be as your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better far for us to str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useless cares from us to driv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this, and joy your hearts will swe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is well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is well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should we mou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think our lot is har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'Tis not so, all is ri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should we thin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earn a great rewar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now shun the figh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rd up your loins; fresh courage tak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God will never us forsak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oon we'll have this tale to tell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is well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is well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'll find the place which G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us prepar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day of His res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none shall c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urt or make afrai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the saints will be bless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'll make the air with music r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ut praises to our God and King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ove the rest these words we'll tel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is well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is well!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3T21:31:37Z</dcterms:created>
  <dc:creator>Lanora Campbell</dc:creator>
  <dc:description/>
  <dc:language>en-US</dc:language>
  <cp:lastModifiedBy/>
  <cp:revision>1</cp:revision>
  <dc:subject/>
  <dc:title>Hymnal</dc:title>
</cp:coreProperties>
</file>