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8E7F4-0F95-44EF-9EF1-4438658A3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4F2-768D-4F61-ACBD-3629A22A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42F-5042-494F-90C9-9B9460D0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E80-FFA2-439D-A0AD-CA427121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76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948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76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948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D1E-96B5-431B-BABB-77141170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C0C-3E4B-4B10-87D4-E86E94A1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158-EFA3-4F7E-99C1-79FBD9A1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1B7-FF8B-4AAF-8DC8-A50E3CC4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F04-CFA3-4C3A-8CA1-FBA02430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46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CDD-B8F7-48C3-B865-AEF0AF43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8179-EE16-44ED-9480-69065180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872-22D0-4F75-9ABE-94267AA7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AB1-C97E-4D4F-9BAE-8DEAA077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62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480"/>
            <a:ext cx="284472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480"/>
            <a:ext cx="20858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CCA0B-FAA1-4DB5-959A-E2EDD1DCAC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harles Wesley, 1747, alt. John Zundel, 18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ve Divine, All Loves Excell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divine, all loves excell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y of heaven, to earth come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 in us Thy humble dwell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y faithful mercies crow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, Thou art all compass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e, unbounded love Thou ar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t us with Thy salva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 every trembling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eathe, O breathe Thy loving Spir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every troubled breast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all in Thee inhe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find the promised res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away the love of sinning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pha and Omega b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d of faith, as its Beginn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t our hearts at libe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, Almighty to deliv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all Thy life receiv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ddenly return, and nev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vermore Thy temples leav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e we would be always bless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rve Thee as Thy hosts abov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y and praise Thee without ceasing, Glory in Thy perfect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ish, then, Thy new creatio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re and spotless let us b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us see Thy great salv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fectly restored in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d from glory into gl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l with Thee we take our pla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l we cast our crowns before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t in wonder, love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7:45:28Z</dcterms:created>
  <dc:creator>Lanora Campbell</dc:creator>
  <dc:description/>
  <dc:language>en-US</dc:language>
  <cp:lastModifiedBy/>
  <cp:revision>1</cp:revision>
  <dc:subject/>
  <dc:title/>
</cp:coreProperties>
</file>