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CDA9C-A59D-4C8C-A22D-6AB6048D0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896-5301-42CD-91B9-F52B0F63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27D-1011-463B-BEBE-8828A45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CE8-7939-415A-AD39-EDC07A7D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ABC-6592-4981-B3B1-7B6C0390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058-A5E9-43BD-B73A-64557331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40B-55F4-49DD-8A9A-559443EE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24C-91B4-489A-A3B8-EAA43764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242-CE77-41D8-8595-94EFCE1F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599-9FAB-4191-A208-D6D71D16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254-AF68-424E-A0D4-B609F2BD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4FF-9AA4-48EC-AFC9-DF7DC9F4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C22-5F95-4B9D-8870-945084C6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E356C-7C7D-41D1-806D-3F0CB4F483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ge 4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3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hee, O Lord, I Put My Tru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e, O Lord, I put my tru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 not be asham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ou art faithful, rescue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uide me by Thy pow'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art my fortress and my rock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art my strength, O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 me by Thy great pow'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nares laid out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Thou has redeemed my lif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faithful God of tru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test all who p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ard to lying van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rust Thee God, and w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oice in Thy great merc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not let me f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 the hand of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pity, O Eternal 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ife is spent with grief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sins my strength has fail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bones are weak and fa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the scorn of all my fo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un me in the stree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ou I trust and k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ate lies in Thy hands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ernal One, on Thee I ca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 not be asham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let the wicked be asha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ilent in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ke dumb the foes with lying l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scorn against the ju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great Thy goodness wh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for those who fear Thy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3:43:27Z</dcterms:created>
  <dc:creator>Lanora Campbell</dc:creator>
  <dc:description/>
  <dc:language>en-US</dc:language>
  <cp:lastModifiedBy/>
  <cp:revision>1</cp:revision>
  <dc:subject/>
  <dc:title/>
</cp:coreProperties>
</file>