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B74B1-2B1D-491E-AD6D-800CBC1DA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E4D-225D-44CE-99A6-215D339E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B5D4-A3ED-4D8B-99C3-65CE6F8E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940-6B57-4415-92EF-740E35B0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0D70-23CC-4EBA-BCBF-EB1C8FD4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2373-AA2F-4060-9E4C-98BCA90E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97C-64DE-4A70-936F-B221631D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654-FA3C-4D75-BE63-6BAAE183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8389-413C-4798-BE81-E315E3AB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0152-4FFE-4176-B614-C7CA1780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F9B0-3A15-405B-90F0-A523C6BE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D75-7619-430E-A5A2-4694C79D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68D-1BEE-4442-A0BC-24AF9BD7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0A7A8-09EC-494F-9DC7-D01B9A938E8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1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George Duffield, George James We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nd Up For Jes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 up, stand up for Jes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 soldiers of the wor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t high His royal bann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end it 'round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victory unto vic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army shall He le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every foe is vanquish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hrist is Lord ind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 up, stand up for Jes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umpet call obe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th to the mighty conflic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His glorious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 that are men now serve H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st unnumbered fo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courage rise with dang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trength to strength op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 up, stand up for Jes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 in His strength al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rm of flesh will fail yo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 dare not trust your ow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on the gospel arm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piece put on with praye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uty calls or dang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never wanting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 up, stand up for Jes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ife will not be l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day the noise of batt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the victor's so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im that overcome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rown of life shall b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th the King of Glo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ll reign eternal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19:25:45Z</dcterms:created>
  <dc:creator>Lanora Campbell</dc:creator>
  <dc:description/>
  <dc:language>en-US</dc:language>
  <cp:lastModifiedBy/>
  <cp:revision>1</cp:revision>
  <dc:subject/>
  <dc:title>Hymnal</dc:title>
</cp:coreProperties>
</file>