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F3007-77BF-448F-BC89-712C14EDD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12A-0078-446D-B6DA-D2F28790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34A-F1B7-4FA4-B37B-88820A7F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55D-567E-4923-8E63-1502C301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511-42BF-442A-BC33-D0290980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8E0-4D80-40D1-9D83-B20CC31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C61-1D3F-47CE-A145-5DE9C5F1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DD-7FCC-4BC8-A59C-F19A5007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02A-8FBD-49B1-BE40-BAF927C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120-C981-4D9C-95E7-03FD7AD6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B3D-3397-4B23-8F16-D28F8D6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C70-EE8B-4CF7-BAA5-6AF3C82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26A-3039-4DC4-80B0-798553B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2A07D-BCFE-48B6-93DC-EE258F439D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ltbie D. Babcock, 1901, Traditional English Melody, Arr. Franklin L. Sheppard, 1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Is My Father's Worl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my listening 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ature sings, and roun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ngs the music of the sphe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st me in the th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rocks and trees, of skies and se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and the wonder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rds their carols rai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ning light, the lily whi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 their Maker's pra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ines in all that's fai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ustling grass I hear Him pa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peaks to me every 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et me ne'er forget that though th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oft so strong, God is the Ruler y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Father's worl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ttle is not d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ho died shall be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arth and heav'n b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57:59Z</dcterms:created>
  <dc:creator>Lanora Campbell</dc:creator>
  <dc:description/>
  <dc:language>en-US</dc:language>
  <cp:lastModifiedBy/>
  <cp:revision>1</cp:revision>
  <dc:subject/>
  <dc:title>Hymnal</dc:title>
</cp:coreProperties>
</file>