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F875F-9DE8-4373-8E14-E0FAF10F5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1C9-2975-46B4-B81D-03947FEC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419-69FD-4F50-834A-6492588D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6AE-E697-4E69-AEA7-2C2CBD39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B69-F23B-4281-8B74-91D73F9D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B54-479C-415C-AF13-EC171C94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B21-3950-4A18-BDB7-B68EBB08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238-2A56-4C6F-8979-A2E7DB73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331-DE70-4A89-9FC4-7726DC65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583-9975-4FD9-8F74-E5753CD7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454-B70A-4032-8B38-2EB79CD8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BB7-2500-41A0-9BA9-8555FD1E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452F-C9F6-4B39-80DE-40C7F374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525A4-CEB0-4F37-B6C6-81D7CB1176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68 -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Isaac Watts, 1709 From Gesangbuch der Herzogl, Wirtembergischen Katholischen Hofkapelle, 17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Sing The Mighty Power Of G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mighty power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de the mountains r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spread the flowing seas abroa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uilt the lofty ski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ing the wisdom that ordain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un to rule the d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on shines full at God'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and, and all the stars ob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ing the goodness of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filled the earth with fo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formed the creatures with His W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n pronounced them g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how Thy wonders are display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'er I turn my ey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survey the ground I tre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gaze upon the sk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's not a plant or flower bel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makes Thy glories know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louds arise, and tempests bl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order from Thy thr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all that borrows life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e is ever in Thy ca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everywhere that man can 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, God art presen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5:01:36Z</dcterms:created>
  <dc:creator>Lanora Campbell</dc:creator>
  <dc:description/>
  <dc:language>en-US</dc:language>
  <cp:lastModifiedBy/>
  <cp:revision>1</cp:revision>
  <dc:subject/>
  <dc:title>Hymnal</dc:title>
</cp:coreProperties>
</file>