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E6E30-F7B9-4897-9EE8-A00FA755F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D42-A34C-4A0A-AD14-E2D8EC0D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BBA-9FC9-41E7-B9DB-03868C7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9E2-3FE7-4778-BAFC-D8CFBAD3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371-43DE-4A7A-B6B4-95A67008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BAA-4C0F-4DEF-9242-4BA7A2B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8DD-AB76-41ED-84C3-DFA85942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1FC-CB40-4C52-B106-C9714A7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88B-BA4C-42ED-A2EF-3AF89538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20F-F4E8-420B-AFDE-ADD5F18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22E-EAEF-446D-BD54-FD352ADC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87A-6287-4FC4-9886-5CC393C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C1C-E06E-44EE-858D-92991E3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BC073-E570-4930-90B9-AC955121EC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t In The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t not thyself unquie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evil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do not envy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ose who work iniqu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en like the fading gra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be cut down so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ke the green and tender her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thered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4920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in the Lord, in patience wai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for the wicked fr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prosp'ring in his evil 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 in sin doth g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et a little while and th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cked shall not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lace thou shalt consider we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thou shalt 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nger turn away thy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so cease from wr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t not thyself in any wi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only leads to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ildoers shall ind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ooted out and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ose who wait upon th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they shall poss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4:45:53Z</dcterms:created>
  <dc:creator>Lanora Campbell</dc:creator>
  <dc:description/>
  <dc:language>en-US</dc:language>
  <cp:lastModifiedBy/>
  <cp:revision>1</cp:revision>
  <dc:subject/>
  <dc:title>Hymnal</dc:title>
</cp:coreProperties>
</file>