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B11B3-A462-4397-AD4D-004071E48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C50-1AB8-4B47-8FF6-E45906E1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23F-064C-4E6F-8D3C-E194F123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3F4-2C5B-4054-A120-8203AF5A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3B0-F922-40CF-8D6E-73ECBD03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775-AF93-4660-9AA6-53FE2F94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538-4BA5-4BEC-8B56-81DBABBD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9BA-2E23-4F1B-AA12-91654922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5D9-17DC-49AC-AE6B-8F2DE14D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094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D02-BFAF-45D9-802A-482ADA14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88B-AD61-4F6C-A28D-DCA1B83B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572-EC25-49DD-9FEF-4BC6045E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558-5438-480C-A40E-161DAE76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76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32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480"/>
            <a:ext cx="20872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89628-7B54-4CAF-99A9-42B7914038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0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hn I.G.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I See The Bloo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our Redeemer died on the tr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ed for the sinner, paid all his du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ho receive Him need never fea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He will pass, will pass over you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pass, I will pass over you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ver y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est of sinners, Jesus can sav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He has promised, so He will 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 sinner hear Him; trust in His wo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He will pass, will pass over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pass, I will pass over you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ver y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 is coming, all will be the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have rejected, who have refu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, sinner, hasten, let Jesus 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God will pass, will pass over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pass, I will pass over you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ver y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 what compassion! Oh boundless love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hath power, Jesus is tru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who believe are safe from the stor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, He will pass, will pass over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 bl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2120"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When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YaHei"/>
              </a:rPr>
              <a:t>(see the bl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pass, I will pass over you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ver y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13:30:30Z</dcterms:created>
  <dc:creator>Lanora Campbell</dc:creator>
  <dc:description/>
  <dc:language>en-US</dc:language>
  <cp:lastModifiedBy/>
  <cp:revision>1</cp:revision>
  <dc:subject/>
  <dc:title>Hymnal</dc:title>
</cp:coreProperties>
</file>