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90CC3D-ECD4-4166-882E-B6F0426B42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CC2E-BACB-4D51-AFBE-81DBD0142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679D-C2E0-4A29-9DA2-1CB7BB98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3E75-5787-4D91-B346-B7BE1E1E6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F36E-2758-4216-B908-EF03CDDA1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AEE5-339E-490F-BDE9-5F021661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2A85-5DF4-44F5-8CE5-C24D85B9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C3C7-42BF-4970-848A-3A2EAE34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4756-52DF-4BE2-AE89-DB736B76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DD93-C2F6-4166-924C-27D126B5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D269-C7E1-4EC2-945A-0D1B1AD5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A027-B0CF-4DBB-840E-F708982A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8D32-48FB-4FB1-93D1-EEC0DAA3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7C3E5-0B0E-4F14-935F-89D3234DC40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55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William A. Ogden, 19th c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e Is Able To Deliver The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'Tis the grandest the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the ages rung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'Tis the grandest the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a mortal tongu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'Tis the grandest the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the world e'er su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Our God is able to deliver thee.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is able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to deliver the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le, He is 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is able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to deliver the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le, He is 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, by sin oppress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 to Him for rest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Our God is able to deliver thee.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'Tis the grandest the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earth or main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'Tis the grandest the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a mortal strain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'Tis the grandest them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ll the world agai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Our God is able to deliver thee.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is able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to deliver the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le, He is 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is able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to deliver the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le, He is 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, by sin oppress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 to Him for rest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Our God is able to deliver thee.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6120" cy="57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'Tis the grandest them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the tidings rol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e guilty hear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e sinful sou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ok to God in faith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ill make thee who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Our God is able to deliver thee.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is able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to deliver the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le, He is 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is able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to deliver the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le, He is 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, by sin oppress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 to Him for rest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Our God is able to deliver thee.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5T18:56:00Z</dcterms:created>
  <dc:creator>Lanora Campbell</dc:creator>
  <dc:description/>
  <dc:language>en-US</dc:language>
  <cp:lastModifiedBy/>
  <cp:revision>1</cp:revision>
  <dc:subject/>
  <dc:title>Hymnal</dc:title>
</cp:coreProperties>
</file>