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D68B-1976-4021-A463-36D76FA4E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E2C-AEBC-452A-8CF7-622A377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60F-B2F4-4473-9B8D-103AC4D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325-AFB8-41FF-9E76-831A371D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847-4C12-4C89-A350-9F34DA03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FE8-FDBB-461D-8CDF-FBF3A81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967-972A-444C-BF6C-8CD3B8F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87B-7649-4073-A655-0E28ED9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4D7-4E4A-4BB6-8C86-13613211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B95-DFEA-4969-8B45-0DC0074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679-01E5-4C02-9E2E-87CAF27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415-83C3-41B6-98CE-1D65A3D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04A-70BE-46D4-B2EA-75BCA47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A173-A39A-4094-A6C3-05C01162D8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g Praises And Rejoi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ing a new song to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onders He hath d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ight hand and His holy a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 victory hath w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His salv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h caused it to be kn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justice in the nation's s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penly hath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indful of His grace and tr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sr'el's house hath be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salvation of our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nds of the earth have s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the earth unto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forth a joyful no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up your voice aloud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praises,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arp, with harp, and voice of psal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ing unto the Lor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rumpets, corne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dly sound before the Lord and K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seas and all their fullness ro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, and dwellers the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floods clap han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the hills together joy decl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ing a new song to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onders He hath d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ight hand and His holy a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 victory hath w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ye hills Before the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judge the earth comes H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judge the world with righteous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olk with equ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3:29:00Z</dcterms:created>
  <dc:creator>Lanora Campbell</dc:creator>
  <dc:description/>
  <dc:language>en-US</dc:language>
  <cp:lastModifiedBy/>
  <cp:revision>1</cp:revision>
  <dc:subject/>
  <dc:title>Hymnal</dc:title>
</cp:coreProperties>
</file>