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371240" y="763560"/>
            <a:ext cx="502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5547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82FBC6-92C0-4B20-9B0D-8F4B1E7BE2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9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1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3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5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7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9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1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3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C49B-BC6C-4999-B748-94F22628D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10108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040" y="3693240"/>
            <a:ext cx="810108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40CC-C1E6-4280-B252-DC18F14D3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7200" y="170640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040" y="369324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7200" y="369324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A249-53D8-4CD5-8327-A3D7A92CB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260820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920" y="1706400"/>
            <a:ext cx="260820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4160" y="1706400"/>
            <a:ext cx="260820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040" y="3693240"/>
            <a:ext cx="260820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920" y="3693240"/>
            <a:ext cx="260820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4160" y="3693240"/>
            <a:ext cx="260820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A3B0-6CB5-4351-8ED6-902AA1DCD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040" y="1706400"/>
            <a:ext cx="810108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4CD7-96D7-4797-AF41-C8D7F25E5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10108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AC02-2C2D-4852-A5AE-1D4D66DB5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316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7200" y="1706400"/>
            <a:ext cx="395316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5362-E897-490F-98C8-77E3DC466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CDF9-089F-49C0-95E8-72434D4F0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040" y="585720"/>
            <a:ext cx="81010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4B7B-D96D-4CAD-9B1F-4B95205B4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7200" y="1706400"/>
            <a:ext cx="395316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040" y="369324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2720-316C-4613-8CEF-2C7C3F915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316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7200" y="170640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7200" y="369324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D329-DF9A-4E6C-A7D1-E73B4BE68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7200" y="170640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040" y="3693240"/>
            <a:ext cx="810108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CCCA-E5E4-421F-9E36-FC9438928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040" y="1706400"/>
            <a:ext cx="810108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040" y="5613120"/>
            <a:ext cx="209412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5613120"/>
            <a:ext cx="284976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720" y="5613120"/>
            <a:ext cx="209376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26817E-5003-4A54-ABCE-40E9A534849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20760" y="274680"/>
            <a:ext cx="90057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154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D.W. Whittle, May Whittle Moo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oment By Momen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ying with Jesus, by death reckoned mine; Living with Jesus, a new life divin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oking to Jesus till glory doth shin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ment by moment, O Lord, I am Thi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f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ment by moment I'm kept in His lov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ment by moment I've life from abov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oking to Jesus till glory doth shin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ment by moment, O Lord, I am Th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ver a trial that He is not ther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ver a burden that He doth not bea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ver a sorrow that He doth not shar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ment by moment, I'm under His ca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f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ment by moment I'm kept in His lov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ment by moment I've life from abov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oking to Jesus till glory doth shin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ment by moment, O Lord, I am Th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ver a heartache, and never a groan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ver a teardrop and never a moan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ver a danger but there on the thron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ment by moment He thinks of His own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f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ment by moment I'm kept in His lov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ment by moment I've life from abov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oking to Jesus till glory doth shin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ment by moment, O Lord, I am Th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ver a weakness that He doth not fee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ver a sickness that He cannot heal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ment by moment, in woe or in wea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my Savior, abides with me still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f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ment by moment I'm kept in His lov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ment by moment I've life from abov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oking to Jesus till glory doth shin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ment by moment, O Lord, I am Th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3T21:03:51Z</dcterms:created>
  <dc:creator>Lanora Campbell</dc:creator>
  <dc:description/>
  <dc:language>en-US</dc:language>
  <cp:lastModifiedBy/>
  <cp:revision>1</cp:revision>
  <dc:subject/>
  <dc:title>Hymnal</dc:title>
</cp:coreProperties>
</file>