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373D4-5401-4593-BF97-5625979CE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22D-24CB-4589-9901-C3782481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304-F17B-4582-BE0A-35C24001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0A67-E2DB-4DBA-A999-327A8B9E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B924-7D8B-4457-81EB-7A08E788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3F35-C548-4D06-8A2D-436D64CE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D6ED-A3AA-447B-8E85-0D5DDCBB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9E7-DF26-4EE6-8EBE-A2003DE8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8F3E-696E-442D-9FCA-544CA56B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842-424C-4D86-A945-33AB2175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0B6B-43A2-4C92-A449-6F117389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A00C-FDA8-4997-845F-E9DCB47E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C94-7E67-4F78-944B-175EF129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A8800-622B-4783-974D-4B8F26058B3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88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Mrs. Frank A. Breck, Charles H. Gabriel, 1856-19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lp Somebody To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all around you, find someone in ne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somebody toda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 it be little—a neighborly deed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somebody toda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somebody today,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day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body along life's way;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homeward way;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sorrow be ended, The friendless befriend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help somebody to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are waiting a kind, loving wor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somebody toda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 hast a message, O let it be hear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somebody toda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somebody today,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day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body along life's way;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homeward way;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sorrow be ended, The friendless befriend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help somebody to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have burdens too heavy to bea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somebody toda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ief is the portion of some everywhe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somebody toda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somebody today,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day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body along life's way;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homeward way;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sorrow be ended, The friendless befriend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help somebody to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are discouraged and weary in hear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somebody toda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one the journey to glory should star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somebody toda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somebody today,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day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body along life's way;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homeward way;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sorrow be ended, The friendless befriend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help somebody to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3:14:16Z</dcterms:created>
  <dc:creator>Lanora Campbell</dc:creator>
  <dc:description/>
  <dc:language>en-US</dc:language>
  <cp:lastModifiedBy/>
  <cp:revision>1</cp:revision>
  <dc:subject/>
  <dc:title>Hymnal</dc:title>
</cp:coreProperties>
</file>