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08E1A-C96F-4587-92D6-1F50EEAA0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342-F7B5-4FB2-BC06-1791C98B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05A-D0CF-4273-9882-4C05E36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D0B-9002-43C4-AB00-F70FD8F5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3A9-7274-41FF-A2D5-F75A0CE2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5E7-296B-41AC-BF23-07287016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6D9-611C-4384-9B8A-7210F48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2EA-3D4F-496D-9C0A-A1B2C0C8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1D7-6109-4546-8A29-337064E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6D3-D9F6-48C4-BF11-E7D7422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2F2-28A3-4BEA-906F-61E980E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375-1350-4677-9CCB-C07EC58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D88-9DD5-4C65-A6FA-2400E39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4D0D-422F-4ADF-B371-803A4E807E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Heavens God's Glory Do Decl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v'ns God's glory do decl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es His handiworks tea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after day their speech pours fo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nowledge, night after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speech nor spoken wo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voice is never hear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et their voice spreads to all the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orks to the ends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av'ns a tent for the sun, He made, Which comes forth like a bride groo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ing his chamber, glowing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un his course with jo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heaven's end its rising i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circuit to its end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nothing from its hea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nothing is hidden thereo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w of God is a perfect la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t converts the sou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e are the sayings of our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the simple w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utes of God are right and ju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do rejoice the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rd's commandments are p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lear, and light to the mind they im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27:12Z</dcterms:created>
  <dc:creator>Lanora Campbell</dc:creator>
  <dc:description/>
  <dc:language>en-US</dc:language>
  <cp:lastModifiedBy/>
  <cp:revision>1</cp:revision>
  <dc:subject/>
  <dc:title/>
</cp:coreProperties>
</file>