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F0378-E9EC-4162-A2A0-9B82B64D6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04F-D219-4DCA-9596-E7C44600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788-D75D-4081-A98C-71DA7E2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7B1-BC09-48B5-89D0-481A43C8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626-DFB3-4DF4-A2B4-8CA6059F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D9E-B0A0-46CF-A447-103BA90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C05-74C3-4770-8D82-79C79C7E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E3F-D59A-4A63-B163-AF39D5B2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25A-4148-4991-85D1-08AF4BA3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CC3-CBE8-4F3B-B379-EEF602E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FEA-1BC1-4F99-804C-1C6C002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D0A-5981-4FC5-BFD1-C811779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17D-E273-40EE-9635-EB6B4A6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15287-A545-482A-953D-C1E3D713D4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0 - 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Dedicated to the memory of our friend and Church Elder, Larry Miller, Psalm 139, Condie Erwin, Audrey Rho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Are T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fly up to the clouds in heav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sink into the depths of eart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sheltered me behind and fro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put Your hand on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else can Your love for me comp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searched me, Lord, you know my way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fall asleep and when I wak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t a word that I can speak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on't know perfect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else can Your love for me comp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blackness of the darkest night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darkness is to Thee as light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den caverns cannot hide from The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 islands in the s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else can Your love for me comp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within me, God, and know my hear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me now, O Lord, to learn my though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 You ar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the baneful motives from my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me in your loving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else can Your love for me comp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3:40:07Z</dcterms:created>
  <dc:creator>Lanora Campbell</dc:creator>
  <dc:description/>
  <dc:language>en-US</dc:language>
  <cp:lastModifiedBy/>
  <cp:revision>1</cp:revision>
  <dc:subject/>
  <dc:title>Hymnal</dc:title>
</cp:coreProperties>
</file>