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FF939-4702-4669-A8DC-342F407C94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C57D-0F4C-4437-8A81-9477F2D0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CA0-C1E1-4C66-B56A-53414312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0DA-E73B-4B91-8914-D31869FC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00D-6F15-4EF2-B983-484BD73F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1C9-3D69-41B2-B5AA-B131A14F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194-1941-4173-A5A8-0C57E799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2D8-ED83-435F-9100-4504DD7E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2240-6393-43BA-9A0D-6FCF2DAC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7F1-85B7-4433-9CB3-91A4F1BB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A24-2672-4E19-8E2E-2347A313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16FF-AD0D-4423-B865-2BC962D8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DF1-F200-4F6E-B74A-0BA21304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E8EEE-3DA0-4ED9-9D42-C4125D2016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57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19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r Thy Law Is Truth And Lov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my whole heart have I cried to The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Eternal hear my praye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keep Thy law and medi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y precepts night and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up before the dawn to pr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my hope is in Thy w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 my voice according to Thy great lo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me Lord, and quick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ursuers come with malice nea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y law they do not kee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Eternal, Thou art near to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ll Thy commands are tru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hast founded them forever,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valid for all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on my affliction, deliver 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love Thy law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do not forget Thy law, O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 love all Thy command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wicked do not seek Thy l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y way is far from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are my persecutor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Yet I never turned from Th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consider how I do love Thy law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y law is truth and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3T21:26:45Z</dcterms:created>
  <dc:creator>Lanora Campbell</dc:creator>
  <dc:description/>
  <dc:language>en-US</dc:language>
  <cp:lastModifiedBy/>
  <cp:revision>1</cp:revision>
  <dc:subject/>
  <dc:title>Hymnal</dc:title>
</cp:coreProperties>
</file>