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4DCAF-6B5A-4864-B071-09F67969C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A91-1CAD-4E43-970A-0851644E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835-D9AA-42C5-8F6F-8C00918D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917-7084-40C3-8021-DF503006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3EF-3065-4444-B8D3-D61C03DB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4AD-B8CE-4F39-9DC6-A45D9966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41B-8FD0-44CA-A0C2-65BC2F8E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4EA-3622-482C-B242-45047270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4D8-2296-4031-96FE-FD12D404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B97-C39A-4F6F-8F2D-39BE0A6E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8BD-7DC3-41FA-BB80-95A1E917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1D5-1A13-49E3-80EC-D01956AA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467-2E7F-492C-813C-482C69C3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6F739-142C-4BAB-8414-60176FA81E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5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1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sdom Begins With The Fear Of The L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ise you the Lor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your whole heart give prai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the upright are assembled for God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glorious works shall forever endu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thy of honor and pra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end unto His righteousne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s of wonder He mak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we may know the Eternal is go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of compassion and g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ose who fear Him our God will provid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 His cov'nant He will not forge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howed His people the pow'r of His wor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 of the heathen to g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ment and truth are the works of His ha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His commandments are 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all done in uprightness and truth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hall forever end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o His people redemption He s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has commanded His cov'nant alway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adfast and sure it forever will stan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and rev'rend His n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sdom begins with the fear of the Lord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's praise endureth for ay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laws impart understanding and g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ose who heed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8:44:09Z</dcterms:created>
  <dc:creator>Lanora Campbell</dc:creator>
  <dc:description/>
  <dc:language>en-US</dc:language>
  <cp:lastModifiedBy/>
  <cp:revision>1</cp:revision>
  <dc:subject/>
  <dc:title>Hymnal</dc:title>
</cp:coreProperties>
</file>