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3684A-2048-4045-8DE0-80B35AF15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FE7-BF33-4C17-A78C-4F96D52C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BE6-FB29-489A-BAF8-A33C8918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B35-5229-40B9-B13E-26437973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A79-E905-4E63-81C3-4BD450EB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197-BC44-4886-A557-3BCF15F7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55B-3421-403A-A9FA-D8090355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510-550E-45CF-B658-1E861891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074-BD4A-459A-B4FC-4B6EE41C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80A-EDA0-4E03-96E9-9E5E6C3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992-3B3E-472E-97F6-934543D2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B9A-037F-402B-B9BC-FDB428F5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051-6C24-43EE-8F59-93B112B1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4C06C-D639-45E3-AFA5-A56344AFE4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4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r My Cry, Eternal 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y cry Eternal 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y voice rise unto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y prayer as incense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evening sacri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a watch on my mou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, guard my lip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y heart not turn to s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to practice wicked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, hear my cr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righteous smite repr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Tis a kindness to desi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ray for their good w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y heart turn from s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o works of wicked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never taste their feast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own judges are throw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y cry Eternal 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the wicked of your threat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ir bones shall lie arou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ed at the mouth of gra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my God, turn mine ey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perish not with the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me from the snare they l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m fall in their own 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3:58:17Z</dcterms:created>
  <dc:creator>Lanora Campbell</dc:creator>
  <dc:description/>
  <dc:language>en-US</dc:language>
  <cp:lastModifiedBy/>
  <cp:revision>1</cp:revision>
  <dc:subject/>
  <dc:title>Hymnal</dc:title>
</cp:coreProperties>
</file>