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C76CF-90DC-4156-88BE-8720208160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FDA3-AA0D-46AC-9FEF-0945F842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F671-337F-4606-A6F4-6EFDD387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2D9-255F-4938-B9DC-A5CE7738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7861-8C62-4FF5-9A5D-09173B6C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987-E9AF-4CA6-97FD-78BB7A48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34E6-49E6-4D93-80FE-803FA6FB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9C8B-8EAF-4AA7-AAF6-B35B57A4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2D2D-6ACA-43D0-A701-AC7A08F7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E7B-439A-4FFE-ABFD-36C0398A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4EB-CB5B-415A-9AB3-BDCAA5B2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F730-B315-4BC6-9EC0-AA75A404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2A16-6DA0-4485-9ACC-23D49AFD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ADE93-1A9A-40B9-BA63-A4531F24CCC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07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 Corinthians 1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t Many Wise Men Now Are Cal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many wise men now are call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many noble brethr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many mighty chosen o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you see your call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s of God, you are call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because of greatnes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the wisdom of manki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o God but foo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chose the foolish of the worl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chose the weak and base thing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chose the things which are despis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no flesh should gl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s of God, you are call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because of greatnes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ho are called and n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hrist shall confound the migh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the foolishness of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ser by far than man i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the weakness of our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er far than man 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s of God, you are call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because of greatnes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m who glory boast in Chri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in their own great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8T19:42:37Z</dcterms:created>
  <dc:creator>Lanora Campbell</dc:creator>
  <dc:description/>
  <dc:language>en-US</dc:language>
  <cp:lastModifiedBy/>
  <cp:revision>1</cp:revision>
  <dc:subject/>
  <dc:title>Hymnal</dc:title>
</cp:coreProperties>
</file>