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46977-962C-4AF2-AA15-89B55FC02B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861A-A3A0-4FD2-BC91-F68C95C4D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B2E8-018D-4630-B4C1-48496B7E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B655-AA04-4C7F-807D-10B6B440C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E4CD-787E-44FD-B333-F0306A372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7369-EE79-4F61-B8A7-BC8E1430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7B54-1EC6-432E-B404-D5FFCEFF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3A2E-52B5-4ED2-8688-812B2348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6C1F-24DA-44DD-8F11-3DFAA5E9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D642-F1BB-4914-83FC-905FF785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B46F-11DF-47D4-A552-391F8D00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D8CA-FA15-4251-A877-1AFA098E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5B2E-93B1-4EDE-BD11-8556515B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9947F-6882-4328-A5B7-07E29793AF0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70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John Newton, 1779 Edwin O. Excell (1851-192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mazing Gr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azing grac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sweet the 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saved a wretch like m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once was lo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now am fou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s blind, but now I s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was grace that ta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heart to fea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grace my fears relieved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precio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d that grace appe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hour I first believe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many danger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ils and snare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have already com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is grace hath brough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 safe thus fa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grace will lead me ho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we've been t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n thousand year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ight shining as the su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've no less day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ing God's prai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n when we'd first begu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6T14:01:46Z</dcterms:created>
  <dc:creator>Lanora Campbell</dc:creator>
  <dc:description/>
  <dc:language>en-US</dc:language>
  <cp:lastModifiedBy/>
  <cp:revision>1</cp:revision>
  <dc:subject/>
  <dc:title>Hymnal</dc:title>
</cp:coreProperties>
</file>