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2ADD-5E71-40E0-91CD-84BB76897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6F6-EF29-4254-8C09-7E751328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62E-B5CD-4F29-9BBD-6A3B337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B9A-EA62-40E0-A999-DB4C3B3D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665-88AE-4938-9A4E-FEF71585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02F-A97B-4678-BA0A-B18A6882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E0F-11F8-4088-BAE8-F645FFB7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F68-1899-47B3-917A-0A7DC9D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E0C-A11C-4250-830E-2CAE6E9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537-259B-4CB3-ABF9-3B7A9167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466-748A-4F94-92D1-CFF544A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FB0-BEF0-436A-8889-FC14525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A53-2692-4369-8B75-6C41FCE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23142-CCF6-4BD2-A7DC-5761ED1515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rs. M.A. Kidder, W.O. Per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d You Think To Pr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e you left your room this mor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think to pr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name of Christ our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sue for loving fav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 shield to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praying rests the wear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 will change the night to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hen life seems dark and dr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't forget to p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met with great tempt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think to p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dying love and me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claim the Holy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your guide and st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praying rests the wear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 will change the night to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hen life seems dark and dr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't forget to p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r heart was filled with ang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think to pr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plead for grace, my broth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you might forgiv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as crossed your w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praying rests the wear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 will change the night to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hen life seems dark and dr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't forget to p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896148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sore trials came upon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 you think to pr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r soul was bowed in sorrow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m of Gilead did you bor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gates to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praying rests the weary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er will change the night to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hen life seems dark and drea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't forget to p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3:22:48Z</dcterms:created>
  <dc:creator>Lanora Campbell</dc:creator>
  <dc:description/>
  <dc:language>en-US</dc:language>
  <cp:lastModifiedBy/>
  <cp:revision>1</cp:revision>
  <dc:subject/>
  <dc:title>Hymnal</dc:title>
</cp:coreProperties>
</file>