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19840" cy="37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384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42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6384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A692A-AE74-419A-929E-9FA492CACD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BB64-7BA9-40CE-80FE-2DC3D11B5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64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0360"/>
            <a:ext cx="80964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5296-87D8-4978-95F1-66D85C8C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5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2A79-0DFD-4DF6-8BF2-C890CF93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840" y="170604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1280" y="170604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036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840" y="369036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1280" y="369036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739E-B6B0-43EE-A1A8-8A21F3841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64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5F86-9961-4DBE-A70C-866E5424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64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4F0E-F44F-4B3A-A47E-9D601C4B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47C9-8ECC-49F3-94D7-C03EE006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9341-AF74-4B8F-9AD6-173DDD74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720"/>
            <a:ext cx="809640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D028-F3C3-4DE3-BC94-5BA8F551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5563-B893-46FA-9454-3C142165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5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87E4-8656-4D42-A3A3-F268A9EB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0360"/>
            <a:ext cx="80964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6C7B-2235-4EBD-8E27-72FF59E0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64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480"/>
            <a:ext cx="208908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480"/>
            <a:ext cx="284472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480"/>
            <a:ext cx="208908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188F1-70AD-44DB-B119-D566F4120AB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756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45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25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ur God Is Good And Uprigh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God is good and uprigh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y He'll sinners sh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ek in judgment He will guid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make His paths to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hole paths of the Lo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truth and mercy s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ose that keep His coven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estimonies p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, for Thine own name's sak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ord, I Thee entrea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pardon mine iniquit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it is very grea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man is he that fea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ord and doth Him ser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m shall He teach of His own way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ay that he should choo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soul shall dwell at eas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is posterity Shall flouris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ill and of the earth inheritors shall b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those that fear Hi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the secret of the Lord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knowledge of His covena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ill to them affo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5T12:13:22Z</dcterms:created>
  <dc:creator>Lanora Campbell</dc:creator>
  <dc:description/>
  <dc:language>en-US</dc:language>
  <cp:lastModifiedBy/>
  <cp:revision>1</cp:revision>
  <dc:subject/>
  <dc:title/>
</cp:coreProperties>
</file>