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38A57-AD30-4E0F-B95B-3412A42DFE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C563-39B3-4362-8DD0-97D4E3D1D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9AF7-AD63-4B95-88DC-8CEC5805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1C63-BD78-460A-B71A-50448A041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E25E-E7A0-4C07-986D-75713C8F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2592-1AA9-4503-9788-41B9A57C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40BB-EDB8-4C0B-836F-84105C4F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6ED6-EF00-4A49-B3DB-140F51CF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BD1C-4A1F-4BDB-9CB2-A0F26A71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D4F3-8C5D-4157-B52A-AC2500A4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9696-2EB8-4405-9C86-5EDF57BE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3587-6E20-4538-87B3-3FD44A4F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E9A0-A2B3-4B89-8E66-371E4C48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65E24-D4DB-4371-B63C-8F7A68D1585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3880"/>
            <a:ext cx="900756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02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23 - William H. Haverg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Lord's My Shepher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ord's my Shepherd, I'll not wa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makes me down to li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pastures green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leadeth me The quiet waters b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soul He doth restore again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me to walk doth mak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in the paths of righteousnes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n for His own Name's sak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a, though I walk in death's dark val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t will I fear none il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ou art with me; and Thy r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taff me comfort sti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table Thou hast furnish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presence of my foes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head Thou dost with oil anoin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my cup overflow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odness and mercy all my lif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ll surely follow m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n God's house forevermo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dwelling place shall b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8T15:34:43Z</dcterms:created>
  <dc:creator>Lanora Campbell</dc:creator>
  <dc:description/>
  <dc:language>en-US</dc:language>
  <cp:lastModifiedBy/>
  <cp:revision>1</cp:revision>
  <dc:subject/>
  <dc:title>Hymnal</dc:title>
</cp:coreProperties>
</file>