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D2BBC-7A19-4CB6-A0B0-6D3EB634FD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1D81-73FF-4388-977E-D9CB20033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580B-010E-4882-A710-EE5AFA0C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B26E-DCD9-417F-BC00-F471D82F6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7759-12F4-400A-A3BF-FE80FEDB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9F95-8B4E-4CF6-B4D6-55F754CD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D540-487C-4B73-B431-3FC94342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E0C7-ED66-4E8C-9301-67826670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0832-54C1-4E50-B788-B9E83CE9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6E7C-F71A-440C-B125-1C721B31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6213-621C-43BF-A88E-F80A0310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6924-8B4A-4153-A24C-6E91F731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5968-9406-4E94-8610-9DBFFB5C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FF99A-1FAE-4AB5-A507-294D210DA55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216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Katherine Lee Bates, Samuel 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merica The Beautifu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beautiful for spacious skie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amber waves of gra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purple mountain majes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ove the fruited plain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merica, America, God sh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grace on thee, And crown thy go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brotherhood from sea to shining sea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beautiful for pilgrim fee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se stern, impassioned st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horoughfare for freedom be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ross the wildernes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, America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mend thine ev'ry flaw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rm thy soul in self contr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y liberty in la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beautiful for heroes prov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liberating strif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more than self their country lov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mercy more than lif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, America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God thy gold refin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ll all success be noblenes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every grace div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beautiful for patriot dre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sees beyond the yea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e alabaster cities glea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immed by human tear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, America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shed his grace on th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crown thy good with brotherh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sea to shining se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9T14:41:07Z</dcterms:created>
  <dc:creator>Lanora Campbell</dc:creator>
  <dc:description/>
  <dc:language>en-US</dc:language>
  <cp:lastModifiedBy/>
  <cp:revision>1</cp:revision>
  <dc:subject/>
  <dc:title>Hymnal</dc:title>
</cp:coreProperties>
</file>