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7A526-3875-4F97-879F-F2EE7F1B6A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B6DC-169D-4100-A6FC-097EE2DB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8414-7C5B-473F-8200-BCEF6159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7229-9142-4FAB-A47A-18C87EE0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16A5-130F-4C0A-BDF9-2860C6CD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72EC-C5E7-420A-8431-30D00E5C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1B5-0364-4E02-8B58-2D08CFE0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C42-E09B-44D0-98E9-EED0D731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2C0B-B85A-4FEA-B44F-F3847105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6B5-E23C-4DC0-9AE2-51E7B3C6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294F-8098-4B4D-B908-DCB4F15A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1F01-77E2-4381-90EC-4A57F49B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E555-7B0E-4F7A-A3F6-3A69E3EB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E8BF2-C9CB-4CD3-94B7-C906D4382F3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66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19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 Hate The Thoughts Of Vanit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te the tho'ts of va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 do love Thy la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art my shield and hiding plac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on Thy word re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ye who evil doers a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me depart aw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the precepts of 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I purpose to ob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hold and strengthen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rding to Thy faithful wor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I may live and of Thy hop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never be asham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, hold me safe, and ever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will let me deligh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for the statutes of my G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may have deep resp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God will set at naught all th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from His precepts str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ir own lies are all in vai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y themselves dece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the wicked of the ear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counted but as dros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refore do I love Thy l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estimonies p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14:50:48Z</dcterms:created>
  <dc:creator>Lanora Campbell</dc:creator>
  <dc:description/>
  <dc:language>en-US</dc:language>
  <cp:lastModifiedBy/>
  <cp:revision>1</cp:revision>
  <dc:subject/>
  <dc:title>Hymnal</dc:title>
</cp:coreProperties>
</file>