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14800" cy="37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9B49D-4AC2-4DA0-BA24-36FA204726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4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7719-407C-4A2E-8172-74ECC328B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809136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88560"/>
            <a:ext cx="809136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3198-C1BD-496D-A547-CAC5A176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252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8856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2520" y="368856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5D23-B91D-43EA-8BED-4470B03C9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70640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8400" y="170640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8856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68856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8400" y="368856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5CFC-3CAB-4133-8D4D-4F185EAD9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400"/>
            <a:ext cx="80913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BF99-C4E6-41A0-BF2B-95ABADE2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80913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FC69-5485-4790-A14A-69F6F4FD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394848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2520" y="1706400"/>
            <a:ext cx="394848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80E7-C2E4-493B-BA82-DAB1FCC4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B598-A3D1-4653-93C9-F547BB72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7160"/>
            <a:ext cx="809136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CE1D-0FDB-4BC4-8673-63ED1B9C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2520" y="1706400"/>
            <a:ext cx="394848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8856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55D2-5390-4EA5-AF3A-A457EE38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394848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252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2520" y="368856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628F-127C-41C0-AA9F-AF91DA85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252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88560"/>
            <a:ext cx="809136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8F9B-5B17-4133-9ED6-70CC0C65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400"/>
            <a:ext cx="80913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8440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004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8260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B1AD2-22F1-4619-9062-A6A0178A4C6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31880" y="357120"/>
            <a:ext cx="863280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2600" bIns="45000" anchor="t">
            <a:noAutofit/>
          </a:bodyPr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7 - </a:t>
            </a: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Words, Anonymous Dutch Hymn, 16th Century Translated, Theodore Baker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 algn="just">
              <a:lnSpc>
                <a:spcPct val="81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  <a:ea typeface="Microsoft YaHei"/>
              </a:rPr>
              <a:t>1895 Tune KREMSER, Dutch Folk Song Harmonized, Edward Kremser, 1877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e Gather Togeth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gather together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k the Lord's blessin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chastens and haste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will to make known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icked oppres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cease from distressin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 praises to His nam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forgets not His 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31880" y="357120"/>
            <a:ext cx="863280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side us to guide u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God with us join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daining, maintai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kingdom divin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from the begin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ght we were winn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, Lord, wast at our sid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lory be th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31880" y="357120"/>
            <a:ext cx="863280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ll do extol the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 leader in battl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pray that thou sti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defender wilt b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y congreg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cape tribulatio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y name be ever praise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Lord, make us fr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16:41:47Z</dcterms:created>
  <dc:creator>Lanora Campbell</dc:creator>
  <dc:description/>
  <dc:language>en-US</dc:language>
  <cp:lastModifiedBy/>
  <cp:revision>1</cp:revision>
  <dc:subject/>
  <dc:title/>
</cp:coreProperties>
</file>