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3143-BA04-45E0-BC5F-7EA0A1408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3A4-DE46-4D6F-8B51-C9F4B72D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F09-145D-4CB0-B55F-87F5E20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E50-16E3-473A-8CB7-565068A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56A-C9E8-427E-9506-409857C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E2C-8660-4577-8C5B-E5FCFA1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1F3-B5B2-4DAD-9719-7FBD55E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17-9E96-4CE2-A3EA-CE765ADB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1B1-4F0D-486A-9186-55B4E95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621-55EA-4EF5-A121-09B8C32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ACB-3119-410B-9EE4-94C33B5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2CC-CFF8-4CBC-8F92-3DD1A2C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402-4A82-4A01-9106-3FDA792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EAD8-B3D4-407E-9733-AA9C2D9040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20, 12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Distress I Cried Unto The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istress I cried unto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did hear my pray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y soul from lying l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rom deceitful tongues, O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what will you get from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ward, O crafty tong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ows sharp shall pour o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urning coals of juni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is me that I sojou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sech for so long a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alas, that in the tents of Ked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ould dwell there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ul hath long dwelt with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te the peace I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owever peaceably I speak to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're for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ift mine eyes unto the hil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ence does my help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help comes from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ade the heaven and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never let you sli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keeps you never slee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keepeth Israel 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slumber, never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568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sun nor moon shall smite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day nor by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ord will keep you from all ev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save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protect your going ou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protect your coming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guard and keep your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is time forth and 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1:45:15Z</dcterms:created>
  <dc:creator>Lanora Campbell</dc:creator>
  <dc:description/>
  <dc:language>en-US</dc:language>
  <cp:lastModifiedBy/>
  <cp:revision>1</cp:revision>
  <dc:subject/>
  <dc:title>Hymnal</dc:title>
</cp:coreProperties>
</file>