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25F91-0D9E-4A50-9C09-A540B6FE8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7E0-4826-4C52-95B7-954E5C5D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92B-F2FB-4017-83E4-E72FA7CF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525-8660-468B-AAD6-5C659004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7C5-F2ED-41CB-9227-C8D0C905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3B8-6676-4BBE-83A3-E2FB0AE0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0E9-04B8-4DC6-9C1A-4C8A3794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FDA-32BF-4E60-9D91-AEF35E99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2D9-4140-483F-8C3D-CB5E71FB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858-2966-452E-936A-5550171D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EF9-74CB-4403-A31E-C52B49DF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852-7307-42B6-9ED1-D17A53B5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C5F-BECE-4F92-90FD-69800BC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29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26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0C481-E4EB-493B-9362-6C214917ED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ords from Psalm 23, James Montgomery, Thomas Kosc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Lord Is My Shephe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my Shepherd, no want shall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ed in green pastures, safe folded I re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eadeth my soul where the still waters fl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ores me when wand'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ems when oppress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ores me when wand'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ems when oppr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the valley and shad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death though I st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ou art my Guardian, no evil I f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rod shall defend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staff be my st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harm can befa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y Comforter n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harm can befa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y Comforter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idst of affl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able is sprea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blessings unmeasu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cup runneth o'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erfume and oil Th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intest my hea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, what shall I as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providence mo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, what shall I as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providence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urely Thy goo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ercy, O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follow my steps all the days of my li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follow my steps all the days of my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will in Thy ho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vermore dwe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will in Thy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vermore d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9:41:30Z</dcterms:created>
  <dc:creator>Lanora Campbell</dc:creator>
  <dc:description/>
  <dc:language>en-US</dc:language>
  <cp:lastModifiedBy/>
  <cp:revision>1</cp:revision>
  <dc:subject/>
  <dc:title/>
</cp:coreProperties>
</file>