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232A5-A5F1-46DD-BF6C-714E3F16E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874-0124-457A-9AF9-E855EE9F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259-EF1D-4489-BABB-5B4D17E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BE8-CA95-416B-BB82-B84C123F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34F-45D3-442C-A561-2BC3A3E1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590-BF2A-4F92-9A06-E1876E0B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9A6-A6E0-4F12-A82D-FD5E5AC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C05-5B90-4173-85EB-7495E08C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716-3F13-49EB-A507-2C095F61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D4B-8E95-4256-8CB8-99E2F41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F67-ED8D-4445-87F4-C3EB594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242-63A5-4201-836C-25C8672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F3F-56D1-462A-B413-8B52FF5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7E44D-F509-41B7-9469-248CA8FAB5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2440"/>
            <a:ext cx="900612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tthew 28, Mark 1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 You Therefore Into All The Wor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ye therefore into all the wor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 the gospel unto ev'ry 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all nations to obser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ngs I have commanded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ze them into the Father's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oly Spirit's and the Son'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, I shall be with you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, I am with you al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ve believed and are bapt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be saved while others are condemn'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as for those who now do belie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igns shall surely foll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cast out demons in My n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not be hurt by deadly thi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shall lay hands upon the sic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ick shall be made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was taken up into the heav'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e had spoken all these wor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His Father did receive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lace Him at His right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isciples went out as He sai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preached the gospel ev'rywhe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worked with them and confirmed the w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ose signs which follow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47:07Z</dcterms:created>
  <dc:creator>Lanora Campbell</dc:creator>
  <dc:description/>
  <dc:language>en-US</dc:language>
  <cp:lastModifiedBy/>
  <cp:revision>1</cp:revision>
  <dc:subject/>
  <dc:title>Hymnal</dc:title>
</cp:coreProperties>
</file>