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FCE1B-51E9-4F57-861B-F8CFD3699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AA1-8341-4621-9AC4-300996A7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F86-C3DD-4CC9-A206-531A0F22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ADE-D681-471F-9CBE-90B33188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0F2-C888-4622-AEFB-5F66778E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4CB-2B89-4E92-901C-EEEBC701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AAA-09B4-41A6-BC26-EEFF580A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FB1-71D9-445B-8DEB-80D0D204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F2F-85B9-46EB-8438-536C227B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018-9518-4EB7-83C9-0A98F8BF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0C6-F1B7-45EB-8CA0-1C08E0D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281-3146-48A5-B21C-DCB2201C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75E-B47D-4906-90A3-350FADB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9949F-0074-4F66-A2E8-1882BB303D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gh On Zion's Holy Hi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remember David n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ink on all his weight of ca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You he made his v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Jacob's mighty God He sw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ll not tread within my ha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on my bed will seek repo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leep on my eyes shall fa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lumber shall my eyelid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 for Jacob's mighty one I fi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re and fit ab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ark at Ephratah we he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und it in the w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go to where God dw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t His footstool bow us l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, O Lord, come to Your 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ark Your might and strength t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n truth to David swo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oath He never shall dis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Your throne Your seed shall reig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My cov'nant and  My laws they ke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on Zion's holy hill the L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fixed His dwelling br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'll dwell for ever m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osen rest of my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less her with increa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read her poor will satisf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r priests I'll clothe with pe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her saints shall shout for j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's horn shall bud and gr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ce my anointed light shall stre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ter shame will clothe his fo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bright his endless crown shall 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5T14:16:56Z</dcterms:created>
  <dc:creator>Lanora Campbell</dc:creator>
  <dc:description/>
  <dc:language>en-US</dc:language>
  <cp:lastModifiedBy/>
  <cp:revision>1</cp:revision>
  <dc:subject/>
  <dc:title>Hymnal</dc:title>
</cp:coreProperties>
</file>