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688DA-8E24-4F06-A2F2-11C44C523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7DA-C9F0-4FDB-9529-42CD408E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EE1-3A17-4279-BC64-8347862C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85-1F48-4DF7-932D-3D80AB3C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86C-41DC-43C6-B0F7-A2314917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729-42F5-4C76-A46E-BC8205E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99D-04BE-4584-9D74-93AF3C6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1DD-66CB-4A69-8ABF-9D24A053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B5A-57FE-4AD7-A0B9-3AF1591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E20-7104-416A-ADFB-60A39B5F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56C-CCF7-429C-B9A5-BCB9E65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02D-765E-4365-B7BE-F74D9AA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908-4BB6-413F-96E9-7B1841A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97804-8080-463E-B9FF-72EADE994F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el 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w The Horn, Let Zion Hear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 the horn, let Zion h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's day is now at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trem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day of clouds and gloom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ops so great and mighty stro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has never been the li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shall escape as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ur the stubble on thei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before them shall devo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mes ablaze are left behi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as Eden was shall be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lderness that's desolat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noise of chario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s horse-men do they ru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shall escape as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ur the stubble on thei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re faint at their s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y run like mighty m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each on his own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o not tangle in their pat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oes follow his own l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bing walls like men of w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charge as warrior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 like fighters on thei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pon the city lea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thru weapons each unhar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up on the walls and clim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uses thru the windows lea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is quaking as they 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en shake, stars cease to sh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Eternal thunder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and moon become both b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9:26:47Z</dcterms:created>
  <dc:creator>Lanora Campbell</dc:creator>
  <dc:description/>
  <dc:language>en-US</dc:language>
  <cp:lastModifiedBy/>
  <cp:revision>1</cp:revision>
  <dc:subject/>
  <dc:title>Hymnal</dc:title>
</cp:coreProperties>
</file>