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371240" y="763560"/>
            <a:ext cx="501660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060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096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-360" y="9554760"/>
            <a:ext cx="336060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6096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4AB3ED-F08A-4D43-B5D0-2CE2434019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4" name=""/>
          <p:cNvSpPr/>
          <p:nvPr/>
        </p:nvSpPr>
        <p:spPr>
          <a:xfrm>
            <a:off x="777960" y="4776840"/>
            <a:ext cx="621324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6" name=""/>
          <p:cNvSpPr/>
          <p:nvPr/>
        </p:nvSpPr>
        <p:spPr>
          <a:xfrm>
            <a:off x="777960" y="4776840"/>
            <a:ext cx="621324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8" name=""/>
          <p:cNvSpPr/>
          <p:nvPr/>
        </p:nvSpPr>
        <p:spPr>
          <a:xfrm>
            <a:off x="777960" y="4776840"/>
            <a:ext cx="621324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0" name=""/>
          <p:cNvSpPr/>
          <p:nvPr/>
        </p:nvSpPr>
        <p:spPr>
          <a:xfrm>
            <a:off x="777960" y="4776840"/>
            <a:ext cx="621324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2" name=""/>
          <p:cNvSpPr/>
          <p:nvPr/>
        </p:nvSpPr>
        <p:spPr>
          <a:xfrm>
            <a:off x="777960" y="4776840"/>
            <a:ext cx="621324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4" name=""/>
          <p:cNvSpPr/>
          <p:nvPr/>
        </p:nvSpPr>
        <p:spPr>
          <a:xfrm>
            <a:off x="777960" y="4776840"/>
            <a:ext cx="621324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6" name=""/>
          <p:cNvSpPr/>
          <p:nvPr/>
        </p:nvSpPr>
        <p:spPr>
          <a:xfrm>
            <a:off x="777960" y="4776840"/>
            <a:ext cx="621324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8" name=""/>
          <p:cNvSpPr/>
          <p:nvPr/>
        </p:nvSpPr>
        <p:spPr>
          <a:xfrm>
            <a:off x="777960" y="4776840"/>
            <a:ext cx="621324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A643-07B4-40D3-9734-5112C9992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316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89280"/>
            <a:ext cx="809316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4052-04D7-48D8-BD8F-E9AEBD30D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3240" y="170640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8928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3240" y="368928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AE2E-D22B-4673-9FC6-4C573BCDD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568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706400"/>
            <a:ext cx="260568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78760" y="1706400"/>
            <a:ext cx="260568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89280"/>
            <a:ext cx="260568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689280"/>
            <a:ext cx="260568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78760" y="3689280"/>
            <a:ext cx="260568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DF4D-C65A-4744-B06D-47B21CB7A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09316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26D0-E7D7-44F4-A0C7-D0CF84264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316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F324-2EF5-4FB6-AABD-0D3A6BB98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492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3240" y="1706400"/>
            <a:ext cx="39492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0CBD-D26E-4599-B221-A0BFCA1AF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609B-0C61-49D6-AC79-13589893D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7160"/>
            <a:ext cx="809316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5A13-D9A6-4D2C-A436-6F2670257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3240" y="1706400"/>
            <a:ext cx="39492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8928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20F5-2790-448C-BE20-6DDDBEB6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492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3240" y="170640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240" y="368928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7028-4654-4C89-AE19-B876A4F2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3240" y="170640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89280"/>
            <a:ext cx="809316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1106-8724-4035-8964-7C58C560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09316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84400" cy="3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5613120"/>
            <a:ext cx="2843280" cy="3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84040" cy="3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EFBB60-1BC3-4AB7-B12D-F982BA12CD4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260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9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Edward Mote, 1834, alt. William B. Bradbury, 186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Solid Rock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hope is built on nothing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n Jesus' blood and righteousnes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dare not trust the sweetest fr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wholly lean on Jesus' nam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1040" bIns="45000" anchor="t">
            <a:noAutofit/>
          </a:bodyPr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Christ, the solid Rock, I stand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other ground is sinking san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other ground is sinking sa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104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darkness seems to hide His fac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rest on His unchanging grac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ev'ry high and stormy gal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anchor holds within the val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1040" bIns="45000" anchor="t">
            <a:noAutofit/>
          </a:bodyPr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Christ, the solid Rock, I stand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other ground is sinking san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other ground is sinking sa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104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oath, His covenant, His blo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pport me in the whelming floo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all around my soul gives way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then is all my Hope and Sta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1040" bIns="45000" anchor="t">
            <a:noAutofit/>
          </a:bodyPr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Christ, the solid Rock, I stand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other ground is sinking san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other ground is sinking sa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104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He shall come with trumpet soun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h, may I then in Him be found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ressed in His righteousness alon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ultless to stand before the thron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1040" bIns="45000" anchor="t">
            <a:noAutofit/>
          </a:bodyPr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Christ, the solid Rock, I stand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other ground is sinking san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other ground is sinking sa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4T16:48:31Z</dcterms:created>
  <dc:creator>Lanora Campbell</dc:creator>
  <dc:description/>
  <dc:language>en-US</dc:language>
  <cp:lastModifiedBy/>
  <cp:revision>1</cp:revision>
  <dc:subject/>
  <dc:title/>
</cp:coreProperties>
</file>