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01DE9-C84E-47CC-BAE0-F6D5C99E4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941-62FB-48E5-A73B-BBAF7822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85E-4086-4826-A7DB-462FACA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71D-C8FB-40FF-B857-3B8FAE03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A7A-2C68-4D14-AECC-10C1E59D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5F6-631A-47ED-ACB5-1C0F076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E18-E309-4662-9F1A-CB8C4A76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AB8-CE18-471F-A9F7-24F2422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A5F-CA24-4C1B-A3FF-5856A93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4AA-1F1F-400C-B1D6-D81F6393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AEE-FDF3-45A2-849F-D7B535D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6A9-B15A-4C97-83D8-93218026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BC5-C93A-4B02-85E0-946E2DC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DB2E4-C735-495D-AB80-1768280336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ames Rowe, 1865-1933, Howard E. Smith, 1863-19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 Lifted 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sinking deep in s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 from the peaceful sho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deeply stained with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ing to rise no m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Master of the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d my despairing c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waters lifted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safe am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568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nothing else could help, Love lifted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nothing else could help, Love lifted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y heart to Him I g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 to Him I'll c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s blessed presence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 His praises s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so mighty and so tr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its my soul's best song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ful, loving service, to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belo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568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nothing else could help, Love lifted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nothing else could help, Love lifted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ls in danger, look ab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ompletely sav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lift you by His l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the angry wav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s the Master of the se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ows His will obe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your Savior wants to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aved to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568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nothing else could help, Love lifted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lifted 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ven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nothing else could help, Love lifted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18:51Z</dcterms:created>
  <dc:creator>Lanora Campbell</dc:creator>
  <dc:description/>
  <dc:language>en-US</dc:language>
  <cp:lastModifiedBy/>
  <cp:revision>1</cp:revision>
  <dc:subject/>
  <dc:title>Hymnal</dc:title>
</cp:coreProperties>
</file>