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FCFE0-FF3A-4868-8523-C87A43EAA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620-C84D-42FA-A2B0-92BF5041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C06-EA03-4447-9209-2456E92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F91-136F-4426-AF2E-5F5BCF43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764-FC63-4BE6-99C5-26B55AF7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52C-1889-48ED-8E2F-B88503E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BFA-1F69-4289-8177-F212BAB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618-35E1-4CAB-BC11-C39C034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5C0-C0F6-4C7E-8251-06069DA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A4F-03BB-4A18-B38E-592CB2BA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8B2-B852-4C23-B7B4-9566CBB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A23-51F3-4899-A7DC-E9D9A73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B2D-4A3B-485C-A18F-DFFF70E3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D93A3-40A4-4FA2-A467-8E534E5B11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e, See The Works Of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our strength and refu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s in all distress a present ai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the trembling earth rem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ever be dismay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doms moved, the heathen rag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melted at His 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of Hosts for us engag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fuge high is Jacob's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ver flows, whose living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ddens the city of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s where heavenly glory be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Lord has His ab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Zion His dwelling ma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shall never more be mov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God shall early give His ai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r help has ever 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see the works of God display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s of His mighty h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olations He has ma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ins spread through all the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Be still, know I am God Most H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the heathen I will reign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of Hosts to us is n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's God our help re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33:02Z</dcterms:created>
  <dc:creator>Lanora Campbell</dc:creator>
  <dc:description/>
  <dc:language>en-US</dc:language>
  <cp:lastModifiedBy/>
  <cp:revision>1</cp:revision>
  <dc:subject/>
  <dc:title>Hymnal</dc:title>
</cp:coreProperties>
</file>