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1913C-BFC3-4564-BE32-BFFD9D950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EF9-0228-47FB-BD44-D614E25C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68A-B15D-4C49-A8D9-A5BAD8D1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C52-FE33-4EAE-9B89-A6B1C82D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800-903D-4394-9366-780E8FDC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AC9-3048-4A6F-B5C5-DAA0C360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433-CB71-4BF4-9470-14A65D2D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A4C-DA4D-44DB-9A88-013E61DD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F64-A860-400F-8151-85918604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E5E-4CC9-4968-B1C6-347D0DAE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14F-F8D5-4FC3-91B3-CE282DB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044-F604-4F08-8EBF-AF173CC7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4F9-E3D1-4C9A-A286-5CE80EE5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7E335-17FF-4AE4-B60E-C88A8FD9CD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75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48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t. Zion Stands Most Beautifu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Eternal is most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ly to be prais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in the city of our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His holy h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 Zion stands most beautif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oy of all the Lan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y of the mighty 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th on her north sid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in her palaces our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for a refuge know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lo, the kings assembl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gether they did 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beheld it all amaz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fled in great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eing troubled at thy s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ence did hast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we have heard, we saw 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y of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y which the Lord of H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of Thy loving kindness thou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y most hol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according to Thy n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praise fills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6:48:43Z</dcterms:created>
  <dc:creator>Lanora Campbell</dc:creator>
  <dc:description/>
  <dc:language>en-US</dc:language>
  <cp:lastModifiedBy/>
  <cp:revision>1</cp:revision>
  <dc:subject/>
  <dc:title>Hymnal</dc:title>
</cp:coreProperties>
</file>