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95421-9B09-468E-B13B-90C8EB655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F44-F5CF-490B-9CC6-B694E6F9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FFF-A42F-46EA-BDA7-F4175EEA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B2A-0793-4268-B18B-E9369593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AE9-9BE8-42AE-82CD-1B640BEA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BDE-BACC-429E-959B-E4554F0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877-2153-4B21-BE4B-39D093F0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3BE-D035-4647-85D8-96956843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F89-05BB-4F3E-B0B0-D87F2666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2DE-C317-4EB3-AF4E-67949602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377-DC4B-4379-8D01-1C7C92E8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DBD-F808-4A1F-B236-21F9E748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981-70FA-4196-A21D-B39580D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B5493-E05F-481B-8414-61B3F512E9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.G. Spafford, P.P. Bl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Is Well With My So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peace, like a riv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endeth my w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orrows like sea billows ro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ver my lo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has taught me to s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, with my so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it is well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with my soul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, with my so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Satan should buffe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rials should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is blest assurance contro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hrist has regar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lpless esta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th shed His own bl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so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it is well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with my soul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, with my so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in, oh, the bli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is glorious though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in, not in part but the who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ailed to the cro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bear it no mo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Lord, praise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ou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it is well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with my soul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, with my so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ord, haste the 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y faith shall be s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louds be rolled back as a scro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rump shall resou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Lord shall desce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so, it is well with my so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it is well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my so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with my soul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well, it is well, with my so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7:13:15Z</dcterms:created>
  <dc:creator>Lanora Campbell</dc:creator>
  <dc:description/>
  <dc:language>en-US</dc:language>
  <cp:lastModifiedBy/>
  <cp:revision>1</cp:revision>
  <dc:subject/>
  <dc:title>Hymnal</dc:title>
</cp:coreProperties>
</file>