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9C7A-7327-401F-B4C4-234BBE45F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334-5A48-4EE9-BE32-0705794F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805-4F99-4859-9598-03C187E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EF6-3EAE-46E1-A6B3-8F888F56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3B5-7EE6-47A9-9D33-7AE6A65C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94B-C628-4D38-A0E4-0FF31D3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4BB-45C1-4ABC-A32B-4B4AC36E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D11-A09C-4757-8951-87EAA17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AC6-99A5-454A-A510-45618A8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9EF-DA66-4500-A9C1-BCD30CD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F0B-8107-44F8-A061-DEF02618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C00-E334-4A88-9BFF-0DFE746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0C9-78E2-458D-A8E1-8314D46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8098-345B-412B-AAF1-976C163DA1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Newton, Franz Joseph Hay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rious Things Of Thee Are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things of thee are spok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ion, city of our G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se Word cannot be brok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ed thee for His own abo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Rock of Ages found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shake thy sure repos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salvation's walls surround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ayst smile at all thy f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, the streams of living wat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ing from eternal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supply thy sons and daught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fear of want rem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faint while such a river 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s their thirst to assua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 which like the Lord, the Gi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fails from age to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each habitation hove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cloud and fire app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glory and a cov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ing that the Lord is nea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ious things of thee are sp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on, city of our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, whose word cannot be brok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thee for His own a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3:55:04Z</dcterms:created>
  <dc:creator>Lanora Campbell</dc:creator>
  <dc:description/>
  <dc:language>en-US</dc:language>
  <cp:lastModifiedBy/>
  <cp:revision>1</cp:revision>
  <dc:subject/>
  <dc:title>Hymnal</dc:title>
</cp:coreProperties>
</file>