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B7364-1E19-45B1-93ED-6DEFA82298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C2E3-50DA-4F6D-8494-DEA43CAB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0915-9FDD-4C6A-A727-64F20FF5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95D7-C613-48AA-9432-B5A9480B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E4C1-D5BC-45DB-9603-C7155274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7E01-81D2-4506-B869-43996C87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E52B-EE21-48A7-B216-F00E52F3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F61E-3DDF-4696-B58A-85182A27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078C-075E-40F6-8FDD-5BB05707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0017-2E4F-49F8-B3D6-A9439768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99A6-E618-4404-B1E0-921784CE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03AE-E79F-4671-84AF-9495A0AA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D51C-2539-47FF-A24D-D304A324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24231-8552-4C4A-BC9B-C83F0CA2CAA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88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lisha A. Hoffman, 1887, Anthony J. Showalter, 18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ning On The Everlasting Arm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 fellowship, what a joy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ning on the everlasting arm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 blessedness, what a peace is mi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ning on the everlasting ar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ning, lean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Leaning on Jesus, leaning on Jes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fe and secure from all alarm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ning, lean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Leaning on Jesus, leaning on Jes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ning on the everlasting a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how sweet to walk in this pilgrim w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ning on the everlasting arm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how bright the path grows 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ning on the everlasting ar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ning, lean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Leaning on Jesus, leaning on Jes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fe and secure from all alarm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ning, lean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Leaning on Jesus, leaning on Jes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ning on the everlasting a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have I to dread, what have I to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ning on the everlasting arm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blessed peace with my Lord so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ning on the everlasting ar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ning, lean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Leaning on Jesus, leaning on Jes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fe and secure from all alarm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ning, lean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Leaning on Jesus, leaning on Jes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ning on the everlasting a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23:37:48Z</dcterms:created>
  <dc:creator>Lanora Campbell</dc:creator>
  <dc:description/>
  <dc:language>en-US</dc:language>
  <cp:lastModifiedBy/>
  <cp:revision>1</cp:revision>
  <dc:subject/>
  <dc:title>Hymnal</dc:title>
</cp:coreProperties>
</file>