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F86C1-B3BF-4626-A72E-C567151FE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3E1-D794-4EFC-A98D-7D5EC980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1C1-D4A6-40C8-9181-FA587409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D27-BDFE-4812-9CBA-3CBE9D26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D06-9507-444D-87B2-6E4D8929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FD6-EDF3-4611-8F05-543139E5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22E-A25B-4ABD-AB7B-F951FF29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0A3-4CCB-4A6E-8904-2868F49E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5D4-1DEC-447D-AE60-D09681BF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66E-58AC-4F65-BCB5-A9093E84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D78-C152-43DB-9755-00297F31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F99-69B5-42DA-81EC-214EBA08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559-10E1-450B-BB55-1B78D5A0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C0310-3424-4C3D-A6D9-5EEA644EE2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abine Baring-Gould, Arthur Sulli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ward Christian Soldier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, Christian soldie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ing as to w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word of Jesus going on befo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, the royal Mast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s against the fo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ward into battle see His banners go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, Christian soldie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ing as to w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word of Jesus going on bef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a mighty ar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s the church of Go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thers, we are t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the saints have tr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not divided, all one body 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in hope and doctrine, one in char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, Christian soldie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ing as to w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word of Jesus going on bef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s and thrones may peris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ngdoms rise and wan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church of Jes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ant will rem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tes of hell can n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Gainst that Church prevai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have Christ's own prom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can never fai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, Christian soldie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ing as to w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word of Jesus going on bef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 then, ye peopl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our happy thr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nd with ours your vo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triumph so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, laud and hon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Christ the K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through countless a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 and angels s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ward, Christian soldie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ing as to w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word of Jesus going on bef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4:49:09Z</dcterms:created>
  <dc:creator>Lanora Campbell</dc:creator>
  <dc:description/>
  <dc:language>en-US</dc:language>
  <cp:lastModifiedBy/>
  <cp:revision>1</cp:revision>
  <dc:subject/>
  <dc:title>Hymnal</dc:title>
</cp:coreProperties>
</file>