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49998-F5DF-4889-A9E4-15F35CBA97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4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4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D7A3-1CA2-45D0-B7A5-454FEACB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AAA6-216C-4B39-990A-60F1BEDF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5BE1-1E36-410B-B77F-D17A47FE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7CC8-ECC8-49CB-A704-A84DCA71D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84E1-C08B-40D0-9C00-E6E2D6DF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F2C7-F2B9-4122-AAE2-7EE46F88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FB53-EED9-49A7-8B3B-FA062403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0CE8-2B66-476E-931B-C9B5D491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7316-2E61-4511-BD21-85851124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FD83-DBC4-4778-BFAB-343E0059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9413-FBB5-4346-ADDA-BB8A016C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5ABA-EEF3-4CD0-8BF9-0E08D0BA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510801-219D-49E6-8AA4-181F2604DAD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53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Civilla D. Martin, 1869-1948, W. Stillman Martin, 1862-19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od Will Take Care Of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not dismayed, whate'er betid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will take care of you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neath His wings of love abid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will take care of you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will take care of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ev'ry day, o'er all the way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ill take care of you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will take care of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days of toil, when heart doth fail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will take care of you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dangers fierce your path assail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will take care of you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will take care of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ev'ry day, o'er all the way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ill take care of you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will take care of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you may need He will provid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will take care of you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hing you ask will be denie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will take care of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will take care of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ev'ry day, o'er all the way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ill take care of you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will take care of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matter what may be the te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will take care of you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n, weary one, upon His brea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will take care of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will take care of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ev'ry day, o'er all the way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ill take care of you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will take care of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5T14:32:23Z</dcterms:created>
  <dc:creator>Lanora Campbell</dc:creator>
  <dc:description/>
  <dc:language>en-US</dc:language>
  <cp:lastModifiedBy/>
  <cp:revision>1</cp:revision>
  <dc:subject/>
  <dc:title>Hymnal</dc:title>
</cp:coreProperties>
</file>