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18040" cy="37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712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017AD8-DC4F-4320-8B63-3DA248B56C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0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2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40BD-F5D5-4C0A-AB03-3E9825282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09460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040"/>
            <a:ext cx="80946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89640"/>
            <a:ext cx="80946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5EA6-2AA4-424B-85CB-B74CDF9D8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09460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0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3960" y="17060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896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3960" y="36896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4FA5-4CE9-46A0-BC8E-2509072C1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09460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040"/>
            <a:ext cx="260604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760" y="1706040"/>
            <a:ext cx="260604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79480" y="1706040"/>
            <a:ext cx="260604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89640"/>
            <a:ext cx="260604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760" y="3689640"/>
            <a:ext cx="260604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79480" y="3689640"/>
            <a:ext cx="260604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7047-849C-442A-BB67-66B558C60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09460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040"/>
            <a:ext cx="809460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7D59-95CF-4196-B752-15FCA1E44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09460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040"/>
            <a:ext cx="809460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D67C-E404-4ED3-8A22-CF3DD0917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09460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040"/>
            <a:ext cx="394992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3960" y="1706040"/>
            <a:ext cx="394992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6DFB-0551-498C-A804-24224F0DD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09460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A305-B431-4D9B-9FE0-CFA5562BD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720"/>
            <a:ext cx="8094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4360-EDB9-4F8A-96C2-97487854D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09460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0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3960" y="1706040"/>
            <a:ext cx="394992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896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4319-3CD4-44D2-B532-9F1081A6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09460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040"/>
            <a:ext cx="394992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3960" y="17060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960" y="36896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5AE5-23AA-4291-8696-B1EB1E43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09460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0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3960" y="17060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89640"/>
            <a:ext cx="80946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2E7C-34CC-4158-9ED6-013B4068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09460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040"/>
            <a:ext cx="809460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040" y="5613480"/>
            <a:ext cx="20876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5613480"/>
            <a:ext cx="28432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480"/>
            <a:ext cx="20872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1829AA-6B67-4D3E-B602-4106633FD36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612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76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46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od Our Strength And Refuge 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our strength and refuge i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is our help in time of nee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fore we should never fear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e Eternal is with us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' the earth and mountains shak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' its waters roar and foa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of Jacob, God of Host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is our fortress and our strengt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city of our Go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ght streams shall deck His high abod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is in the midst of her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 shall not ever be removed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' the heathen rage with hat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' their kingdoms move and shak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will utter His great voic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His command all wars will cea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e, behold the wondrous work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pow'r they show upon the earth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gives peace to all the lan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breaks the bow and snaps the spe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God's command to all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rn that only I am Go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alone the heathen rul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, only I, do rule the la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6T16:41:24Z</dcterms:created>
  <dc:creator>Lanora Campbell</dc:creator>
  <dc:description/>
  <dc:language>en-US</dc:language>
  <cp:lastModifiedBy/>
  <cp:revision>1</cp:revision>
  <dc:subject/>
  <dc:title>Hymnal</dc:title>
</cp:coreProperties>
</file>