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71240" y="763560"/>
            <a:ext cx="502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5547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83B972-083A-4D68-8F29-856ACAF96D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5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7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9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1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8EDF-9521-469D-8BE5-C53BA51B1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040" y="1704960"/>
            <a:ext cx="810108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040" y="3691800"/>
            <a:ext cx="810108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45C7-CFEB-4EA7-8CEC-5281707A5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040" y="170496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7200" y="170496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040" y="369180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7200" y="369180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842E-A9A8-45EF-B3FF-82F197F51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040" y="1704960"/>
            <a:ext cx="26082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920" y="1704960"/>
            <a:ext cx="26082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4160" y="1704960"/>
            <a:ext cx="26082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040" y="3691800"/>
            <a:ext cx="26082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920" y="3691800"/>
            <a:ext cx="26082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4160" y="3691800"/>
            <a:ext cx="26082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17F9-3A2B-4227-BF7C-35123EC2C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040" y="1704960"/>
            <a:ext cx="810108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CE36-1C18-406D-9D37-938104BEB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040" y="1704960"/>
            <a:ext cx="810108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658E-E355-440D-A532-E313DA3C5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040" y="1704960"/>
            <a:ext cx="395316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7200" y="1704960"/>
            <a:ext cx="395316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FBF0-0902-4CF9-9BC8-F19973664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DD23-28A0-4A09-9504-14F34859C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040" y="585720"/>
            <a:ext cx="81010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4008-0673-4B7F-943F-F2447DF84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040" y="170496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7200" y="1704960"/>
            <a:ext cx="395316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040" y="369180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F999-4092-4B8B-9123-33F407A92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040" y="1704960"/>
            <a:ext cx="395316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7200" y="170496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7200" y="369180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3D02-B20A-4266-836D-7A115FB27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040" y="170496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7200" y="170496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040" y="3691800"/>
            <a:ext cx="810108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BA4F-E195-41D1-BA5C-417ED11A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704960"/>
            <a:ext cx="810108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040" y="5613120"/>
            <a:ext cx="209412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5613120"/>
            <a:ext cx="284976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720" y="5613120"/>
            <a:ext cx="209376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7E665C-C8DE-44D0-84EA-811D271C03B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126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Elton M. Roth, 1891-195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 My Heart There Rings A Melody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have a song that Jesus gave m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 was sent from heav'n above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re never was a sweeter melody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'Tis a melody of Lov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or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my heart there rings a melody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rings a melody with heaven's harmony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my heart there rings a melody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rings a melody of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love the Christ who died on Calv'ry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He washed my sins away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put within my heart a melody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I know it's there to sta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or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my heart there rings a melody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rings a melody with heaven's harmony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my heart there rings a melody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rings a melody of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1T15:20:09Z</dcterms:created>
  <dc:creator>Lanora Campbell</dc:creator>
  <dc:description/>
  <dc:language>en-US</dc:language>
  <cp:lastModifiedBy/>
  <cp:revision>1</cp:revision>
  <dc:subject/>
  <dc:title>Hymnal</dc:title>
</cp:coreProperties>
</file>