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3EF6C-FFD6-467D-BD26-ACFE4CF2B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05F-5EF9-4036-A56B-873FF5B6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EC2-CCE3-4813-B238-640DB02C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D4C-1785-41C3-9E42-139FADE9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4F8-3254-4AF1-ABFA-196D5087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08D-9F4E-430D-9E86-4214FBB8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C5F-A59E-4EDB-BF92-B6D7FE00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E39-EAAD-41B3-9B2C-E05E4BA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CDF-84BF-4CE9-9DEA-8A838C7F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597-34E4-4A37-AB80-AC763E4B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CC5-3B81-4DB9-BE7B-8C19D61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F19-288E-431B-A992-3FAABE9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AA2-9237-493B-A3E8-A6543DB3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B10A1-A0A4-42AA-AD2A-84F88B2384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ry Peters, Welsh Melody, AR HYD Y NOS Har. L.O. Emerson, 1906, a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rough The Love Of God, Our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e love of God, our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ill be w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and changeless is His fav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ill be w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is the blood that healed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ect is the Grace that sealed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the hand stretched out to shield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ill be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we pass through tribul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s is such a full salv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ppy when in God confid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uitful if in Christ abid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through the Spirit guid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expect a bright tomorrow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can sing through days of sorr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our Father's love rely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ev'ry need su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ur living, in our dy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ill be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2:19:10Z</dcterms:created>
  <dc:creator>Lanora Campbell</dc:creator>
  <dc:description/>
  <dc:language>en-US</dc:language>
  <cp:lastModifiedBy/>
  <cp:revision>1</cp:revision>
  <dc:subject/>
  <dc:title>Hymnal</dc:title>
</cp:coreProperties>
</file>