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FA3B7-BE40-421F-A232-C7F539C82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543-E32D-4A87-88E7-1053F7F2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2CC-2184-4AEC-BDB6-BAEBA30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E85-9B9F-4E19-A4B4-89A4A071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B69-B45B-443A-98A9-D4651EDB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FD3-4938-4638-996E-7CD9AA36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88D-2A8C-42CC-A829-70773D4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7EC-B166-479D-99D4-6D755A1E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82D-967B-4A27-9095-938DA86A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624-DFB0-4B77-BC0D-9CCA0F8D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DAA-C680-4B13-A5F1-294D32E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6C8-D083-4869-AE96-878F691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CB9-D0BE-4F19-B32E-73D89D8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462B8-0669-419C-92CF-1B604551E1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na L. Coghill, 1854, Lowell Mason, 1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, For The Night Is Com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, for the night is com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hrough the morning hour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hile the dew is spark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'mid springing flower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hen the day grows brigh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glowing su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, for the night is com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an's work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, for the night is com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hrough the sunny no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brightest hours with lab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comes sure and so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very flying minu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keep in st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an works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, for the night is com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sunset sk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ir bright tints are glow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for daylight f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ill the last beam fade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deth to shine no m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, while night is darke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an's work is o'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5:26:47Z</dcterms:created>
  <dc:creator>Lanora Campbell</dc:creator>
  <dc:description/>
  <dc:language>en-US</dc:language>
  <cp:lastModifiedBy/>
  <cp:revision>1</cp:revision>
  <dc:subject/>
  <dc:title>Hymnal</dc:title>
</cp:coreProperties>
</file>