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16AF5-EDE6-4436-9BB2-F40A03307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92C-1CF8-44F2-B7C9-462B55E6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E26-35D2-4DE3-B33F-2A640B2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B7B-48D8-4F2D-A80A-A66D818D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B46-F417-48EF-85CC-5710F653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6A5-8EDC-4C99-BE85-2B93E40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736-937A-429B-BD4A-8B2B44D6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BA7-3CB1-43AD-9DF1-A8E29438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09E-04E9-4AA1-A07E-28D1AB9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481-9F7C-40D4-8741-F127657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B3B-0634-46D5-A897-06904BE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095-BCE8-4A03-B906-D0EDC5C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CF3-8863-49F8-884F-F15A2B5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B70F1-B4AF-466A-B980-E9984E9897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 Thou From Ev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hou from evil, do what is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eace pursue it earnes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 just are the eyes of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ears are open unto their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Eternal's face is again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are evil, doers of wr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uts remembrance off from th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s their remembrance from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ighteous men cry, God always hear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delivereth them from f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unto them of a broken he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te of spirit God saveth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fflictions that we do h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s there be of righteous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Eternal delivereth out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lictions the righteous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hou from evil, do what is g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eace pursue it earnes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keeps the bones of the righteous m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of them shall broke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' evil slay all unrighteous m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tes the pure shall desolat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od redeemeth the soul that's Hi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shall be desolate trusting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4:14:39Z</dcterms:created>
  <dc:creator>Lanora Campbell</dc:creator>
  <dc:description/>
  <dc:language>en-US</dc:language>
  <cp:lastModifiedBy/>
  <cp:revision>1</cp:revision>
  <dc:subject/>
  <dc:title/>
</cp:coreProperties>
</file>