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27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44C5EA-3C62-4E3D-A8D4-D7ECB603D4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4099-D2E5-4CAA-8C1F-E2A9DA4F8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E78B-2C98-4BFE-8C5E-19E52CD83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E3FB-EB90-4FF7-8398-58244AACA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34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34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1582-8B11-4FA8-A210-7953EF1CC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5D8A-E910-4BA4-8B52-DC056915B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2F34-D2F1-4CB4-B781-FF1F6DFD1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B769-2B30-421A-BED3-2723ADCEA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DA9A-A3BB-4B82-96F5-BB63EFA14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5360"/>
            <a:ext cx="80996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C240-3CFB-42E7-8D70-C6DDF9F42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5975-6E88-46FB-B032-AD36F49A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246E-4F24-4718-8DD2-B1CD2438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D0AC-853A-4614-9058-05FF20F7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796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543709-03D7-4057-9B0C-046B8E6AD64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76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salm 130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 His Word Have I Hop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 of the depths have I cried unto Go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 Eternal One should mark our sin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then, Almighty God,could hope to stan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God shows mercy to those who fear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ait for God; in His Word have I hop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the Eternal God my soul does wa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than those who watch for morning to co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say more than those who for morning wat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Isr'el hope; there is mercy with Go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ent'ous redemption from iniqui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Eternal One shall Isr'el hop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the Eternal God in love be fea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4T17:19:49Z</dcterms:created>
  <dc:creator>Lanora Campbell</dc:creator>
  <dc:description/>
  <dc:language>en-US</dc:language>
  <cp:lastModifiedBy/>
  <cp:revision>1</cp:revision>
  <dc:subject/>
  <dc:title>Hymnal</dc:title>
</cp:coreProperties>
</file>