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720263" cy="64833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2720" cy="376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6216F9-5B0D-491C-BF80-27AD921FA0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4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6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839B-5671-416B-A87C-A3180DEAD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80996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6040" y="3692880"/>
            <a:ext cx="80996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CC16-57FA-4E90-A45A-B523390BD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604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5648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DB29-8D9A-46A2-AB16-4EDCB3D30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4560" y="170640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83440" y="170640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6040" y="369288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4560" y="369288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83440" y="369288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F326-F8E9-4675-8463-B2384C4FB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6040" y="1706400"/>
            <a:ext cx="80996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D081-36CD-47BE-B721-5BBEC6E70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80996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743E-6E9A-4CF2-921B-820F4E0ED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A42F-68CE-4C13-B2AC-B65AC5B0F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0934-951E-48DF-8EE9-6EC2ADB5F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6040" y="585360"/>
            <a:ext cx="80996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814B-8266-479F-BCCB-D442F8028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604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EAD1-560F-437C-812A-BCD2BB35D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648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596B-AEF0-48F7-BCAF-D6DD45C7E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6040" y="3692880"/>
            <a:ext cx="80996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9414-D05F-4FF6-BB38-A9F7B8879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6040" y="1706400"/>
            <a:ext cx="80996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06400" y="5613120"/>
            <a:ext cx="2092320" cy="3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560" y="5613120"/>
            <a:ext cx="2847960" cy="3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13720" y="5613120"/>
            <a:ext cx="2092320" cy="3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367697-5A10-4372-83D5-A62CE7C6691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e 140 -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Psalm 100 - Dwight Armstro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ing To The Lord With Cheerful Voic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people that on earth do dwel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ng to the Lord with cheerful voic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rve Him with joy, His praises tel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e ye before Him and rejoic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know the Lord is God indeed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thout our aid he did us mak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are His flock, He doth us feed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for His sheep He doth us tak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58920" y="357120"/>
            <a:ext cx="90043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s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 enter then His gates with prais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ily approach unto His courts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aise Him and bless His name alway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it is seemly so to d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God the Lord is ever good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s mercy is for ever sure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s truth at all times firmly stood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shall from age to age end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2T14:02:46Z</dcterms:created>
  <dc:creator>Lanora Campbell</dc:creator>
  <dc:description/>
  <dc:language>en-US</dc:language>
  <cp:lastModifiedBy/>
  <cp:revision>1</cp:revision>
  <dc:subject/>
  <dc:title>Hymnal</dc:title>
</cp:coreProperties>
</file>