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E4578-3BBD-4D58-8513-57105D7E1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9BD-811D-446C-8AAA-045DBADE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914-C7CA-488C-AEDD-A102CAF8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70D-B5B7-46CB-BAF0-7DFC3AE3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4CB-2B2D-40A7-BE2F-7A3CBC3A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664-AE89-4073-B485-8445A897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5FB-BD9B-4029-9484-AEBCCD4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071-4CF6-4F88-82B5-DB12694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F5D-DDB9-45B6-BEC0-6764FC6C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C8B-8218-4639-A46A-B68AB07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BE6-8DC5-442C-A0DD-639E80D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DBB-53A0-4F39-9BFA-4C310DE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C34-CC0E-4DE9-9321-E8046683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26322-055E-4262-B823-8D76DA3C55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4520" y="357120"/>
            <a:ext cx="90187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Us Sing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sing to God and praise His na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o Him shall we give thank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His wondrous works His name decla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us tell of His great deed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ternal says that He will jud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proper time is com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' the earth and all totters and dissolv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ill make its pillars 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 says unto the prou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oast nor flaunt your pow'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unto the wicked He has sai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ift your horn on hig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from the east, nor from the w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the lifting up of 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God who lifts and who lowers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righteously will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hand of God there is a cu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wine therein is r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full of wrath from which He pour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cked men must drain its dre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 shall declare and praise my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God of Jacob s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ord shall lift up the righteous ma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ll cut off wicked 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15:40Z</dcterms:created>
  <dc:creator>Lanora Campbell</dc:creator>
  <dc:description/>
  <dc:language>en-US</dc:language>
  <cp:lastModifiedBy/>
  <cp:revision>1</cp:revision>
  <dc:subject/>
  <dc:title>Hymnal</dc:title>
</cp:coreProperties>
</file>