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0EB7E-DB1F-4798-AAA0-1FCD7C982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A19-B0ED-4A36-AD07-5C8F5181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055-5DDB-4FF9-9F27-AA1CD23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459-D6D9-45FB-A7A7-1D9B6B45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5D2-06CE-41C8-9FEE-B471FB98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340-4782-46F5-A8BA-26F63D5C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214-FEBF-4491-BFDE-1ACA13BF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6D7-AAE5-41EE-851A-1EE6BC7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00D-56AE-4652-A13B-49D59B17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E31-1832-45A1-A04B-250E70C4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168-A2A0-4A67-8032-84FC4F75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41F-7045-4DA8-97B3-CDC5A63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053-71FF-4F52-941D-174E79B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E1E9D-A1E1-46EA-8F3E-348BEF2FD1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ess The Lord Eternal, O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 the Lord Eternal, O m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 His holy sacred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get not all His benef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ose who fear His n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orgives all our iniquiti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diseases He will he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destruction He redeems our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crowns us with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 the Lord Eternal, O m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heavens praise His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mercy is as high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heav'n above the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ccording to our many s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he Lord so dealt with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s far as east is from the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moves from us our s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 the Lord Eternal, O m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angels praise His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n heaven He has fixed His thr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He rules the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 vindicates the c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ll those who have been wrong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mercy is as high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heav'ns above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 the Lord Eternal, O m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love always endur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loyalty is to our s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keep all His comma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for man he blossoms like a flow'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days are like the gra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from death the Lord redeems our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crowns us with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22:14Z</dcterms:created>
  <dc:creator>Lanora Campbell</dc:creator>
  <dc:description/>
  <dc:language>en-US</dc:language>
  <cp:lastModifiedBy/>
  <cp:revision>1</cp:revision>
  <dc:subject/>
  <dc:title>Hymnal</dc:title>
</cp:coreProperties>
</file>