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83B73-641B-42EB-97AE-FF791AF41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277-4B8C-4F1F-B5B0-094BBB28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970-6CBD-49FD-8F92-6D17BCDE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68F-6EE5-46D4-B11B-527B8D80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49B-7AB4-465F-A6F2-322A35BD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528-726E-4854-A9C2-FC775A7A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5DC-C619-406A-91C4-5230595A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E0E-943C-4D31-965F-2327792E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98D-59A0-4564-BCDF-2AC0E823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152-DA17-4714-8027-1F7E0DA4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60C-2CFA-4D42-BE65-7B5B9C5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6EA-3255-4F33-9A3E-C9CE7FC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F25-16C7-4BAE-9CA5-CD59EC01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2400A-168B-455B-B80B-FE9F3B1EA1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ls Have Said That There Is N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ls have said that there is n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in their heart conclu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corrupt their works are vil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e of them doeth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did from heav'n look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the sons of men abro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e if any one were wi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seeking afte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all of them backward g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m are deprav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is none that doeth g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ot a singl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hose who work iniqu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knowledge, none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eople they devour like br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n God they do not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49200"/>
            <a:ext cx="900612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rejected all of the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be put to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 terror there has never be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terror on them f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 will scatter all the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ungodly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defeat their evil pl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ut them all to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9:26:04Z</dcterms:created>
  <dc:creator>Lanora Campbell</dc:creator>
  <dc:description/>
  <dc:language>en-US</dc:language>
  <cp:lastModifiedBy/>
  <cp:revision>1</cp:revision>
  <dc:subject/>
  <dc:title>Hymnal</dc:title>
</cp:coreProperties>
</file>