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1CB0E-159D-4ABD-851B-9A2624FD0C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63E-E231-4021-B9F1-CB99B848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6442-4BD9-476C-9805-6BFC8662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25A4-E7B4-4353-9C44-59435334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17A-A3E7-4099-8441-CA884625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AC4-062F-4956-A7E8-809888E8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A99-14CC-4227-A2A8-21BC48F9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3D35-D1B8-493D-9E0F-1F1B7523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29A-7149-4AEB-B33A-C22D895B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B92-1AEE-4123-B833-CB2EC520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F2C-4C98-4253-9B4C-0EBCC23E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9C0-132A-4B4B-A5CF-27C46E45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276-9814-45F3-B514-48AA3159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F5CC3-D258-4003-9D71-BCD14B74126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83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38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rd, I Will Praise The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I will praise Thee with my whole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'll sing Thy praises before all the god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ship and bow t'ward Thy holy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ing Thy name for Thy kind love so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Thy name Thy Word is enlarg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when I cried in that day Thou didst hea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 strengthened me with Thy strength, O Lord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s of the earth will then hear, praising Th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s, they shall hear, O Lord, of thy way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shall they sing for Thy glory is grea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 God is high the poor He respec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strikes the proud down from His sov'reign h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7120"/>
            <a:ext cx="90043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 in the midst of trouble I walk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 wilt preserve with Thy right hand, my lif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 wilt fulfill Thy purpose for m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y steadfast love will endure ever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5T14:51:02Z</dcterms:created>
  <dc:creator>Lanora Campbell</dc:creator>
  <dc:description/>
  <dc:language>en-US</dc:language>
  <cp:lastModifiedBy/>
  <cp:revision>1</cp:revision>
  <dc:subject/>
  <dc:title>Hymnal</dc:title>
</cp:coreProperties>
</file>