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8A74F-7237-495D-BE7B-B582A2244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E7F-FE9A-4C54-B728-7D319299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F2B-5211-4C8C-8BF9-4069C04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3C0-26E6-4A17-A597-F87D9F36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15C-1680-4656-8475-FC7CA13F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A9F-BB45-47AD-9055-E394780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B36-E708-463C-9768-BC10CF7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2BD-7F0E-4085-B72E-9416501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D84-EDD9-4D74-8C45-16F1541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EA0-E714-4726-9628-A85703F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168-EE3B-47C5-88DF-2FBE105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296-4DF9-4890-8C62-41F60D8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CB5-ABAF-4051-835F-002911B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82A0E-C044-4F43-8A52-C73BAA3A9E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Be Merciful To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, O God, and answer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am most wretch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ave my life, Your servant s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put my trust in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be merciful to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o You I daily c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are good, and You for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call upon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rouble comes, I call on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's You who answers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the gods none is like You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lone are God inde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re there any 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wonders You perfor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You made shall bow to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glorify Your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me Your way, O Lord my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 may walk in Your tru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me to live loyal to You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y whole heart praise Your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mercy is most grea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grave You saved my lif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is Your love, Eternal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all glorify Your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ud men arise, seeking my l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who do not care for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, O Lord, are a great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of mercy, grace and tru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me and pity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 Your servant strength, 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unto me Your fav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hat my foe may be 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7:43:59Z</dcterms:created>
  <dc:creator>Lanora Campbell</dc:creator>
  <dc:description/>
  <dc:language>en-US</dc:language>
  <cp:lastModifiedBy>Lanora Campbell</cp:lastModifiedBy>
  <dcterms:modified xsi:type="dcterms:W3CDTF">2014-07-21T17:49:45Z</dcterms:modified>
  <cp:revision>3</cp:revision>
  <dc:subject/>
  <dc:title>Hymnal</dc:title>
</cp:coreProperties>
</file>