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6624E-20C5-4E03-BB9A-D3962E763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F6A-0B34-4D27-B17E-65AD860F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38F-B88C-41E0-8090-7BD9ECBD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0EE-6632-49BD-A0B2-2681B8C5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4D5-7203-4881-91B0-67FD8D1D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1EA-0D44-4B48-BD01-147F19C3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B8B-3A40-4318-93C9-651C7F49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E81-452F-4D1A-A88C-8C21D855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D1A-84C8-4D32-885E-B3C04943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D99-2E25-4469-8B68-B82C305E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029-7693-4C34-A7EC-96868FA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F43-DA6C-4E0B-A1E9-70B8796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5DD-3660-4BCC-9B72-2F447D3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89439-3A5A-4F79-AD2E-733A2E2492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8 -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Julis Bulkley Cady, 1882- Netherlands Folk Song From The Collection by Andrianus Valerius, 16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Praise Thee, O God, Our Redee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raise Thee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deemer, Crea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rateful devo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tribute we b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ay it before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eel and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less Thy Holy Na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d praises w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orship Thee,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our fathers, we bless Th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life's storm and temp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Guide hast Thou be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perils o'er-take 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cape Thou wilt make 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ith Thy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our battles we w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voices uni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praises we off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, great Eterna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ad anthems we rai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strong arm will guide 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God is beside 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e, our Great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ever be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45:05Z</dcterms:created>
  <dc:creator>Lanora Campbell</dc:creator>
  <dc:description/>
  <dc:language>en-US</dc:language>
  <cp:lastModifiedBy/>
  <cp:revision>1</cp:revision>
  <dc:subject/>
  <dc:title/>
</cp:coreProperties>
</file>