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B0988-0E12-4953-A917-3764F7F84E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2231-789A-46CA-A595-BF2221FE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3FE6-F10A-4C81-9166-2009FB35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9D02-9841-424D-8AE6-D0DE0FFFE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C845-4913-4DD7-AED4-71CD8DCD1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636F-AC86-488C-8A25-503B0F70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3687-0501-431D-BA57-38458DD2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7D10-10E7-4F6D-B6B5-F8B5F60A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0F6C-F7DA-443E-A67E-F0223576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1756-9722-4877-B963-0A7BAB57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28CE-0EE4-4B39-8031-9A35F7F8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4F8E-4369-473F-8BCB-10C56505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F6DC-40FD-4FBC-A13F-7BA92BEC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E54B5-2DE6-4F7C-AC60-CCBED2BA29C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39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Howard B. Grose, 1851-1939, Charlotte A. Barnard, 19th c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ive Of Your Best To The Mas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of your best to the Maste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of the strength of your you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w your soul's fres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wing ardor Into the battle for tru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has set the exampl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untless was He, young and br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Him your loyal devotio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Him the best that you h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ive of your best to the Master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ive of the strength of your youth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ad in salvation's full armo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in in the battle for tru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of your best to the Maste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Him first place in your hea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Him first place in your servic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ecrate every pa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, and to you shall be give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His beloved Son g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tefully seeking to serve Hi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Him the best that you h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ive of your best to the Master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ive of the strength of your youth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ad in salvation's full armo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in in the battle for tru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of your best to the Maste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ught else is worthy His lo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gave Himself for your ranso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ve up His glory abo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id down His life without murmu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from sin's ruin to s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Him your heart's adoratio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Him the best that you h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ive of your best to the Master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ive of the strength of your youth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ad in salvation's full armo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in in the battle for tru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13:48:13Z</dcterms:created>
  <dc:creator>Lanora Campbell</dc:creator>
  <dc:description/>
  <dc:language>en-US</dc:language>
  <cp:lastModifiedBy/>
  <cp:revision>1</cp:revision>
  <dc:subject/>
  <dc:title>Hymnal</dc:title>
</cp:coreProperties>
</file>