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9506A-2503-4A8A-B9BE-B757D5C56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2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21D-6B59-468E-9F77-D8970C4E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9EA-6EB3-4D90-8B08-643BEA66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8EE-D054-44DE-AD47-E6C4C76A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317-7AE5-42F4-84CC-7CB19F38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986-AC8B-4B34-922E-422C1A79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29B-5CBB-4EA3-AC07-42E6B764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F28-C293-45E3-B9A7-40B34062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611-FDB8-4EBB-8C4C-C05BAC67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136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D27-493B-4DAF-A061-4A17FADC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BC9-8279-4728-B7B5-E773775A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A6B-12F7-40D0-8985-09EB09FE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3D3-FABB-414B-AA7D-4A53DF03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29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26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67076-7C52-4F0D-969E-9B99C20829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omas O. Chisholm, George C. Ste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rodigal S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in the wilderness wild and dr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dly I've wandered for many a y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n by hunger and filled with f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rise and g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ward with sorrow my steps to t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ing my heavenly Father's f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ng to take but a servant's 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rise and 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 to my Father and h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home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 to my Father and home, I will ar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o      Back to my Father and home.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g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hould I perish in dark despa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where there's no one to help or c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re is shelter and food to spar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rise and g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ly repenting the wrong I've d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thy no more to be called a s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ing my father His child may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rise and 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 to my Father and h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home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 to my Father and home, I will ar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o      Back to my Father and home.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g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et are the memories that come to 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s of loved ones again I s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s of home where I used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rise and g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have gone who had wandered to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forgiven, were clothed ane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hould I linger, with home in view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rise and 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 to my Father and h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home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 to my Father and home, I will ar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o      Back to my Father and home.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g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, that I never had gone astray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was all radiant with hope one d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all its treasures I've thrown a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I'll arise and g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saying "God loves you sti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you have treated His love so ill"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ust not wait, for the night grows chi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rise and 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, that I never had gone astray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was all radiant with hope one d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all its treasures I've thrown aw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I'll arise and g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saying "God loves you sti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you have treated His love so ill"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ust not wait, for the night grows chi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rise and 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 to my Father and h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home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 to my Father and home, I will ar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o      Back to my Father and home.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g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9:09:03Z</dcterms:created>
  <dc:creator>Lanora Campbell</dc:creator>
  <dc:description/>
  <dc:language>en-US</dc:language>
  <cp:lastModifiedBy/>
  <cp:revision>1</cp:revision>
  <dc:subject/>
  <dc:title/>
</cp:coreProperties>
</file>