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51700-60D3-4AC1-BADA-22B64075C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82D-0301-42EB-990B-6E325994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0D9-4CAB-4AF4-8009-765F939F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BFF-4BC7-451F-B568-568C15CA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059-7BA5-4BA7-8233-5B6103CF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68A-C3B6-4CE3-8874-3D3E2DF7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19C-C4C7-4FEF-8DDC-113CAA3A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1BB-5C32-4F1C-8E2C-9579F904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B34-09C5-4107-84B2-9040C627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1A8-9C67-49C0-A747-A7E1FF93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48E-C390-4B73-8380-F1983C1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097-B1EE-43C1-B68B-78D80D2B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162-0974-4F10-BC69-21B4904B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669ED-ECF5-4D94-8C89-76BA08AC6E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5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aniel W. Whittle, 1840-1901, James McGranahan, 1840-19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Know Whom I Have Believ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not why God'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ndrous grace to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th made kn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hy unworth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in love redeem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 for His ow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357120"/>
            <a:ext cx="90075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"I know whom I have believ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m persuaded that He is 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keep that which I've commit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Him against that day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"I know whom I have believ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m persuaded that He is 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keep that which I've commit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Him against that day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not how this saving fa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me He did imp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how believing in His W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ought peace within my hea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"I know whom I have believ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m persuaded that He is 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keep that which I've commit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Him against that day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not how the Spirit mov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vincing men of si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vealing Jesus through the W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ing faith in Hi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"I know whom I have believ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m persuaded that He is 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keep that which I've commit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Him against that day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not what of g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ill may be reserved for 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weary ways or golden day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 His face I se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"I know whom I have believ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m persuaded that He is 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keep that which I've commit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Him against that day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not when my Lord may c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night or noon day fai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faithful, when He comes aga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ll "meet Him in the air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9:16:56Z</dcterms:created>
  <dc:creator>Lanora Campbell</dc:creator>
  <dc:description/>
  <dc:language>en-US</dc:language>
  <cp:lastModifiedBy/>
  <cp:revision>1</cp:revision>
  <dc:subject/>
  <dc:title>Hymnal</dc:title>
</cp:coreProperties>
</file>