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27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10E8A4-8F25-4DC5-895D-C0E88D7C91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B34F-380F-4C3E-80C1-2E64B4BE0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7B48-C486-48E8-B27E-F1668D1CB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1F45-6157-47FB-BB3D-4609023C1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34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34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E7AC-919E-4853-9F15-437615E60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A23B-2E9A-4C4F-A82D-F355A42F8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21C1-4096-4CE2-9C59-0C54B9580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0102-3014-4902-ACB0-B878A54C3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8D7E-CFF0-483C-BA67-E82E72959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5360"/>
            <a:ext cx="80996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B609-42A7-40FE-AAF8-37C0CA2DB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EAAC-BE47-408F-9578-27BF3EBA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DC5A-CBE7-4278-BFAD-DDA8F6AF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FAC5-87B0-449A-BD99-E904C765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796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E7EAED-FA15-4858-9407-C7FC3119EAC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82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ElizabethP. Prentiss, 1856, William H. Doane, 186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ore Love To The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e love to Thee, O Chris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e love to Thee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ar Thou the pray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make on bended kn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is my earnest plea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e love, O Christ, to The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e love to Thee, more love to The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ce earthly joy I crave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ught peace and res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w  Thee  alone  I seek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ive what is bes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all my prayer shall be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e love, O Christ to Thee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e love to Thee, more love to The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n shall my latest breat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sper Thy praise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be the parting c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heart shall rais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still its prayer shall be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e love, O Christ to Thee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e love to Thee, more love to Thee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6T17:51:01Z</dcterms:created>
  <dc:creator>Lanora Campbell</dc:creator>
  <dc:description/>
  <dc:language>en-US</dc:language>
  <cp:lastModifiedBy/>
  <cp:revision>1</cp:revision>
  <dc:subject/>
  <dc:title>Hymnal</dc:title>
</cp:coreProperties>
</file>