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A3E58-F108-4A55-A8C2-16E0A2F9F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6D4-2EBB-416B-8BF3-1E61DB08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BAF-13AB-4E3C-94CD-5E8CD71B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E29-9852-46BD-BDCA-4122C36E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8D7-9284-4F68-A975-A86B04E1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681-F216-49E6-BC03-03E6E156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7DF1-9D06-4530-A1FB-810C8ECD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1CB-F43B-484E-9694-579ABE24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E7E-B275-4B4E-8328-B1BCD9C6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8A5-6B7F-4B74-B2C1-DFCC999D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525-3D3B-4F7D-8E85-E43A8250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E32-1184-438D-86BC-A1394B8C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089-9409-447D-B9FA-6AC9BFD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1BDA6-89C0-420F-BFF3-01BD0D92AB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0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72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 All Nations Hail Him King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King Thy judgments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ice to his royal so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him judge with equit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 justice to the poo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mountains and the hi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 prosperity for a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he judge in peace and righteous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efend the needy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His days shall peace abou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days of Christ the Kin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eousness shall flourish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endure forever mor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dominion shall ext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from Zion to earth's e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s and people all will yield to Hi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rule from sea to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s of east and kings of we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kings shall homage pa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is enemies shall b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rovel in the dus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pities those forlor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s all those who cry to Hi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save the weak and all oppress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precious in His s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be His glorious na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ll nations hail Him Kin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shall He be alw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d of Israe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be His glorious name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lone works wonders grea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is glory shall fill all the eart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so, Amen, A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4:41:06Z</dcterms:created>
  <dc:creator>Lanora Campbell</dc:creator>
  <dc:description/>
  <dc:language>en-US</dc:language>
  <cp:lastModifiedBy/>
  <cp:revision>1</cp:revision>
  <dc:subject/>
  <dc:title>Hymnal</dc:title>
</cp:coreProperties>
</file>