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4115E-C1C8-4A45-9BD9-37158A0A6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6B4-6187-46B0-8777-B6907BFE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759-4BCA-4F96-877B-A9615FF3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DF8-6F19-4383-AA16-74449519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7CF-5812-42E2-A51E-2F70B308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1753-8E4A-438A-9A18-E38FFA4A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A3E-4FE5-4939-8E09-B9A66B31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D07-952E-4123-8E45-71DADFF8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47C-74DC-4111-8CD4-8EB93E2A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2AB-BE7D-4B7D-B98A-D7555605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B370-F744-4389-985F-D88F89DF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7C57-8DE8-4EE4-834E-56093999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5D8-03F0-407C-847A-90C6D72D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E99C3-3928-47CA-A7D1-5F1CAE50AA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7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46 - Este's Psa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d Is Our Refu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is our refuge and our streng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straits a present ai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fore, although the earth remov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will not be afrai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hills amidst the seas be cas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waters roaring mak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roubled be; yea, though the hill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swelling seas do sha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river is, whose streams make gl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ity of our Go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oly place, wherein the L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High hath his abo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in the midst of her doth dwel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nothing shall her mov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rd to her an helper wil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at right early, pr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17:04:35Z</dcterms:created>
  <dc:creator>Lanora Campbell</dc:creator>
  <dc:description/>
  <dc:language>en-US</dc:language>
  <cp:lastModifiedBy/>
  <cp:revision>1</cp:revision>
  <dc:subject/>
  <dc:title>Hymnal</dc:title>
</cp:coreProperties>
</file>