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910F8-BCEA-4AE4-AC32-CD54E970C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522-1355-483C-A876-5AB00AEB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7ABB-EFA1-4FB0-99EF-5E6451BC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F3D0-AE11-4C78-84B6-C441C0D8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128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128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A9F2-E38C-4E92-B701-BFBC7EEA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2F4-43C7-4588-A04E-CE539163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7B29-EAE9-49E6-8706-7F139A49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A58B-AB74-452F-B1CC-D3F9AE41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E40-A25C-4642-93CC-8B65484C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720"/>
            <a:ext cx="809640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7BC8-4F24-4980-8F98-22EA929B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B77-470E-4936-B099-FBF661A6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A5B-F1E5-4585-8D0D-C0AD7F87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2C49-1B4D-4376-9DB8-2618AA51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480"/>
            <a:ext cx="28447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5B958-34CD-4045-9814-CDF998EFCC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6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37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it And Hope And Look For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y not nor fret yours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evil lawless me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like grass soon fade a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ither like a flow'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st in the Eternal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e right and loyal b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you shall dwell peacefu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ruly shall be f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your confidence in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your way to Him commi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hall give you your desir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titions of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 in the Eternal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ly upon Him wa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y not nor fret yours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of evil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ase from anger, cease from wra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such shall be cut of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it and hope and look for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till and trust in H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on the wicked shall not b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is place shall not be f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shall you delight yours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peace abunda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21:33:24Z</dcterms:created>
  <dc:creator>Lanora Campbell</dc:creator>
  <dc:description/>
  <dc:language>en-US</dc:language>
  <cp:lastModifiedBy/>
  <cp:revision>1</cp:revision>
  <dc:subject/>
  <dc:title>Hymnal</dc:title>
</cp:coreProperties>
</file>