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9285E-38B8-4FB8-B8C8-5C03A6F3F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759-C731-49C1-BCB7-A0D64603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67F-8AD5-452D-B13B-93496A7D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D2F-C041-4A3B-B69B-382B5743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E6B-CD1C-4909-8BF1-A5ABD540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7AC-00EB-4E8A-B23C-6EECE995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78B-C51F-44EA-9D2C-04264C91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0C3-CB30-4224-9B18-553B66DA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0BE-7A84-4AEB-81FF-A721DDBA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160"/>
            <a:ext cx="809136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02B-175F-4685-9D2D-BFDE47D2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091-5FD9-4887-B71E-37CD9F85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81E-184F-4DA3-8088-3102233A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C87-7756-43D5-AAB1-3F881CA5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004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26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800E6-0B17-4B32-9566-42188DD011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23 - Crimond, David G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Lord's My Shephe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's my shepherd I'll not wa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akes me down to l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pastures gree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leadeth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uiet waters b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soul He doth restore agai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e to walk doth ma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in the paths of righteousne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'en for His own name's sa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though I walk in death's dark va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will I fear none i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art with me; and Thy r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taff me comfort st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table Thou hast furnish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presence of my foe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ead Thou dost with oil anoin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y cup overflo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ness and mercy all my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surely follow 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God's house forevermo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dwelling place shall b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9:47:23Z</dcterms:created>
  <dc:creator>Lanora Campbell</dc:creator>
  <dc:description/>
  <dc:language>en-US</dc:language>
  <cp:lastModifiedBy/>
  <cp:revision>1</cp:revision>
  <dc:subject/>
  <dc:title/>
</cp:coreProperties>
</file>