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B7A6F-7BB6-442B-864D-300846B14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4EE-6AE2-406F-A239-45C542C9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626-EC8B-4147-97C9-161C11B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7AC-3D5D-47C2-BB91-3D792713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BBB-8B9A-4713-A4F0-BBBC39C0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233-414C-435E-AE44-4C102E0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C94-640E-4603-9B63-2FB8927C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E19-59E1-415A-9EBC-92700A0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E3B-AEDA-4F01-A5C7-0DB79784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547-2D1B-4B31-BDAD-7D782ADF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23B-36BA-4F9D-8987-FA18E6F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25F-79AF-4F1E-8304-5711CFF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B67-DC35-4399-B647-108DA4B1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92422-D396-4C51-A095-1E872A2F3C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9 -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Verses 1-3, Edward Perronet, 1779, 1780 Verse 4, John Rippon, 1787 James Ellor, 19th c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Hail The Power (Second Tun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ail the pow'r of Jesus'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ngels prostrate f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ngels prostrate f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hold the royal diad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chosen seed of Israel's 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did hear the c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did hear the c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who saves you by His g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'ry kindred, ev'ry tri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s terrestrial b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s terrestrial b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, with yonder angel thr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t His feet may f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t His feet may fal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wn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rown Him Lord of 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0T15:43:00Z</dcterms:created>
  <dc:creator>Lanora Campbell</dc:creator>
  <dc:description/>
  <dc:language>en-US</dc:language>
  <cp:lastModifiedBy/>
  <cp:revision>1</cp:revision>
  <dc:subject/>
  <dc:title>Hymnal</dc:title>
</cp:coreProperties>
</file>