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43AF7-1506-4924-A395-036BEDD63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4CE-BD72-4571-8738-E1D380D2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EDB-B7AA-41DB-8096-05EB5459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49A-83D5-4A26-BE0B-DF1C277F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CDE-00C5-4B9D-84A5-4FF30044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A5A-76C7-4F8D-89C3-DCB27888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197-E80E-4619-824D-C46E68F4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142-037B-4E14-837C-08BBF415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2AA-2A21-4333-B1B9-530DCDF4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177-96D3-4454-8EBC-8ECC9F89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F1A-D460-49E7-BECC-BAC03BAB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F0E-BD9B-440B-A072-E94F2FC5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13C-C7C3-415C-B3A9-A2B772D7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86284-D0A0-4080-B3D9-32C52AF2C6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3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90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u Art Our God For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rd, Thou hast b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dwelling place; From all etern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e ever mountains were brought f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 art our God fore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knows Thy pow'r, who knows Thy wrat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us dreads Thine ang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Thou Eternal, give us gra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s glad that we may rej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days are three-score years and t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t the best four-sc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as Thou afflicted 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make us glad, Etern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re consum'd by Thy great wra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ins were bare before Th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us, O God, to count our day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Your wisdom may fill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ou Eternal, give us pea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, return to 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let thy work appear, O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beauty be upon 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rejoice, let us be gla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mercy be upon 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us Your loving kindness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e may once again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9:29:04Z</dcterms:created>
  <dc:creator>Lanora Campbell</dc:creator>
  <dc:description/>
  <dc:language>en-US</dc:language>
  <cp:lastModifiedBy/>
  <cp:revision>1</cp:revision>
  <dc:subject/>
  <dc:title>Hymnal</dc:title>
</cp:coreProperties>
</file>