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9C5D6-A5FB-4563-981A-C3668EFF4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600-1B8A-4354-A734-824544F6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F88-179A-40FF-9359-DB5AD228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B8D-6B34-4989-8E33-F4A4B184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42E-B858-446E-8E55-6C97DA24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55D-4187-4D93-920D-70575C2B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6D4-0E8F-4D78-BBE1-AED44BFA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AEA-7D71-4A69-81A2-3934141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3AF-3CBF-4BC4-B281-8BE48BC1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DB9-3514-4B19-AC08-5CF9B5AB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5A8-513D-4D84-98F3-B2CEC292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0A3-C77C-4CE1-9AF0-0BE24766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974-276B-4A2F-9E3A-3FC9AC4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F16D3-502F-4483-AEEE-F4F3138D81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Pity Me, Be Gracious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pity me, be gracious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You my soul does seek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refuge rests under Your w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all danger pa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ll to God, to the Most Hig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fulfills His purp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send help from heav'n ab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o shame all who sl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ill send forth His steadfast l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loving kindness and His tru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'er all the earth His glory sh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above the heave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ife must be mid sons of 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se tongues use sharp sw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et a net for my own li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nstead they have f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is steadfast, O my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dfast and confident in You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will I sing, make melod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harp and the lyr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ul, awake, give thanks to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His praise to all nation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great love soars to the heav'n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is He and exal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8:47:55Z</dcterms:created>
  <dc:creator>Lanora Campbell</dc:creator>
  <dc:description/>
  <dc:language>en-US</dc:language>
  <cp:lastModifiedBy/>
  <cp:revision>1</cp:revision>
  <dc:subject/>
  <dc:title>Hymnal</dc:title>
</cp:coreProperties>
</file>