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1480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349AD-74D2-45D3-814B-09F1DD73B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6D94-E23D-4E94-AE31-BD202FDF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8856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45F8-F6B4-4932-A8D5-2CD61FD5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252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378D-6608-4CC6-BB89-A7361167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70B-D9A7-4291-A901-5269926D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688-12EA-463F-AFA5-D51036F1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4BFB-D200-496C-9D15-5ED4F5BD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552-CC5D-4A00-8D74-61CC4A28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D3D-8EBE-4F54-9FB7-B97743B6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7160"/>
            <a:ext cx="809136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E0E-60F9-4C46-B9E7-1A02DA45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EED-240E-434F-B156-73BE260D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252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C70-9A41-4DE6-9EFA-401AA49B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959-8F82-4A0A-A9AC-AAF28B93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44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1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40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EA535-13B2-4BC7-B5EF-3D44149237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3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amuel J. Stone, 1866, alt. Samuel S. Wesley, 18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Church's One Found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urch's one Foun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Jesus Christ, her Lor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is His new cre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water and the wor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heav'n He came and sou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 to be His holy br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His own blood He bought 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or her life He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 from ev'ry na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 one o'er all the ear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 charter of salvation one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faith, one bi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holy name she bless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akes one holy fo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o one hope she p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ev'ry grace endu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'Mid toil and trib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umult of her w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waits the consum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peace for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, with the vision glorio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 longing eyes are bl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great Church victor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be the Church at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 she on earth hath un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God and Christ, His S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re is sweet commun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ose whose rest is w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happy ones and holy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give us grade that w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ke them, the meek and lowl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one day reign with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8:27:12Z</dcterms:created>
  <dc:creator>Lanora Campbell</dc:creator>
  <dc:description/>
  <dc:language>en-US</dc:language>
  <cp:lastModifiedBy/>
  <cp:revision>1</cp:revision>
  <dc:subject/>
  <dc:title/>
</cp:coreProperties>
</file>