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720263" cy="64833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1280" cy="37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036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hdr"/>
          </p:nvPr>
        </p:nvSpPr>
        <p:spPr>
          <a:xfrm>
            <a:off x="-360" y="0"/>
            <a:ext cx="3365640" cy="4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dt" idx="4"/>
          </p:nvPr>
        </p:nvSpPr>
        <p:spPr>
          <a:xfrm>
            <a:off x="4398480" y="0"/>
            <a:ext cx="3365640" cy="4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5640" cy="4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5640" cy="4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269BBC-6DC9-4CA0-A88E-AB035194595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58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60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62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64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66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0C2CD-4421-485C-B813-AEF9ABC0A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809784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06400" y="3691080"/>
            <a:ext cx="809784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A4771-0298-42B2-BBE2-E8B42ED5F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56120" y="170604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06400" y="369108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56120" y="369108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5DABD-1777-436B-AA0D-57A2F2EF4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26071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4200" y="1706040"/>
            <a:ext cx="26071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82000" y="1706040"/>
            <a:ext cx="26071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06400" y="3691080"/>
            <a:ext cx="26071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4200" y="3691080"/>
            <a:ext cx="26071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82000" y="3691080"/>
            <a:ext cx="26071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17C40-F1A6-40A6-B3B3-31AC7807A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06400" y="1706040"/>
            <a:ext cx="8097840" cy="380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B8BC8-3835-4EE0-9662-C0DC6D4A3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8097840" cy="380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7728B-C191-4E4F-BA10-94C1E279A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3951720" cy="380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56120" y="1706040"/>
            <a:ext cx="3951720" cy="380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B2F51-7959-4F09-9A27-E5A891D25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E53A1-A789-4101-936A-6632BC8D7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06400" y="585360"/>
            <a:ext cx="8097840" cy="443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D9211-1B4B-45D8-AECD-678304DBD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56120" y="1706040"/>
            <a:ext cx="3951720" cy="380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06400" y="369108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9A71E-B94A-4D81-B130-B855A3F2E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3951720" cy="380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56120" y="170604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56120" y="369108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658F9-320A-48F9-8456-E0F688E20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56120" y="170604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06400" y="3691080"/>
            <a:ext cx="809784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37B79-CDA8-4A7C-95BA-4D72EF35B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06400" y="1706040"/>
            <a:ext cx="8097840" cy="380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06400" y="5613120"/>
            <a:ext cx="2090880" cy="3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560" y="5613120"/>
            <a:ext cx="2846520" cy="3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13360" y="5613120"/>
            <a:ext cx="2090520" cy="3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EEF8E1-7AD7-4819-963F-25708DF02F8F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57120" y="357120"/>
            <a:ext cx="9006120" cy="57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ge 104 - 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Psalm 66 - Dwight Armstro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Joyfully Sing And Praise God!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oyfully sing and praise God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l the earth sing forth His praise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lory and honor give Him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ng homage to His nam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y now to God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dread Your work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awesome are Your deed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 great Your pow'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our foes submit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l the earth worships yo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7120" y="357120"/>
            <a:ext cx="900756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ers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 come, and see His great work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mong men how dread His deed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 turned the sea to dry land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the multitudes passed throug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let us all rejoice in Him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o by His power e'er rule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ose eyes observe and nations watch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ne shall exalt himsel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57120" y="357120"/>
            <a:ext cx="900612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ers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 bless our God, you peoples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ke His praises to be heard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ive unto Him your grateful thank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o has kept us safe in lif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not allowed our feet to slip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ough You have tested u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ough we were captured by our fo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et have You set us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7120" y="357120"/>
            <a:ext cx="900612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erse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ill I come before my God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will pay my vows to Him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ows which my lips have spok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ich I promised when distress'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l you who fear Him, come and hear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e you who worship Him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will declare what God has done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He has done for 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57120" y="357120"/>
            <a:ext cx="900612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erse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called on God and cried out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extolled Him with high prais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d I of sin been thinking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rely God would never hea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t God indeed has heard my prayer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lessed be God who hear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 has not checked my pray'r to Him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r His own love to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18T00:39:44Z</dcterms:created>
  <dc:creator>Lanora Campbell</dc:creator>
  <dc:description/>
  <dc:language>en-US</dc:language>
  <cp:lastModifiedBy/>
  <cp:revision>1</cp:revision>
  <dc:subject/>
  <dc:title>Hymnal</dc:title>
</cp:coreProperties>
</file>