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E7FDF-0B29-4DDC-AE23-AC0A9E015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4D0-86B0-4D2D-8474-DFDD5D7F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636-64B5-4E52-AF48-B8EC6903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383-8B8E-47AC-BA18-4B369E40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D72-A219-4132-869C-FA033016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3EA-0C4C-48FB-B211-96733DC2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8AA-1FB1-4642-9AB8-A0FC8FE8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C31-6F72-42DD-80E5-36A9744C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BAE-0386-4812-B782-A2DFDECC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D96-7515-4006-AAA1-4C9539DF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0FF-DB41-4B0E-AA96-DB37D5DF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7E2-1B3E-4B53-9B49-3BD446D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D17-620F-4E87-94C0-388340C8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A2896-63B6-49AE-AE5A-7AF74C4224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19 The Psalter, 1912, alt. 1950 Har. David Evans, 1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I Love Thy Law, O Lor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 love Thy law, O Lord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ily joy its truths aff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its constant light I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se to conquer ev'ry fo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eter are Thy words to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all other good can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I walk, Thy truth my l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ting falsehood, loving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commandments in my hea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st wisdom can impar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y eyes thy precepts sh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sdom more than sages know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eter are Thy words to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all other good can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I walk, Thy truth my l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ting falsehood, loving l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my heart Thy word obey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kept from evil way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y law, with Thee to gui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I never turn asid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eeter are Thy words to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all other good can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 I walk, Thy truth my l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ting falsehood, loving l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21:14:56Z</dcterms:created>
  <dc:creator>Lanora Campbell</dc:creator>
  <dc:description/>
  <dc:language>en-US</dc:language>
  <cp:lastModifiedBy/>
  <cp:revision>1</cp:revision>
  <dc:subject/>
  <dc:title>Hymnal</dc:title>
</cp:coreProperties>
</file>