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3833A8-D08F-467F-A7CC-C15D842F70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8CA5-427D-4F57-B492-D2C99F837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2F04-C147-4E06-A4EF-25AE5607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6562-5AA5-49A4-861B-D3C7A7A77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584D-0E6A-4975-A215-7DBA7BADA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48AE-45A4-4307-A2B4-94A24031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B9C0-3391-44FA-9AA2-314B484A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9437-9A34-420A-81BC-77123E6D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848E-A734-41DE-B59D-3CB16EF5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FF92-B204-4BF6-BE09-00CE9393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1A96-0001-4681-8751-69A43C49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6714-7BC3-48C8-830E-34CD8BB6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03CE-E1C3-4DBC-BC0C-AEDBB6B3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AF362-C58A-4424-9E5E-4A7E5E8F70E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47 -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Psalm 46 Words:   Martin Luther, 1529 Translated:  Frederick H. Hedge, 1853 Tune:  EIN' FESTE BU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Mighty Fortress Is Our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ighty fortress is our Go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ulwark never failing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helper He, amid the flo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mortal ills prevail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still our ancient fo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th seek to work us wo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craft and power are grea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, armed with cruel hat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earth is not his eq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we in our strength confid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striving would be losing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re not the right Man on our sid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n of God's own choos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st ask who that may b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 Jesus, it is H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 Sabbaoth, His Nam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age to age the sam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 must win the batt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ough this world, with devils fille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threaten to undo u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not fear, for God hath will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truth to triumph through u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ince of Darkness gri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tremble not for him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rage we can endure, for l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doom is sur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little word shall fell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word above all earthly power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thanks to them, abideth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pirit and the gifts are ou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 Him Who with us sideth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good and kindred g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mortal life also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dy they may kil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's truth abideth stil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kingdom is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18:26:52Z</dcterms:created>
  <dc:creator>Lanora Campbell</dc:creator>
  <dc:description/>
  <dc:language>en-US</dc:language>
  <cp:lastModifiedBy/>
  <cp:revision>1</cp:revision>
  <dc:subject/>
  <dc:title>Hymnal</dc:title>
</cp:coreProperties>
</file>