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FDC61-9EA2-4845-8A99-547F859B0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D6A-0364-4CA0-A273-5D0D2FF6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57C-500D-4C62-8320-D825C960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074-C0BD-4009-A5A0-0746EB2A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25B-1CE9-4882-AE2F-A66372FF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E49-D46E-433D-B1E3-D08E2F12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C76-4B71-44E5-99B7-2BC33176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133-98A0-4AC4-9AFA-EEA6ADAE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F42-6116-437B-8D33-C6A57F5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09F-4A80-4B6E-B68F-166D26C7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3CF-91A7-45A8-9DF0-EC61713A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ABE-EF02-42D2-A28F-B23E22D6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026-5A55-4669-A92F-B82DB99E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E3BD8-014E-4563-A49D-216B563E20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arbara B. Hart, 1916, Jean Sibelius, 1865-19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hristian Ho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give us homes built firm upon the Savi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Christ is Head and Counselor and Guid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ev'ry child is taught His love and fav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ives his heart to Christ, the crucifi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weet to know that tho his footsteps wa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faithful Lord is walking by his si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give us homes with godly fathers, mo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lways place their hope and trust in Him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se tender patience turmoil never bo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se calm and courage trouble cannot dim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ome where each finds joy in serving o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ove still shines, tho days be dark and gr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give us homes where Christ is Lord and Mast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ible read, the precious hymns still sung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pray'r comes first in peace or in disast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aise is natural speech to ev'ry tongu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mountains move before a faith that's vast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hrist sufficient is for old and yo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Lord, our God, our homes are Thin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rust to Thee their problems, toil, and ca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bonds of love no enemy can s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ou art always Lord and Master t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Thou the center of our least endeav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Thou our Guest, our hearts and homes to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6:49:30Z</dcterms:created>
  <dc:creator>Lanora Campbell</dc:creator>
  <dc:description/>
  <dc:language>en-US</dc:language>
  <cp:lastModifiedBy/>
  <cp:revision>1</cp:revision>
  <dc:subject/>
  <dc:title>Hymnal</dc:title>
</cp:coreProperties>
</file>