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C989A-023F-41CB-A81B-58F550FC40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3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7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D546-8482-4EFE-8DFC-80528C3C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6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EF9-2848-434C-A19B-AC94AF79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96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487F-66A0-4020-BBDE-2F715512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76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948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76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948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FD9-83D6-43BB-AFF5-84FB5EE1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C07-97D4-4C1C-B7FE-47B4484E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D34-2A3E-4AA0-81B2-BEC849CC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A5A3-D40D-4C47-8773-59C7B2CF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A57-6198-46CB-9A78-C4F93A94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46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C57-456D-4EB7-9E5C-25231FCA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A61-E360-4366-89CC-D8373E86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96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556-2BE0-465E-90B3-903C9728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0353-6947-4CA2-B39D-CFD8A9D8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876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328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858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AF34F-5AFB-40E3-BF13-62BD2E604BC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0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R. Kelso Ca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nding On The Promi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nding on the promi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Christ my Kin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eternal a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His praises ring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y in the highe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ill shout and sin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nding on the promises of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168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ing,                   stand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Standing on the promises, standing on the promise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ing on the promises of God my Savi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ing,                  stand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Standing on the promises, standing on the promise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'm standing on the promises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nding on the promi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cannot fai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 howling stor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doubt and fears assai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the living Word of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hall prevail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nding on the promises of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168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ing,                   stand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Standing on the promises, standing on the promise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ing on the promises of God my Savi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ing,                  stand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Standing on the promises, standing on the promise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'm standing on the promises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nding on the prom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ow can s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fect, present clean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blood for m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nding in the liber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Christ makes fre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nding on the promises of Go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168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ing,                   stand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Standing on the promises, standing on the promise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ing on the promises of God my Savi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ing,                  stand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Standing on the promises, standing on the promise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'm standing on the promises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nding on the prom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Christ the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und to Him etern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love's strong c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coming dai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the Spirit's sw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nding on the promises of Go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168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ing,                   stand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Standing on the promises, standing on the promise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ing on the promises of God my Savi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ing,                  stand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Standing on the promises, standing on the promise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'm standing on the promises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6:54:17Z</dcterms:created>
  <dc:creator>Lanora Campbell</dc:creator>
  <dc:description/>
  <dc:language>en-US</dc:language>
  <cp:lastModifiedBy/>
  <cp:revision>1</cp:revision>
  <dc:subject/>
  <dc:title/>
</cp:coreProperties>
</file>