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B5B6F-72FF-4865-8920-D79780E8C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623-4DBC-4756-9553-D62E95B9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FB3-955F-42CE-BED8-04DD4D0F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C12-D12A-443F-B744-14BF9D33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E5A-4584-4263-92A5-CE1BD310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451-CE1F-472E-9B0D-EF3B68E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F1F-0D85-4535-8B35-0EEF42A2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382-295D-4B5A-959A-1C849D25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BE0-A565-4DBE-9966-66F0990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5DD-06B0-4681-A5FC-7086F3A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325-E3E6-44E3-99E8-27145CE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118-B2E7-487E-BC5E-8EAB513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016-AAF1-46E0-BB9A-2FB36E1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7F6C-975C-43A9-8758-E9A0301798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5 -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Isaac Watts, 1709 From Gesangbuch der Herzogl, Wirtembergischen Katholischen Hofkapelle, 17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Sing The Mighty Power Of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the mighty pow'r of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ade the mountains ri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spread the flowing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oad and built the lofty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the Wisdom that orda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to rule the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shines full at His comm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e stars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the goodness of the L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illed the earth with foo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ormed the creatures with His w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n pronounced them g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how Thy wonders are displa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'er I turn my ey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urvey the ground I t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gaze upo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's not a plant or flow'r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kes Thy glories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louds arise and tempests b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order from Thy thr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all that borrows life from Th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ever in Thy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v'rywhere that man can 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, God, art presen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24:15Z</dcterms:created>
  <dc:creator>Lanora Campbell</dc:creator>
  <dc:description/>
  <dc:language>en-US</dc:language>
  <cp:lastModifiedBy/>
  <cp:revision>1</cp:revision>
  <dc:subject/>
  <dc:title/>
</cp:coreProperties>
</file>