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720263" cy="64833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2720" cy="376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0"/>
            <a:ext cx="3367080" cy="49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0"/>
            <a:ext cx="3367080" cy="49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49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49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0581C4-B02F-4553-863E-19A0BBE731E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54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56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9799B-5A2B-40D5-A38A-A6E807245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80996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06040" y="3692880"/>
            <a:ext cx="80996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512D2-42B2-4CB0-B6BE-746D1A6FC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56480" y="170640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06040" y="369288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56480" y="369288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94172-AD05-4B8E-A657-820BD9ED8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26078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4560" y="1706400"/>
            <a:ext cx="26078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83440" y="1706400"/>
            <a:ext cx="26078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06040" y="3692880"/>
            <a:ext cx="26078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4560" y="3692880"/>
            <a:ext cx="26078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83440" y="3692880"/>
            <a:ext cx="26078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F8892-A9C0-442F-A02C-F4469C421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06040" y="1706400"/>
            <a:ext cx="8099640" cy="38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C2F0C-E295-4471-BF7C-C1A1AAB82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8099640" cy="3802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A7C00-09AC-4317-9C9F-AFADE9BE5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3952440" cy="3802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56480" y="1706400"/>
            <a:ext cx="3952440" cy="3802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C5E60-B5A6-45B3-B2B0-9BC663958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2AA49-7C01-40DE-8747-B4ECFDACC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06040" y="585360"/>
            <a:ext cx="809964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6119B-AAFF-42FE-95F8-8045CCB4C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56480" y="1706400"/>
            <a:ext cx="3952440" cy="3802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06040" y="369288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030A3-C6C4-45B1-B3A1-FF7A3479B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3952440" cy="3802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56480" y="170640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56480" y="369288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31066-2FF9-4EB7-B329-4C71936E7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56480" y="170640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06040" y="3692880"/>
            <a:ext cx="80996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D6C4E-F51E-4279-BA6B-EBB6E69C4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06040" y="1706400"/>
            <a:ext cx="8099640" cy="3802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06400" y="5613120"/>
            <a:ext cx="2092320" cy="39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560" y="5613120"/>
            <a:ext cx="2847960" cy="39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13720" y="5613120"/>
            <a:ext cx="2092320" cy="39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298840-FF73-4329-95C4-2668D0878AE2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7120" y="357120"/>
            <a:ext cx="900612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ge 198 - 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Psalm 145 - Dwight Armstro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O Lord, Thou Art My God And King!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 Lord, Thou art my God and King!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'll Thee exalt, Thy praise proclaim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will Thee bless, and gladly s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ever to Thy holy name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Lord our God most gracious is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Him compassions also flow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mercy He is rich to bles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t unto anger He is sl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57120" y="357120"/>
            <a:ext cx="900612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ers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all the Lord is very good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'er all His works His mercy is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y works all praise to Thee afford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y saints, O Lord, thy name shall bles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y Kingdom's glory they shall show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 shall Thy power also tell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that men's sons His deeds may know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is kingdom's grace that doth exce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28T15:03:57Z</dcterms:created>
  <dc:creator>Lanora Campbell</dc:creator>
  <dc:description/>
  <dc:language>en-US</dc:language>
  <cp:lastModifiedBy/>
  <cp:revision>1</cp:revision>
  <dc:subject/>
  <dc:title>Hymnal</dc:title>
</cp:coreProperties>
</file>