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D51B7-52B9-4BC3-807A-CD85B5225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9F0-8502-4865-B79C-5D37CFBB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DB0-243B-452E-96BD-28D4BEBC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630-891A-433E-B9D0-1B7B1349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F877-875E-46D1-BAE3-4173F2E7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3C7-DB17-4E35-B336-2F35A2DC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1A6-D77F-40BC-9DB2-BBF6A72C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94E-90BA-408C-9602-13899BF7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748-D703-41CF-A61D-AB10A176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2B0-AD0A-445F-887B-4A4F4D15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BDD-2F22-42D2-9D7D-36BF74F2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892-0087-4B0F-BAE6-3290DCAF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AFC-0884-47A7-A7A2-DA5A70CD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AE2E5-FA75-4DB2-BCC0-97FBEF73CC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8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50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ive Thanks And Offer Prai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, O my people, and I'll spea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Israel by nam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st you I will testify, for God your God I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wls are all to me well know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mountains high do yiel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lso claim as all my 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ld beasts of the 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 all your vows to God most hig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anks and offe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en the day of trouble 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'll hear and answ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you that I would eat of fle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ask for sacrif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y, rather unto Me your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anks and offe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o the wicked man God say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mention my comma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take my compact on your li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ast my words behi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this, you who forget your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y instruction ha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shall none deliver yo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is is my repro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7:32:29Z</dcterms:created>
  <dc:creator>Lanora Campbell</dc:creator>
  <dc:description/>
  <dc:language>en-US</dc:language>
  <cp:lastModifiedBy/>
  <cp:revision>1</cp:revision>
  <dc:subject/>
  <dc:title>Hymnal</dc:title>
</cp:coreProperties>
</file>