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97AF7-F769-4BD9-8B1B-E4D595EE2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050-9DE0-48B7-8990-2C82E26C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203-F698-4B6E-A1BC-2477B990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7CD0-9985-4BFB-95A0-97D81CE1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860-8B4B-4EC7-9DE2-AAFD1CB8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585-3692-406F-92DB-8A6F8353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5286-0ACE-46E5-9070-E0B521A1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CA9-2265-4EDD-85BF-02473919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C50-B933-4EC7-917D-703D00A3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632E-B3CC-4136-820F-81ABE2CB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2A71-2370-4C5A-8EFC-069B28BA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321-290D-4A32-90D8-7E195FAB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FC3-B415-45EC-8745-54CE1F51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AECA8-2874-4C80-A331-AEDB070C35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0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46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allelujah!  Praise Go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 unto the Eterna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 your praises to Him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t your trust not in morta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n them is no help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Praise God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ternal shall reign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hall reign for all age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King and our Go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 unto the Eterna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your praises to Him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t was who made heave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th and sea and all thing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Praise God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ternal shall reign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hall reign for all age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King and our Go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 unto the Eterna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your hope be in Him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remains true for e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gives justice to al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Praise God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ternal shall reign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hall reign for all age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King and our Go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5:21:33Z</dcterms:created>
  <dc:creator>Lanora Campbell</dc:creator>
  <dc:description/>
  <dc:language>en-US</dc:language>
  <cp:lastModifiedBy/>
  <cp:revision>1</cp:revision>
  <dc:subject/>
  <dc:title>Hymnal</dc:title>
</cp:coreProperties>
</file>