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1660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C1ACA-4D68-47D8-AE39-C18F4DD08B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EC6F-171C-45BB-A872-132710CD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8928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A0FB-A9B4-4B03-980F-78AE2802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2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C13-ECB2-49F0-B749-F6359E5C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876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876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BAC0-E610-4C4A-BE0B-6AE1F3161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A9FC-51F1-4616-B5AA-7B4C5A5E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5E8A-1A12-49C2-B341-D01F9F17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9FBA-31F0-445C-806F-16B8BFEA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8054-C6F8-443E-9DBC-26CFE630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7160"/>
            <a:ext cx="809316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3AF9-F191-4BE5-9686-2A9F3C0F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83CC-3917-4730-AA61-3BFB2BC8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2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089D-4966-44E6-BCD8-B0944415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37E1-7282-4AC6-A000-CBE48289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8440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328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840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26C9D-DCAA-46C8-9561-E8F4055D436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26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0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9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 Will Praise Thee, O Eternal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praise Thee, O Eterna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show forth Thy great work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Thou Most High God, Eterna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sing praise to Thy Nam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my foes shall turn and stumbl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y presence they shall fal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ternal judges rightl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forever He will ru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Eternal lives forev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destroys all wicked men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removes their name forev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n their memory die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He judges all with fairnes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ill rule with equity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who know His Name shall trust Him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ill not forsake His 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 Lord who dwells in Zio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g to Him and praise His Nam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His deeds among the nations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l of all His glorious works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avenges all His peopl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ill not forget their cry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 Lord who dwells in Zion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g to Him and praise His Nam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6:12:12Z</dcterms:created>
  <dc:creator>Lanora Campbell</dc:creator>
  <dc:description/>
  <dc:language>en-US</dc:language>
  <cp:lastModifiedBy/>
  <cp:revision>1</cp:revision>
  <dc:subject/>
  <dc:title/>
</cp:coreProperties>
</file>