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F0673-B8CF-425E-9000-474152C6D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7AC-46D5-4A0B-A673-FEE69FB8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EBD-A732-4934-B2D0-60496B37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546-6EDA-47B3-9293-6C1D43F0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9D3-59CB-4BC9-9E83-26A0345F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2C6-2321-4C91-9BC0-5F15DF38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0BE-D236-4287-82B9-0B18E3F4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483-4319-4D1D-99C8-457D6EFD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670-C5DA-429D-A85F-9C619A5B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D93-C0BF-49C1-8894-A51FCFEB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315-4E8C-4337-8A42-CB5DACB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8AA-3D24-4018-8990-BDCCE099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EDB-19BF-4593-86CA-A1F1DCE6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05757-D677-4866-B9F6-87F3F7F7D1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5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ve Me, O God, By Thy Great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me, O God, by thy great na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udge me by thy streng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rayer hear, and to my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 give ear to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y that strangers are t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up against me ri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ressors seek my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care not at all fo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ghty God my helper i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, therefore I am bol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aketh part with ev'ry 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does my soul uph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ll my watchful f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their evil deeds repa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for thy truth's sake cut them off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weep them all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ee-will off'ring I to Th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bring in sacrifi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of thy name, for it is g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praises will I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he hath delivered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adversiti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desire my eye 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n upon my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9:35:03Z</dcterms:created>
  <dc:creator>Lanora Campbell</dc:creator>
  <dc:description/>
  <dc:language>en-US</dc:language>
  <cp:lastModifiedBy/>
  <cp:revision>1</cp:revision>
  <dc:subject/>
  <dc:title>Hymnal</dc:title>
</cp:coreProperties>
</file>