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1B44E-79FD-4DF2-8554-AA58A42A7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CDB-68CF-4B97-A06A-178DC7BE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67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13D-B219-4441-9BB3-6B228953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46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67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67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768-DA68-4A2C-BAD1-3D634D8A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46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46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67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67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67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A18-6834-43D6-BD07-85519DFD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4600"/>
            <a:ext cx="80913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F2B-CAE4-438C-8364-65CB84B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80913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485-39E0-49B0-B473-209E9E8F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394848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4600"/>
            <a:ext cx="394848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A48-ACE6-4924-AE07-DF77EE9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ABF-0840-49A4-B12C-74B9FFA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485-C101-4217-845B-CFBB80E2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4600"/>
            <a:ext cx="394848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67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79A-CA21-4A18-B51C-5519F79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394848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46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67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AEC-5AC3-4383-A2C6-C20C46B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46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46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67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6DE-F81F-40AF-B137-7FB6368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4600"/>
            <a:ext cx="80913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004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FE2A5-EC25-4BE0-82C1-471847C2EA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31880" y="357120"/>
            <a:ext cx="8632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16 -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salm 12 - Dwight Armstr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y Word, Eternal, Is Truth Everm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us, O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merciful cea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fulness fail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ked men have their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l speak li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with double heart speak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hall cut off th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speak boast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2240" y="357120"/>
            <a:ext cx="854244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men are crush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needy have sig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ill ari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liverer shall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'll set them saf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promise is pu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Word Eter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ruth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1880" y="357120"/>
            <a:ext cx="8632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's words are fal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empty and v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tters li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s neighbor he boa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ut their tr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ir flattering spee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ed are 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sons of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38:31Z</dcterms:created>
  <dc:creator>Lanora Campbell</dc:creator>
  <dc:description/>
  <dc:language>en-US</dc:language>
  <cp:lastModifiedBy/>
  <cp:revision>1</cp:revision>
  <dc:subject/>
  <dc:title/>
</cp:coreProperties>
</file>