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1874-EB8A-434F-A49D-A403851F4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93A-6516-4411-9103-1A9610C5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778-98E3-4DD1-A568-7FA39C59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FD7-B660-4E1A-B144-BA6B27BB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440" y="170640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440" y="3692880"/>
            <a:ext cx="26078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584-5EA8-4349-AA06-B3578981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68B-CA81-4CEC-AC3C-D60FEAA1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0E0-C84A-4E99-A361-CCC023B1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FD9-76A1-41AA-8F86-C2CED4F2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DA6-F9FB-414C-87B4-11E51C85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5360"/>
            <a:ext cx="8099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902-9790-4CBC-9BBE-E624AC01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9F0-D75B-45BA-BD68-34F156C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480" y="369288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E64-8287-4549-9539-B852E07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480" y="1706400"/>
            <a:ext cx="39524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92880"/>
            <a:ext cx="8099640" cy="181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C2B-D857-4C5E-A54C-C122232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5360"/>
            <a:ext cx="8099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9640" cy="38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79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923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BCA96-046E-474B-AC0D-D43351D765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7120" y="357120"/>
            <a:ext cx="900756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essed Is The Nation God I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is the nation God is f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ople He has chos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 looks down from heav'n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beholds all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is place above He looks on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es their ev'ry do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es their sin, He sees their work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eholds all of those who fea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you righteous in the Lord, rej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s of praise befit the up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skillfully upon the string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to Him a joyful new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Word of God is right and ju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is works are true and faithf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loving kindness fills the eart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loves righteousness and 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Word of God the heav'ns were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s of the sea He gath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torage places laid the deep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the earth reve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eople stand in awe of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spoke and earth exi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commanded it stood fast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is word were the heav'ns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s will not be saved by armie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a mighty man delive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e is saved by his own streng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by some othe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eyes of God are on the ju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fear and worship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ait for Him, who hope for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trust in the God of Isr'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4:06:03Z</dcterms:created>
  <dc:creator>Lanora Campbell</dc:creator>
  <dc:description/>
  <dc:language>en-US</dc:language>
  <cp:lastModifiedBy/>
  <cp:revision>1</cp:revision>
  <dc:subject/>
  <dc:title/>
</cp:coreProperties>
</file>