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74EC3C-CFE7-41CD-81AE-32175D1061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B8D8-7FEE-411B-B3F6-8A5E1052F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DC23-0DE3-4EC5-A776-87953C4F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8470-319A-4016-84E7-400F340F0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DA91-D95F-4553-8EB0-24A0D4224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78F0-B3E0-4483-9305-00262E7E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3B7B-FBC0-4842-8716-A220ED22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4A00-B366-4469-8760-A51DC912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2B19-B0AE-46D6-8001-AD0465DF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BB8A-9EFB-4A27-A76A-AAE28AC9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D8FA-4955-4B02-AA27-9283028C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5FB4-E21D-4A81-9D1C-4B799F1F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967F-EBD3-46F3-BB34-2AF6D7AB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40F0DA-B2A1-4426-A714-F66A97C31FD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11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74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Day And Night Are Thi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unt and flood were cleft by The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ighty streams were dri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ay and night are Thin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ou didst light and sun provi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ee the borders of the ear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re settled so to b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mmer and the wint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 created were by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foolish people have blasphem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y Name Eternal Go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spiteful foes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e reproached in memory reco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ve not Thy dove unto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tude of wicked me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ngregation of Thy poo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get not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, to Thy cov'nant have respec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in ev'ry cl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earth's dark places fill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homes of cruelty and cr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not all those who are oppres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urn again with sham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ose who poor and need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give praises to Th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8T19:10:41Z</dcterms:created>
  <dc:creator>Lanora Campbell</dc:creator>
  <dc:description/>
  <dc:language>en-US</dc:language>
  <cp:lastModifiedBy/>
  <cp:revision>1</cp:revision>
  <dc:subject/>
  <dc:title>Hymnal</dc:title>
</cp:coreProperties>
</file>