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9C9B6-4CFB-4864-A749-540958DDF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4CD-CC25-4CCA-BF23-FD1394D9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316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FD9-D07F-4343-8B6A-D3932745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316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097-6820-4C55-8937-ABFAFBD0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316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818-EC3F-4519-85CF-9010A480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316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20E-5F0D-4F7E-BD99-6DA564E1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316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539-CF43-4299-BD08-63101B33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316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6C2-7864-41D2-8880-50BC66D0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316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28C-6698-4CE2-A9ED-F1B76181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093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C03-8FB7-44F1-A066-69EDDDFE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316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39B-29E7-4C82-BA65-F2134FC0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316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EFF-3106-44FD-9E47-A20B1E5D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316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963-24E0-4F10-A001-06A5F991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316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62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14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858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201DF-B4B2-4A00-9039-F8D0FDF1BF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7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49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tions Give Ear, Both Low And Hig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s give ear, both low and hig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 and poor all you peopl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shall speak wisdom and tru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peak understa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arable will I submit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render this hym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should I fear in evil tim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' my foes are around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like to boast of their great weal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cannot save one sou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! Never die? But die they mus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ls and wise, all must per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wealth is left to other m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ir home is  the  grave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h is  the fate of those who l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ing in their great w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God redeems my soul from dea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ul shall he rece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not afraid when one is ric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when his wealth increas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while he lived, his soul he bless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l men gave him prai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 shall he die; his wealth shall cea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lacked understa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7:22:40Z</dcterms:created>
  <dc:creator>Lanora Campbell</dc:creator>
  <dc:description/>
  <dc:language>en-US</dc:language>
  <cp:lastModifiedBy/>
  <cp:revision>1</cp:revision>
  <dc:subject/>
  <dc:title>Hymnal</dc:title>
</cp:coreProperties>
</file>