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B57E7-113B-4832-90C7-E19D05FA7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137-D90C-45D2-816A-DE647CD2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648-C2E1-40A9-9B25-7BD99FE1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3CC-700D-4BDE-9BB7-EDDC63D9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8DF-356D-4871-8132-6E81B09F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E60-2163-414A-BF73-96F36198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6C7-FE21-4B4F-AB04-2D88DF3C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4BA-64F1-4425-BE2C-81DE0ABF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AF7-2AC0-4985-B0A8-644EB08A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50B-AB6D-4D48-9F19-F14E984C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199-1FE2-4D33-A7FA-7B8A827D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C2C-B89E-4F36-ACF0-C07DBFC5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9FB-9C62-4CA7-A60D-8A68C14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C1101-94BE-473E-80C0-3686B408A5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2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olliot S. Pierpont, Conrad Ko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 The Beauty Of The Ear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beauty of the ear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beauty of the ski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ove which from our bir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 and around us li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, to Thee we 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, to Thee we 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beauty of each hou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day and of the n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ll and vale, and tree and flow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 and moon, and stars of l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, to Thee we 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joy of human lo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ther, sister, parent, chil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 on earth and Thee abo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ll gentle thoughts and mil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, to Thee we 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each perfect gift of Thi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race so freely giv'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s human and divi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r's of earth and buds of heav'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, to Thee we 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our hymn of grateful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y church, that evermo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fteth holy hands abo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fering up on every sho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r pure sacrifice of lo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6:15:58Z</dcterms:created>
  <dc:creator>Lanora Campbell</dc:creator>
  <dc:description/>
  <dc:language>en-US</dc:language>
  <cp:lastModifiedBy/>
  <cp:revision>1</cp:revision>
  <dc:subject/>
  <dc:title>Hymnal</dc:title>
</cp:coreProperties>
</file>