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8F471-B9E0-4DAD-9719-1446DC9590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EBD7-B733-46FF-92B0-B5D6001D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2EF6-2CDB-411C-9E5E-1063CA6A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4721-B915-487D-BFFB-38184853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BBBE-9198-4166-A037-479093AD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26E4-DCFF-45B0-887B-E5CBF6EE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75F6-7897-4E49-A144-45038EBA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D2D8-26CD-4FCD-AB1F-DDBD153E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6E7A-8638-4C52-B24A-BED32C90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C7FA-CB3C-4ABA-81EF-61ACCE53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8352-468F-4EDB-A468-DBEC6280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DE59-A805-47F3-87E9-874A5152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0088-668B-4412-9C6D-8087A83C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2EC6D-13A8-46B5-82DF-80A7AA953F8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96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John H. Sammis, 1846-1919, Daniel B. Towner, 1850-19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ust And Obe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we walk with the Lor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light of His W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 glory He sheds on our way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we do His good wil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abides with us stil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ith all who will trust and obe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2440" y="357120"/>
            <a:ext cx="901080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st and obe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re's no other w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be happy in Jesu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to trust and ob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a  shadow can ris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a cloud in the ski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His smile quickly drives it away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a doubt or a fea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a sigh or a tear can remai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we trust and obe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89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st and obe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re's no other w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be happy in Jesu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to trust and ob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a burden we bea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a sorrow we sha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our toil He doth richly repay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a grief or a los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a frown or a cros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is blessed if we trust and obe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89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st and obe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re's no other w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be happy in Jesu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to trust and ob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in fellowship swe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will sit at His fee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 we'll walk by His side in the w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He says we will d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He sends we will go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ver fear, only trust and obe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st and obe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re's no other w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be happy in Jesu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to trust and ob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8T14:36:06Z</dcterms:created>
  <dc:creator>Lanora Campbell</dc:creator>
  <dc:description/>
  <dc:language>en-US</dc:language>
  <cp:lastModifiedBy/>
  <cp:revision>1</cp:revision>
  <dc:subject/>
  <dc:title>Hymnal</dc:title>
</cp:coreProperties>
</file>