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E8D25-6DF9-4013-A1B4-CE246BEFB8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220D-2409-45AC-AC9E-0155B4E2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7549-773E-4159-9B42-DCD7A3F3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055E-8407-4E94-882C-4D7B650C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4830-CE93-425F-985A-130ABDE2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4B6-4AD2-48D3-AD0A-DA57E4F3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D2D0-F681-409D-8410-812590C7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36FB-1B80-4996-B105-A13D851A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E531-E5E0-479A-9E65-5E33F61B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571-9EDE-43F0-9837-1BC8D1A5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09B-C0F9-4F96-8FA0-5B650138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8991-754E-4CAE-9A3D-FE2E42FE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594-507C-42E6-ADD3-00873A6B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D02E8-9FD2-486B-A857-42A8BF40E2C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78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35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aise God's Nam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elujah! Praise God's Name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His Name, of whom you serv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ho stand within God's ho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ll praise His Name within His court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the Lord, for He is go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 your praises to His Na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has chosen for Himself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His prized possession,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is great above all go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e pleases that He do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heav'n and on the eart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seas and depths of oceans wid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ses mists o'er all the eart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s the lightning and the rai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n Egypt He it was stru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born both of man and b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ent signs and wonders gre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midst of Egypt's lan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nations did He strik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mighty kings for Isra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Your Name Eternal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Your fame forever mor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endure to ev'ry age an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ions yet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5T14:22:42Z</dcterms:created>
  <dc:creator>Lanora Campbell</dc:creator>
  <dc:description/>
  <dc:language>en-US</dc:language>
  <cp:lastModifiedBy/>
  <cp:revision>1</cp:revision>
  <dc:subject/>
  <dc:title>Hymnal</dc:title>
</cp:coreProperties>
</file>