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182B6-2728-4356-A708-54AB9D08B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7473-5445-498B-95A8-E80A90A0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222-5A45-4D09-BABE-33E2B5D0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BF4-3C3E-4D1F-B0B2-B864C221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206C-2366-4C2A-84E9-8FD7AD09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7FF4-366F-4CA9-95A4-FED00957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C31-AE1D-4B77-B3A3-36F31F6F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A11-F65B-4B03-A0AA-A2E714FF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861-CE26-427E-BFE5-F355DA70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DEC8-6CAC-430F-AFA3-F3516C77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031C-BA2F-4638-BD6B-5C1E9107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1C8-99E2-435A-80DE-5290B63A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9FF3-4111-4E89-B7C9-2A587BC3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F2011-32A7-499A-B9E1-D06EC63580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2016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2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81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ng Songs Of Praise To Him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the Eternal with a psal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 songs of praise to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 on the timbrel and the har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ake a joyful nois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statute and a l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as ordained for 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appointed time to kee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do on God's solemn fe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w on the trumpet; sing a psal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joyful noise to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delivered us from s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us from Egypt's l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ried to God in bondage the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eard and answered u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under clouds He answered u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Hear O my people, hear my words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His own people would not he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not hear His vo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only wanted their own w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in their lu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O that My people would obe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ing in all my way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hould have soon delivered the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ed my hand against their foes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4:46:33Z</dcterms:created>
  <dc:creator>Lanora Campbell</dc:creator>
  <dc:description/>
  <dc:language>en-US</dc:language>
  <cp:lastModifiedBy/>
  <cp:revision>1</cp:revision>
  <dc:subject/>
  <dc:title>Hymnal</dc:title>
</cp:coreProperties>
</file>