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7022E-1193-4ECC-8D2B-E0B1A0679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4C8-AF8B-4166-97A9-68544513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A92-DC7C-4349-A718-F14C72AF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89D-72C8-4538-A67F-60668395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0640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3693240"/>
            <a:ext cx="26082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577-2F37-4DC2-B26E-AFB53A70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BF6-C332-44D0-AC4C-C4AA1047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139-9268-4359-AF70-847A5DB5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D57-85F9-4A6A-89F2-EB378F04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D53-1D71-40D4-BE42-ED926F37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720"/>
            <a:ext cx="81010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6DB-C23F-4CA8-B252-F8D87EA8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33B-8DF6-48D1-A107-D0D2464A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7200" y="369324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A87-66B2-411B-A225-02ABD239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706400"/>
            <a:ext cx="395316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3240"/>
            <a:ext cx="810108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8AF-5495-45A6-99C0-AD9DA0B3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720"/>
            <a:ext cx="810108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1010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941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9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37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96259-94CA-4C08-AA06-DBD51F30284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5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. Austin M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The Gar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ome to the garden al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the dew is still on the rose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voice I hea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lling on my ea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on of God disclos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8920"/>
            <a:ext cx="900612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walks with me,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talks with 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tells me I am His ow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joy we share as we tarry the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other has ever kn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peaks, and the sound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voice Is so swee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irds hush their singing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melody That he gave to 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in my heart is ring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walks with 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talks with 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tells me I am His ow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joy we share as we tarry the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other has ever kn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d stay in the garden with H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the night around me be fall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He bids me go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the voice of wo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voice to me is call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walks with me,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talks with 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e tells me I am His ow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joy we share as we tarry the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e other has ever kn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9:43:27Z</dcterms:created>
  <dc:creator>Lanora Campbell</dc:creator>
  <dc:description/>
  <dc:language>en-US</dc:language>
  <cp:lastModifiedBy/>
  <cp:revision>1</cp:revision>
  <dc:subject/>
  <dc:title>Hymnal</dc:title>
</cp:coreProperties>
</file>