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BEB94-9BEA-49DA-B3F8-0986FDCD5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F38-D0A9-44D5-9EB8-0942CDD8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D13-07E9-4034-87C2-FC8E0F2F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91B-F4FA-4AAE-AC3B-35B12C8D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C3A-6A1D-484F-9209-48BA3369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6C8-9B11-48CA-8033-6FC005B8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210-5B7C-4E0C-A619-528B7D3C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356-110C-4F3F-B72D-E24994F2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E9B-630E-42B6-B608-1B641AD8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AED-86A3-4ED6-A2F8-2CC4E6B8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208-711F-4E71-B737-34D1C5F7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39D-952B-4F12-B370-9CC1EB2A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811-3CDB-4992-A34F-F2104D65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56963-AB8A-42BD-BB44-6F28986518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Arial"/>
              </a:rPr>
              <a:t>Page 131 - </a:t>
            </a:r>
            <a:r>
              <a:rPr b="0" i="1" lang="en-US" sz="1400" spc="-1" strike="noStrike">
                <a:solidFill>
                  <a:srgbClr val="eeeeee"/>
                </a:solidFill>
                <a:latin typeface="Arial"/>
              </a:rPr>
              <a:t>Psalm 8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eeeeee"/>
                </a:solidFill>
                <a:latin typeface="Arial"/>
              </a:rPr>
              <a:t>How Long, Eternal, Hide Thou Aw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Arial"/>
              </a:rPr>
              <a:t>How long, Eternal, hide Thou aw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Arial"/>
              </a:rPr>
              <a:t>When will Thy wrath not burn like a fi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Arial"/>
              </a:rPr>
              <a:t>Wherefore hast Thou made all men in v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Arial"/>
              </a:rPr>
              <a:t>Thou, God, remember, fleeting i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an can live and never see dea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escape the pow'r of the gr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former love, O my G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unto David, Thou hast pled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, Eternal, Thy slave is scorn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 do bear insults of the wor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th Thy foes mock Thy chosen 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Eternal, Always.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9:23:25Z</dcterms:created>
  <dc:creator>Lanora Campbell</dc:creator>
  <dc:description/>
  <dc:language>en-US</dc:language>
  <cp:lastModifiedBy/>
  <cp:revision>1</cp:revision>
  <dc:subject/>
  <dc:title>Hymnal</dc:title>
</cp:coreProperties>
</file>