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03217-B72D-45F1-A31E-63241A6DB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8BA-6C45-43B1-9619-4120EFD0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BCB-28B8-4962-B0E3-51A64D6E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BB3-041F-4A7D-A73F-A4150465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3EB-F0C9-47E9-9EC8-32F17F4B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49C-5EF2-4732-8A55-A88AE3F1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789-B8F7-4E53-AD1D-CE1C2FF4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CE7-EB8B-4FAB-BF2F-1EA99E09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EDF-B4CD-4604-A0A0-27E8B3BE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02C-991A-48BA-98BD-70879073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E41-E4CD-4D54-BCCE-4B9D712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D5F-D38E-45D6-B055-4B396E9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2BA-72A7-4A92-BCA3-0D52E55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24D51-99CA-4DDA-9DBA-A08EAAEF1E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ry Ann Thomson, 1868, James Walch, 18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Zion, Has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Zion, haste, thy mission high fulfill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ell to all the world that God is l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 who made all nations is not wi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oul should peris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t in shades of 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sh glad tidings, tidings of peac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dings of Jesus, redemption and re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 how many  thousands still  are l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und in the darksome prison house of s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none to tell them of the Savior's dy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of the life He died for them to w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89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sh glad tidings, tidings of peac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dings of Jesus, redemption and re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laim to every people, tongue, and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God, in Whom they live and move, is l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how He stooped to save His lost cre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ied on earth that man might live in l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sh glad tidings, tidings of peac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dings of Jesus, redemption and re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of thy sons to bear the message glorio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of thy wealth to speed them on their w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 out thy soul for them in prayer victorio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thou spendest Jesus will rep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sh glad tidings, tidings of peac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dings of Jesus, redemption and re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7:05:04Z</dcterms:created>
  <dc:creator>Lanora Campbell</dc:creator>
  <dc:description/>
  <dc:language>en-US</dc:language>
  <cp:lastModifiedBy/>
  <cp:revision>1</cp:revision>
  <dc:subject/>
  <dc:title>Hymnal</dc:title>
</cp:coreProperties>
</file>