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07508-8427-4E31-BE00-D3F6109E2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30D-3B64-48C9-9487-3701DFD1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9AE-2AF1-4AED-B9C8-6C097ABD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160-3258-4C1B-AF7D-E41FCE33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0FA-B6B1-46B1-9E17-C59834EF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0B9-3A9A-4306-8A18-8E74C00C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C39-62C6-4BD9-9ACB-380C0EFB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A630-7406-4BD9-8EEB-97433373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8DB-F186-4EC8-A8DE-EEF3BE0F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046-4760-4296-AC76-96B01784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E8A-AF7A-4EED-888E-E3F9D37A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E13-CAA0-425F-8AC5-BE66225E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F5F-14B9-4BEF-BA6E-4D898705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47E36-90C5-4EAF-A948-D2E55BE64A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3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9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Come And Let Us Worship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ome, let us in songs to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cheerful voices rai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oyful shouts let u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 Of our salvation prai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His presence let us c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raise and thankful voi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sing psalms to Him with gr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ake a joyful no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God, a mighty God and K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ve all Gods He i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pths of earth are in His h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ength of hills is 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m the spacious sea belo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the same did mak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y land also from His h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form at first did t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ome, and let us worship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bow down witha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our knees, before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Maker, let us f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He only is our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e His people a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f His pastu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sheep In His Almighty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9:40:34Z</dcterms:created>
  <dc:creator>Lanora Campbell</dc:creator>
  <dc:description/>
  <dc:language>en-US</dc:language>
  <cp:lastModifiedBy/>
  <cp:revision>1</cp:revision>
  <dc:subject/>
  <dc:title>Hymnal</dc:title>
</cp:coreProperties>
</file>