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670F7-043E-4A75-B4DC-EDFF1EDFE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19F-415D-44A3-825F-BFA794C9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71E-FC4E-483E-8D26-A4387B2B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5C8-2557-4163-B2D4-E70A1D06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77C-034B-4A41-8E5A-97AC3FD8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E65-AB19-47CE-B75D-844F583D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CB0-328A-4A3A-BFEA-9673AECA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19F-C681-475E-B3CC-8C591D6F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6E6-C082-46CC-BC39-CB0226C9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18F-CED3-449E-9BEF-DB35F757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92A-D071-4E41-BCB7-2939E559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9A9-A7D1-4C8D-942E-1EC50421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0D4-D310-4739-9167-C67F96C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6846A-4359-4761-8017-8915D68C1B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1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lfred H. Ackley, 20th c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 L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erve a risen Savi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's in the world tod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now that He is liv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ever men may s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ee his hand of merc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ear His voice of ch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just the time I need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's always n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Christ Jesus lives toda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lks with me and talks with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ng life's narrow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salvation to impar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sk me how I know He liv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ll the world around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ee His loving c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o' my heart grows wea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ever will despa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now that He is le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' all the stormy blas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y of His appea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come at l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Christ Jesus lives toda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lks with me and talks with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ng life's narrow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salvation to impar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sk me how I know He liv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oice, rejoice, O Christia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up your voice and 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ernal hallelujah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Christ the Kin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pe of all who seek Him,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elp of all who fi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other is so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good and ki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Christ Jesus lives toda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lks with me and talks with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ng life's narrow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, salvation to impar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e l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sk me how I know He liv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2:36:33Z</dcterms:created>
  <dc:creator>Lanora Campbell</dc:creator>
  <dc:description/>
  <dc:language>en-US</dc:language>
  <cp:lastModifiedBy/>
  <cp:revision>1</cp:revision>
  <dc:subject/>
  <dc:title>Hymnal</dc:title>
</cp:coreProperties>
</file>