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34FB0-B015-4407-850E-C6F84AE15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087-02F0-4423-9A15-A43C6512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9B8-602B-45D6-99FD-08B81CCB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7FB-EBDA-4C99-A7CD-CC3D94CE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057-3C43-49EA-B3FD-FC44BB54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956-F237-4082-AF41-8E97521C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FEC-E890-4898-A4D7-2D57C331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18C-8136-4C16-B6CC-46A3E85C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4F7-58E1-4472-BBA0-9720877F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EF3-3F81-46EC-8A9B-F5845556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F64-1B0F-4D69-89BE-BE4D4C18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1E2-C4A2-4B58-8187-165CAB60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59F-2561-494E-8E71-9D9D872E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CE546-630E-4243-B3B0-6A9C4B8756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ecil Frances Alexander, 1852 William H. Jude, 1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esus Calls U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calls us o'er the tumul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our life's wild, restless, se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 by day His sweet voice sounde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ying, "Christian, follow Me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calls us from the worshi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vain world's golden sto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each idol that would keep 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ying, "Christian, love Me more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our joys and in our sorrow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s of toil and hours of ea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He calls, in cares and pleasur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Christian, love Me more than these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call us! By Thy merci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ior may we hear Thy ca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our hearts to Thine obedie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e and love Thee best of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3:53:12Z</dcterms:created>
  <dc:creator>Lanora Campbell</dc:creator>
  <dc:description/>
  <dc:language>en-US</dc:language>
  <cp:lastModifiedBy/>
  <cp:revision>1</cp:revision>
  <dc:subject/>
  <dc:title>Hymnal</dc:title>
</cp:coreProperties>
</file>