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1F369-E073-44AC-AD96-9FEA4726D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20F-B83E-44A2-8ECE-BC6E9CBB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AEC-C350-4528-AA0C-D349762D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0C3-EF80-4B9A-AA2D-8C6AA719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F13-8969-4D1D-88FA-E0E725A6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1DA-CE58-45B7-9D42-D0258AFB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EFAD-4E7C-4C87-8FA1-CE5D012C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2452-291E-4159-BAFD-C905BF8E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5F1-2B31-4D5C-859B-4361971C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26C-F0CD-46D8-95A4-8E8EDE7A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A8C-4847-484A-BC00-7D3AE583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FC3-DDE5-476F-9206-B31C08F5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174A-DB50-4868-B6AA-B3B1CD57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5D3C3-8EC3-4096-9455-E8B55D28D82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7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30 - Orlando Gibb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y Hope Is In His W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from the depths to Thee I cri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voice, Lord, do Thou hear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o my supplication's voice g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attentive 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who shall stand, if Th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rd, should'st mark iniquit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yet with Thee forgiveness i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feared Thou mayest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ait for God, my soul doth wa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ope is in His wor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than they that for morning wat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oul waits for the L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ay, more than they that do wat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rning light to se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Israel hope in the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with Him mercies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mption also plenteous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 found with Hi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rom all his iniqu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r'el shall rede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17:10:44Z</dcterms:created>
  <dc:creator>Lanora Campbell</dc:creator>
  <dc:description/>
  <dc:language>en-US</dc:language>
  <cp:lastModifiedBy/>
  <cp:revision>1</cp:revision>
  <dc:subject/>
  <dc:title>Hymnal</dc:title>
</cp:coreProperties>
</file>