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E7014-032B-442F-BD51-3AE5E6D86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0B3-A1AF-4533-84B2-9D01BD41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856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626-6D10-4A7B-8B8E-B1192954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49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85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85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9C8-C80B-4922-8F81-552363DE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496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496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856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856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856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672-12E9-4D96-B221-443E9153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4960"/>
            <a:ext cx="8094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96A-7ADB-474A-83B2-5F8A9AD3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094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C82-5613-457C-95AD-22DB59DC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92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4960"/>
            <a:ext cx="394992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855-A538-4E16-BB55-3EBA13B3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0AB-E145-4358-83AF-4443F216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67A-2930-49A5-8A21-185678C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4960"/>
            <a:ext cx="394992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85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139-3510-4DA5-8E27-3771FFD1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92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49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85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536-9938-43C9-A8FC-10B743A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496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856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691-EE2E-4BD0-8924-F8E2BBC8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4960"/>
            <a:ext cx="8094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DDC02-6547-47A5-A765-313E9B5DDB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seph Scriven, C.C. Con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A Friend We Have In Je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 friend we have in Jes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ur sins and griefs to bea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 privilege to car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'rything to God in pray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, what peace we often forfei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, what needless pain we bea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because we do not car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'rything to God in pray'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we trials and temptation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trouble any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never be discourag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it to the Lord in pray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e find a friend so faithfu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ill all our sorrows 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knows our ev'ry weakn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it to the Lord in pray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e weak and heavy lad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mbered with a load of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ous Savior, still our refu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it to the Lord in pray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y friends despise, forsake the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it to the Lord in pray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arms He'll take and shield the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 wilt find a solace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08:21Z</dcterms:created>
  <dc:creator>Lanora Campbell</dc:creator>
  <dc:description/>
  <dc:language>en-US</dc:language>
  <cp:lastModifiedBy/>
  <cp:revision>1</cp:revision>
  <dc:subject/>
  <dc:title/>
</cp:coreProperties>
</file>