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EF937-FBA2-4C68-9DE2-9D7130866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90B-F42F-49B2-9F70-9D674D3F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5B2-F559-49C5-9451-056EAE6A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E55-0C37-438E-B7DA-6E4D121B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AC8-8BCC-4094-AA9F-A1DC9912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3EA-3051-47BA-85CF-7FD16E03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7C3-2A78-4A91-A36F-6B415057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310-1039-4DAD-9236-DE9BD499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A5A-35C6-49C0-8520-6FB724A6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9E6-F1FD-464B-9004-469CC072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E99-9258-4766-AC3E-6D88E984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AB3-F70C-47A9-BCD2-7E824E1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3E2-F70E-4F93-AF17-9DFFD07D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50542-CB83-4D07-9E24-D3C14F33A7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3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ALLS CREEK, B.B. McKinney, 19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rever He Leads I'll G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up thy cross and follow Me,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eard my Master s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I gave My life to ransom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render your all today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follow my Chr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ves me s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drew me closer to His sid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ought His will to know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at will I now abid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follow my Chr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ves me s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may be thro' the shadows d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o'er the stormy se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ake my cross and follow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e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follow my Chr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ves me s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art, my life, my all I b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rist who loves me so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my Master, Lord, and K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follow my Chr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ves me s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He leads I'll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9:11:45Z</dcterms:created>
  <dc:creator>Lanora Campbell</dc:creator>
  <dc:description/>
  <dc:language>en-US</dc:language>
  <cp:lastModifiedBy/>
  <cp:revision>1</cp:revision>
  <dc:subject/>
  <dc:title>Hymnal</dc:title>
</cp:coreProperties>
</file>