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AFB41-8C13-49E6-A303-B7EC96140E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37E-C617-47E4-8E18-B3536B44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F1D4-DE4F-4EF0-A197-1EC814D1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CE8A-9D4A-4658-A1C9-7D51B3B8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2B9-9BAA-4612-8731-45C85DEB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B33-771F-4EFC-92E4-C4509037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6A41-5E5D-48DD-A6C5-02197ACB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E563-F911-4796-8E79-5E1FA23F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5145-3129-4AFC-BD4C-0F01B946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4A1-E593-493B-80DB-23D60133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AE04-3AA9-4A3B-8974-F6AE5428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9B6-B043-4DD4-A941-DDEFE6EE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946-5E33-4528-BB8B-CA9D52C5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0E874-4B08-47AD-B5CD-4B38B80C038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89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Katherine Hankey, William G. Fis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 Love To Tell The St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ove to tell the s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unseen things abo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Jesus and His glo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ove to tell the sto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I know 'tis tru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satisfies my long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nothing else could 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ove to tell the stor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will be my theme in gl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ell the old, old st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Jesus and His l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ove to tell the stor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wonderful it se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 all the golden fan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all our golden drea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ove to tell the sto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did so much for 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at is just the rea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ell it now to th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ove to tell the stor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will be my theme in gl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ell the old, old st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Jesus and His l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ove to tell the stor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'Tis pleasant to repeat what seem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time I tell i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wonderfully swe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ove to tell the sto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some have never he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ssage of salv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God's own holy W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ove to tell the stor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will be my theme in gl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ell the old, old st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Jesus and His l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ove to tell the s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ose who know it b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m hungering and thir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ear it, like the r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hen, in scenes of glo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ing the new, new so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'twill be the old, old s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I have loved so lo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ove to tell the stor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will be my theme in gl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ell the old, old st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Jesus and His l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23:53:39Z</dcterms:created>
  <dc:creator>Lanora Campbell</dc:creator>
  <dc:description/>
  <dc:language>en-US</dc:language>
  <cp:lastModifiedBy/>
  <cp:revision>1</cp:revision>
  <dc:subject/>
  <dc:title>Hymnal</dc:title>
</cp:coreProperties>
</file>