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8BF16-F654-43D3-83CB-B09C6A570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8AE-C01E-4F54-8355-4F5CB2F1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3040" y="878040"/>
            <a:ext cx="7499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1873080"/>
            <a:ext cx="74991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03040" y="3637800"/>
            <a:ext cx="74991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6F5-2B0C-4603-B36B-45F9B282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3040" y="878040"/>
            <a:ext cx="7499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03040" y="1873080"/>
            <a:ext cx="365940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5680" y="1873080"/>
            <a:ext cx="365940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03040" y="3637800"/>
            <a:ext cx="365940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5680" y="3637800"/>
            <a:ext cx="365940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FC8-88AC-4E81-8FBA-1A5079D3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3040" y="878040"/>
            <a:ext cx="7499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1873080"/>
            <a:ext cx="24145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8520" y="1873080"/>
            <a:ext cx="24145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873080"/>
            <a:ext cx="24145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03040" y="3637800"/>
            <a:ext cx="24145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8520" y="3637800"/>
            <a:ext cx="24145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637800"/>
            <a:ext cx="24145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971-574F-48A6-90FE-0B4FB522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3040" y="878040"/>
            <a:ext cx="7499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03040" y="1873080"/>
            <a:ext cx="749916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C81-E5E7-4C89-A270-926625AC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3040" y="878040"/>
            <a:ext cx="7499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03040" y="1873080"/>
            <a:ext cx="749916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644-9A5C-47A6-A109-303D556A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3040" y="878040"/>
            <a:ext cx="7499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3040" y="1873080"/>
            <a:ext cx="36594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5680" y="1873080"/>
            <a:ext cx="36594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DC3-3ACA-44BC-9CF9-89B2DD45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3040" y="878040"/>
            <a:ext cx="7499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45D-B40D-4F20-8F04-DC25090C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3040" y="878040"/>
            <a:ext cx="7499160" cy="39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B74-8100-41F9-95B8-9A242C97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3040" y="878040"/>
            <a:ext cx="7499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03040" y="1873080"/>
            <a:ext cx="365940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5680" y="1873080"/>
            <a:ext cx="36594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03040" y="3637800"/>
            <a:ext cx="365940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E06-1C85-4FDD-8338-52610B36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3040" y="878040"/>
            <a:ext cx="7499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03040" y="1873080"/>
            <a:ext cx="36594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5680" y="1873080"/>
            <a:ext cx="365940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5680" y="3637800"/>
            <a:ext cx="365940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618-1F14-47B0-9745-A838335E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3040" y="878040"/>
            <a:ext cx="7499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1873080"/>
            <a:ext cx="365940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5680" y="1873080"/>
            <a:ext cx="365940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3637800"/>
            <a:ext cx="74991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7C8-4090-4928-B1C0-6E5DFFC2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3040" y="878040"/>
            <a:ext cx="7499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3040" y="1873080"/>
            <a:ext cx="749916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6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96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96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96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96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96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96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03040" y="5349600"/>
            <a:ext cx="193356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1680" y="5349600"/>
            <a:ext cx="263520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71880" y="5349600"/>
            <a:ext cx="193356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67E73-9518-4A9D-A235-378D571A28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4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seph H. Gilmore, 1862 William B. Bradbury, 1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 Leadeth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eadeth me!  O blessed thought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ords with heav'nly comfort fraugh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'er I do, where'er I b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'tis God's hand that leade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eadeth me.  He leade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is own hand He leadeth 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faithful foll'wer I would b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by His hand He leade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times 'mid scenes of deepest gloom, sometimes where Eden's bowers bloo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waters still, o'er troubled se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'tis His hand that leade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eadeth me.  He leade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is own hand He leadeth 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faithful foll'wer I would b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by His hand He leade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, I would clasp Thy hand in mi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ever murmur nor repi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, whatever lot I se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ce 'tis my God that leade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eadeth me.  He leade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is own hand He leadeth 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faithful foll'wer I would b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by His hand He leade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n my task on earth is d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, by Thy grace, the vict'ry's w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'en death's cold wave I will not fle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ce God through Jordan leade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eadeth me.  He leade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is own hand He leadeth 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faithful foll'wer I would b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by His hand He leade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3T20:59:04Z</dcterms:created>
  <dc:creator>Lanora Campbell</dc:creator>
  <dc:description/>
  <dc:language>en-US</dc:language>
  <cp:lastModifiedBy/>
  <cp:revision>1</cp:revision>
  <dc:subject/>
  <dc:title/>
</cp:coreProperties>
</file>