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C2259-7245-4579-AA08-E2E1D9A58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475-B386-4317-A39A-F5BDC7E9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C9C-BF8E-4D51-9DC8-979BAD9C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8FE-B1F9-4B47-AC0C-3719D2E1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059-0FF0-44E6-AD7E-66927BE9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5AF-06C5-44CE-AA2B-BA5576BF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992-4B39-4B23-A75F-339D4C80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B2C-2D0D-4D51-85E0-E7F3A1F9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DFD-3536-4584-9264-CFEB984B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4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7E4-78F7-42B8-9521-2CCDF68A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376-6BE9-40C7-B1CB-020DB608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A01-B467-4773-83AF-ED478B5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077-D7B1-4C66-91DB-7ADA6D0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76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858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8D679-5572-45B3-AFA1-D53F095551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hn R. Clements, Hart P. D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 Night T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land of fadeless 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es the "city four-square,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shall never pass aw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 is "no night there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shall "wipe               away all tears;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od shall "wipe           away    all tears;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's no death,       no pain, nor fea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re's no death,       no      pain, nor fears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y count      not time by ye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they count not time           by        years, by years,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re is      "no night there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r there is       "no night              there.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gates of pearl are mad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"city four-square,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streets with gold are lai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 is "no night there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shall "wipe               away all tears;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od shall "wipe           away    all tears;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's no death,       no pain, nor fea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re's no death,       no      pain, nor fears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y count      not time by ye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they count not time           by        years, by years,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re is      "no night there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r there is       "no night              there.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gates shall never cl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"city foursquare,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life's crystal river flow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 is "no night there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shall "wipe               away all tears;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od shall "wipe           away    all tears;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's no death,       no pain, nor fea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re's no death,       no      pain, nor fears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y count      not time by ye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they count not time           by        years, by years,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re is      "no night there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r there is       "no night              there.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they need no sunshine br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at "city foursquare,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amb is all the ligh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 is "no night there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shall "wipe               away all tears;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od shall "wipe           away    all tears;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's no death,       no pain, nor fea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re's no death,       no      pain, nor fears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y count      not time by ye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nd they count not time           by        years, by years,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re is      "no night there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r there is       "no night              there.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7:52:53Z</dcterms:created>
  <dc:creator>Lanora Campbell</dc:creator>
  <dc:description/>
  <dc:language>en-US</dc:language>
  <cp:lastModifiedBy/>
  <cp:revision>1</cp:revision>
  <dc:subject/>
  <dc:title/>
</cp:coreProperties>
</file>