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6F00B-5D32-42FD-8514-F521004DB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BFA-D2C1-435F-A430-36345ABD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7D8-0E59-43EB-90E5-FEA26C50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8AA-35AF-4C46-B634-7274E60E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450-7268-48D9-ACC2-ED4081E1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F9C-F31E-44EF-82DD-698DCFE0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7C4-79CA-4368-939A-57DB9D4F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E7D-D179-4F42-B303-303975CF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63A-8946-4B19-94C4-34B72090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F7D-FE15-4E31-969D-2148B483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415-B93C-4471-90EC-0F7F4408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067-8DFE-4525-AEFB-FD5170C8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061-29B0-4922-ABCA-678E1F52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2B01E-E67A-4A51-BAA1-0DF88B35B1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5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15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ise Belongs To Go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nto us, Eternal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unto Thy name give prais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ry unto Thee belo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th and mercy s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ho trust in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ho fear Him, small and gre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be their help and shiel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belongs to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d is on His throne in heav'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done what pleases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the heathen s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Where is now your God?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, trust in God! He will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elp and shiel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 of Aaron, trust your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and shield is 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make their idols with their han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s of silver, gods of gol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mouths but do not spea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s but do not hea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, trust in God! All who fear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bles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be your help and shiel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belongs to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9:11:12Z</dcterms:created>
  <dc:creator>Lanora Campbell</dc:creator>
  <dc:description/>
  <dc:language>en-US</dc:language>
  <cp:lastModifiedBy/>
  <cp:revision>1</cp:revision>
  <dc:subject/>
  <dc:title>Hymnal</dc:title>
</cp:coreProperties>
</file>