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E0B93-9FFE-425E-AE56-8225B5E57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9F5-5A25-4E3A-AB7F-B55E4520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A2F-3A5E-4EC1-8DE9-88B0267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1D8-3A1A-413E-BDCA-0B96EE7C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FF6-BEE5-4D57-BBD2-F2F3D3EC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F12-157A-4E8F-9FB1-EE54D5E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8AE-3FDD-4181-8A8F-1D88253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5AF-5D6F-4C8F-B764-576AE1D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007-CF38-4173-AADD-5D598889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D6C-89B0-432B-BF1D-D14C9A6F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D4C-D3DC-4AB3-99DB-C71A0D3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A38-62ED-4C43-AC10-F930DA8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BDB-ED55-4276-A974-5B5191E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6789-A455-4318-8B18-53419D2AAA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.D. Longstaff, Geo. C Ste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ke Time To Be Ho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ime to be ho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 oft with thy Lo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ide in Him alway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feed on His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friends of God's childr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 those who are weak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etting in nothing His blessing to s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ime to be ho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ld rushes o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nd much time in secr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Jesus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looking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him thou shalt b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friends in thy condu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likeness shall 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ime to be ho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Him be thy Guid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run not before Hi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ever betid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joy or in sorrow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follow thy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looking to Jes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trust in His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time to be ho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calm in thy sou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thought and each mo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ath His contro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s led by His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fountains of l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oon shalt be fit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ervice in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26:16Z</dcterms:created>
  <dc:creator>Lanora Campbell</dc:creator>
  <dc:description/>
  <dc:language>en-US</dc:language>
  <cp:lastModifiedBy/>
  <cp:revision>1</cp:revision>
  <dc:subject/>
  <dc:title/>
</cp:coreProperties>
</file>