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F8526-ED4E-4727-874A-AA8D6C3665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C22B-4BEE-4F1F-AD3B-2B246EC8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B581-0630-4AFE-9DDC-093EDE98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4686-B581-402F-9AE3-D66C6298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2A81-21B7-4A35-8E52-4AAE2AA7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F71-02B4-4ADB-9FC5-25F4D9D5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9D44-80C2-4BC1-A434-4843BB6E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7ADA-5679-407E-BF33-6E88F8AB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B8BC-AFFC-40C4-BE86-2C54A19C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752F-39F8-4820-86FF-55437D20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6D98-A1F2-489F-B784-CE41D5C5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D795-83B5-4B58-80CB-48FA3337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ACE1-A043-4CCA-8404-C981CA35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B3120-6913-4270-A1B6-9DDC5CDAAC2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82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37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y The Waters Of Babyl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waters of Babyl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e wept and there sat dow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ng our harps on the willow tree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on yet we remembered the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our captors required of u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Sing a song of Zion now!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we sing the Eternal's so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waters of Babyl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7120"/>
            <a:ext cx="90043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my right hand forget her skil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Jerusalem I forge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 fail to remember the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my tongue cleave unto my mouth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we thought of Jerusale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we sat near Zion's stream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 above even our chief jo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remembered Jerusa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at day of Jerusalem's fal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children of Edom sai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Down with her, down unto the groun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to the foundations!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thou daughter of Babyl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y ruin hast'ning o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ppy he that rewardeth the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as thou unto us has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5T14:46:08Z</dcterms:created>
  <dc:creator>Lanora Campbell</dc:creator>
  <dc:description/>
  <dc:language>en-US</dc:language>
  <cp:lastModifiedBy/>
  <cp:revision>1</cp:revision>
  <dc:subject/>
  <dc:title>Hymnal</dc:title>
</cp:coreProperties>
</file>