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FBB5E-E203-45A9-A606-995F54EA1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D26-246F-425E-AD6D-A5A1A73A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F0F-ED96-4E35-92B4-4B8E211B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97E-8471-45E9-8DD0-FCADB242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BF8-1FCB-4E28-A7B6-DA03305A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31C-54F5-4BFD-8BEE-29E148F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86D-F63C-4C3C-A16B-2CDB23A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11F-754F-4AC3-B537-FD14696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812-0066-4F85-9547-FB80398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A74-6745-4378-90FF-F8F9263F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C2C-3F93-4C80-BDAD-EF312FD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305-2271-4766-9055-CE225A9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2C5-16FC-4BD1-BC75-EC90382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B4820-C758-40CF-AAF3-398BEAE732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King Delights,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king delights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great strength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Your salvation, he shall rejoi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given to him his heart's desi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is request h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not withheld from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end him blessings of goodly thing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et a golden crown upon his h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sked life of You; You gave him lif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life forever, and forever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is his glory by Your strong ai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nor and majesty You laid on h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made him most bl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ver bless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him exceeding gla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counten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05:21Z</dcterms:created>
  <dc:creator>Lanora Campbell</dc:creator>
  <dc:description/>
  <dc:language>en-US</dc:language>
  <cp:lastModifiedBy/>
  <cp:revision>1</cp:revision>
  <dc:subject/>
  <dc:title/>
</cp:coreProperties>
</file>