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58F32-3C73-4AD2-B363-BA2C34CB3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2A6-5422-40F2-86D5-54D7F9E7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151-D881-48F8-ACE7-DBD7D90C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711-7907-44D7-A00A-7402EDBB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80A-815C-4195-8E61-04A41DDF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C53-C8B1-426B-B2C5-5E92CC92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07F-370B-4AC4-990B-392A795B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CA0-FAD4-4ECB-A52C-12319CFF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CBF-B3E9-43A2-A79B-65C2C00F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E46-9C46-45ED-9B12-A510DA81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DCD6-AD09-4E94-BE23-C71574A8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B69-5224-4871-BC4F-9E87E47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419-E6F3-4DF4-BEEC-3E0B1B07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F60DF-3F04-4741-8700-5D50579489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7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44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wake, O Eternal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me I constant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my dis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hame and conf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covered my f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sound of the taun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coffers deligh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hearts full of h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vengeful desp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all these sore ev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been our sad lo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d and His cov'n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not forgo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heart turned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 and our fe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not stray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' broken mid jack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death for our sh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have forgot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me of  our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unto some id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hands spread abroa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not the Almigh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sees  all with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knows the heart's secre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 this s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, all the day long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sake we're consum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sheep for the slaugh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ath we are doom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ke, O Etern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leep Thou no mo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e and our hel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 not off eve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6:12:51Z</dcterms:created>
  <dc:creator>Lanora Campbell</dc:creator>
  <dc:description/>
  <dc:language>en-US</dc:language>
  <cp:lastModifiedBy/>
  <cp:revision>1</cp:revision>
  <dc:subject/>
  <dc:title>Hymnal</dc:title>
</cp:coreProperties>
</file>