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9263C-4827-4D59-A497-AE6AB937A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DF1-414F-44B4-B356-897BF9AE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194-055F-411E-BBCE-1DA86E32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53F-023F-461F-901A-B00C9745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D61-BABD-4C4C-BE89-B743FD0B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085-25F8-474E-882B-99055C40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48B-2F02-4842-B1A0-622B9E8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F8A-CB9D-4BF8-8F07-8CD72CEE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CD6-C229-4296-AC1B-6D9540DA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D53-B918-472F-979A-1D05F3F3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B60-7CF7-4BD3-B275-4B93394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5FE-F36A-4664-9E9D-232BB9D1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05D-36CC-418D-BD8E-170CB405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E53F8-BCAF-4C53-8DBE-3D111CD90F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lbert S. Reitz, 19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ch Me To Pr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o pray, Lord, teach me to pray; This is my heart-cry, day unto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ng to know Thy will and Thy w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o pray, Lord, teach me to pr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in Thee, Lord, and Thou in me, constant abiding, this is my ple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me Thy power, boundless and free, Power with men and power with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 in prayer, Lord, power in prayer! Here 'mid earth's sin and sorrow and ca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 lost and dying, souls in despai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ive me power, power in prayer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in Thee, Lord, and Thou in me, constant abiding, this is my ple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me Thy power, boundless and free, Power with men and power with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weakened will, Lord, thou canst renew; My sinful nature Thou canst subd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me just now with power ane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 to pray and power to do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in Thee, Lord, and Thou in me, constant abiding, this is my ple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me Thy power, boundless and free, Power with men and power with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o pray, Lord, teach me to pray; Thou art my pattern day unto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art my surety, now and for ay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o pray, Lord, teach me to pr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in Thee, Lord, and Thou in me, constant abiding, this is my ple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nt me Thy power, boundless and free, Power with men and power with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2:52:00Z</dcterms:created>
  <dc:creator>Lanora Campbell</dc:creator>
  <dc:description/>
  <dc:language>en-US</dc:language>
  <cp:lastModifiedBy/>
  <cp:revision>1</cp:revision>
  <dc:subject/>
  <dc:title>Hymnal</dc:title>
</cp:coreProperties>
</file>