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C6DDA-B319-4675-86B9-1532C3011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9AD-F484-48D5-9DE4-7EDA5621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1EB-DD43-4664-B2E4-AB02406B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CCD-3A59-44F0-8FAB-F54D1E4E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E4E-1559-4B06-8398-4C4DC344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89F-8373-44BE-874E-13C28523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D5A-93B3-4F5B-9616-0B0DBF2F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E95-E6EA-4799-A84D-69C1A8EB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2D8-0E28-46EB-86DF-3592233A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2AF-24B7-4B04-9EFD-79FF55DD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4B4-0DF8-4EA1-A5CF-67BC03E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692-AF39-4F72-9ED8-0CBE50D2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0B5-FF65-4BD5-B13D-F8E55A0A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2246F-F0C9-40DF-869F-B88A3F7578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9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43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rd, Teach Me That I May K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teach me that I may k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way where I should g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o Thee I lift my sou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me free from all my f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o Thee I flee to hide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me now Thy will to d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 Eternal, art my Go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me by Thy Spirit goo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my soul from trouble and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name's sake quicken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me to the land of refug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r Thy mercy's s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off all my foes, destroy th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hich do afflict my sou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ou Eternal, righteous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am Thy servant, L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4:31:05Z</dcterms:created>
  <dc:creator>Lanora Campbell</dc:creator>
  <dc:description/>
  <dc:language>en-US</dc:language>
  <cp:lastModifiedBy/>
  <cp:revision>1</cp:revision>
  <dc:subject/>
  <dc:title>Hymnal</dc:title>
</cp:coreProperties>
</file>