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1425E-5DD6-4C52-9D79-08FC08E8A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887-744B-40E6-9497-AEED8E96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E13-4431-4E91-B6E2-EB8C54C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FE7-2333-4C72-A599-D401FE3B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193-A2C8-49B0-8959-829BB379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9BF-8638-4B8D-BF9E-570C6CF8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8E1-8BFC-4945-B909-6A313746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436-C7C9-4F30-8668-AA96F1FD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7F7-A2BF-4BC3-BA92-FCD69178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5D9-8973-4A1C-92E2-A5EA896C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C30-E7AA-46BF-9167-A1D69659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7B4-C479-4A3F-B2EC-C027BF5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889-A655-42B2-83FA-878CF98B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15B44-1A1F-4610-818B-1A414E253C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y Loving Kindness,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y loving kindness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merciful to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mpassion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t out all iniqu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 me thoroughly from s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guilt cleanse Thou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ransgressions I conf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s I ever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Gainst Thee only have I sinn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evil in Th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ou speaking may be ju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judging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iniquities blot ou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in hide from Thy vie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me a clean heart ma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 right re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y gracious presence,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ast me not a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y Holy Spir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not from me I pr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y which Thy sal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s again to me rest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y Spirit free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keep me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crifice dost thou not wa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se would I give i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 offering sha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not delighted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broken spirit i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 sacrif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broken, contrite hea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wilt not desp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7:59:48Z</dcterms:created>
  <dc:creator>Lanora Campbell</dc:creator>
  <dc:description/>
  <dc:language>en-US</dc:language>
  <cp:lastModifiedBy/>
  <cp:revision>1</cp:revision>
  <dc:subject/>
  <dc:title>Hymnal</dc:title>
</cp:coreProperties>
</file>