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EF618-224F-4407-9FF2-6B43BB392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779-F83E-44BB-A901-87171257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97F-3F98-458C-8BD9-44951C20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1FD-4FC8-44CF-9A61-A6C8345F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590-CC10-48FE-82DE-1DD80057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EC-3ACE-4656-A447-F3071CE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2E4-B5D3-4A7D-948F-92377AC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33D-79A9-496D-850A-A721A19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13F-7BF7-413C-8EA1-49E3044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01C-A8F9-447D-9F6E-2DC69445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0A2-EDED-46DB-B4BD-472E960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7D6-639E-4096-B5B6-E2B7E2A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C7E-24B3-4906-92D3-D0E6EC07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60880-5186-4AB4-ACCC-9923EB2F24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32 -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Matthias Claudius, 1740-1815, Trans. by Jane M. Campbell, 1817-1878, Johann A. P. Schulz, 1747-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giv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low the fields and sc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od seed on the l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is fed and water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's almight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nds the snow in wi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rmth to swell the gr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ezes and the sunsh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oft, refreshing 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good gifts aroun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sent from heaven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hank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nk the Lord For all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nly is the Ma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ll things near and f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aints the wayside flow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ghts the evening s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nds and waves obey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im the birds are f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more, to us His childr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ives our daily b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good gifts aroun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sent from heaven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hank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nk the Lord For all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hank Thee then, O Fa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things bright and go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ed-time and the harv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life, our health, ou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the gifts we of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Thy love impar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what Thou most desir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umble, thankful he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good gifts aroun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sent from heaven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hank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nk the Lord For all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20:07:49Z</dcterms:created>
  <dc:creator>Lanora Campbell</dc:creator>
  <dc:description/>
  <dc:language>en-US</dc:language>
  <cp:lastModifiedBy/>
  <cp:revision>1</cp:revision>
  <dc:subject/>
  <dc:title>Hymnal</dc:title>
</cp:coreProperties>
</file>