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9EC0C-1E25-451D-A33C-DE783908A4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A194-5895-4852-A24D-C27E5D44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1F6D-4F38-4DDE-BE34-B388F16C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6CFC-09C4-4F95-92F6-E54DB9C48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346E-F1F4-4BB1-B69D-BAF23E0F7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5BD6-8A94-4125-A1A5-FD944EA9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7832-7337-4184-97D5-26860300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56FB-30E2-46AE-8AE6-42EB536D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5C80-6E32-4CFA-9CBA-DCC27A94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CEA7-8BAD-4457-93F2-2F17583A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977F-B820-4C6E-B695-68DEF140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A481-4C6C-4AD6-AB74-1A86D9B7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E012-CBC9-401F-9583-0EE4B675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4012B-95B2-4F0E-8D5A-9F608B0A908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64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J.E. Rankin, D.D., alt. E.S. Loren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ll It To Jes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you wear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you heavy-hearted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it to Jesu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it to Jesus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you griev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ver joys departed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it to Jesus alon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it to Jesu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it to Jesu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is a friend Who's well-known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've no ot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ch a friend or brother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it to Jesus al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 the tears flo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wn your cheeks unbidden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it to Jesus, Tell it to Jesus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ve you si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to men's eyes are hidden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it to Jesus alon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it to Jesu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it to Jesu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is a friend Who's well-known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've no ot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ch a friend or brother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it to Jesus al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 you fear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ath'ring clouds of sorrow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it to Jesus, Tell it to Jesus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you anx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hall be tomorrow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it to Jesus alon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it to Jesu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it to Jesu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is a friend Who's well-known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've no ot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ch a friend or brother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it to Jesus al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you troubl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 the thought of dying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it to Jesus, Tell it to Jesus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Christ's com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ingdom are you sighing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it to Jesus alon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it to Jesu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it to Jesu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is a friend Who's well-known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've no ot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ch a friend or brother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it to Jesus al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4T14:31:40Z</dcterms:created>
  <dc:creator>Lanora Campbell</dc:creator>
  <dc:description/>
  <dc:language>en-US</dc:language>
  <cp:lastModifiedBy/>
  <cp:revision>1</cp:revision>
  <dc:subject/>
  <dc:title>Hymnal</dc:title>
</cp:coreProperties>
</file>