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CAF6-A5F9-446D-BEB0-49ED63BD9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D8F-77F6-47AB-A2FD-4901E514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74977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03040" y="3637440"/>
            <a:ext cx="74977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2BE-7496-464B-8F7B-334E5766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960" y="187452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3040" y="363744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960" y="363744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E20-8561-43BD-9134-61F5539B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24141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8160" y="1874520"/>
            <a:ext cx="24141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3640" y="1874520"/>
            <a:ext cx="24141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03040" y="3637440"/>
            <a:ext cx="24141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8160" y="3637440"/>
            <a:ext cx="24141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3640" y="3637440"/>
            <a:ext cx="241416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987-6980-4C61-A9DF-EE9411D1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03040" y="1874520"/>
            <a:ext cx="74977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410-AE4D-4C8E-87BC-749A1AF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74977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237-96E6-4FC3-8C9E-FBC93A9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365868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960" y="1874520"/>
            <a:ext cx="365868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11F-8614-4969-8138-6DC5BCD3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364-D2D6-4285-8315-D87BA20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3040" y="879480"/>
            <a:ext cx="749772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596-7F8E-4E9E-B911-9158D56D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960" y="1874520"/>
            <a:ext cx="365868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3040" y="363744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04A-CBC3-4806-9874-3A86B55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365868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960" y="187452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960" y="363744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E4A-7EF2-42B3-948D-D1BA273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187452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960" y="1874520"/>
            <a:ext cx="365868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3637440"/>
            <a:ext cx="74977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F82-9141-4E56-BFA0-730D154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9772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3040" y="1874520"/>
            <a:ext cx="74977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03400" y="5351400"/>
            <a:ext cx="19288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320" y="5351400"/>
            <a:ext cx="263196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69000" y="5351400"/>
            <a:ext cx="19288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D46DA-8DCC-4C6A-B0BC-F1DF6187A4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tthew Bridges, 1851, George J. Elvey, 18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own Him With Many Crow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n Him with many crow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mb upon His thr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k!  How the heav'nly an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wns all music but its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ke, my soul, and sing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m who died for th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ail Him as thy matchl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through all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n Him the Lord of lov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 His hands and si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wounds, yet visible ab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beauty glorifi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ngel in the sky can fu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 that sigh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downward bends His wond'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at mysteries so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n Him the Lord of lif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riumphed o'er the gr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rose victorious to the str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se He came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lories now we s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ed and rose on hig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ed eternal life to b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ves that death may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n Him the Lord of Heaven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ith the Father know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the Spirit through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'n from yonder glorious thro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e be endless praise,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for us hast di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Thou, O Lord, thr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days, adored and magnif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15:30Z</dcterms:created>
  <dc:creator>Lanora Campbell</dc:creator>
  <dc:description/>
  <dc:language>en-US</dc:language>
  <cp:lastModifiedBy/>
  <cp:revision>1</cp:revision>
  <dc:subject/>
  <dc:title/>
</cp:coreProperties>
</file>