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4FAF4-A362-4036-98F8-3FC61DA2E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EB1-A9CE-4BD0-8063-86EA41C5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37A-801A-415D-8BA4-8C44AE21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BAC-AED1-4247-AC14-9658BF78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AC8-9117-4EA3-B7C1-6E3EC6DC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C8B-52B7-4659-84C8-A81A816D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877-1CBA-448D-8EF4-214F122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325-6192-4251-B6BB-7CBE48A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F49-9F8C-4D41-AAEB-9746518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06B-4BB5-48A4-934E-D98834D8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812-0558-4C42-9209-7B42A85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5DD-E0B1-4CCA-903D-874475E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7F7-AE5E-4E58-AE71-1BB8226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588A9-5221-4BFE-9F84-C2315E8B15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Is Most Gracious, Kind And G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mighty man, why boast you of evi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ing and devi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le mischief and l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a sharp raz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your tongue speak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destruction against godly 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espise g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vil do you lov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hood do you prefer to speaking the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bo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God is most gracio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 and merciful and ever loving and g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you trust in falseh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great weal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ill remove you, uproot you from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trust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see and be in aw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laugh a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your folly and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 see the man who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 God his streng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 he  sought  refug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 abundance of w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n God's mer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is steadfast l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great kindness, in these do I tru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God's house, like an olive green am 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raise Him and proclaim His great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9:17:52Z</dcterms:created>
  <dc:creator>Lanora Campbell</dc:creator>
  <dc:description/>
  <dc:language>en-US</dc:language>
  <cp:lastModifiedBy/>
  <cp:revision>1</cp:revision>
  <dc:subject/>
  <dc:title>Hymnal</dc:title>
</cp:coreProperties>
</file>