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A0B24-AE18-4253-9757-2ADA501D9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31E-4B31-49BB-919A-46FC7B7F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F16-1C63-45DF-AF00-EA750C0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65C-1549-41AF-84AE-247D96E3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128-C848-414C-A73D-1FB7D1BE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D52-BD75-4E67-BB95-741A2DA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35F-86CC-4AD3-945D-A89C617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1B7-2348-4AAC-9B93-514EB424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823-FFEF-4BD7-89E9-1B8ED8CB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6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DC2-8C46-448D-9B5D-51E2CC7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022-6D6E-4548-B395-2248134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E51-DD14-4D8C-B4AD-7485B438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3BD-D251-4822-99F5-62386D7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64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76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480"/>
            <a:ext cx="28465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7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C9E3-BE44-41B4-8ACC-CE3D83410B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omas O. Chisholm b. 1866, C. Harold Lowden, 19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ving For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for Jesus a life that is tru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iving to please Him in all that I d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ielding allegi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ad-hearted and fr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path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blessing for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esus, Lord and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ive myself to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, in Thy aton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st give Thyself fo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wn no other Mas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hall be Thy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I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forth to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for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ed in my pl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ring on calv'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in and disgr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ch love constra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 to answer His c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llow His lea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ive Him my 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esus, Lord and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ive myself to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, in Thy aton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st give Thyself fo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wn no other Mas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hall be Thy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I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forth to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for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ver I a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ing each du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oly na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ing to suff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fliction and lo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eming each tr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art of my cro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esus, Lord and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ive myself to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, in Thy aton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st give Thyself fo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wn no other Mas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hall be Thy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I give henceforth to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ing for Jesus throug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's little whi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earest treas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ght of His smil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ing the lost 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ied to redee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ing the we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find rest in H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Jesus, Lord and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ive myself to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, in Thy aton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st give Thyself for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wn no other Mas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eart shall be Thy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ife I give henceforth to l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20:07:28Z</dcterms:created>
  <dc:creator>Lanora Campbell</dc:creator>
  <dc:description/>
  <dc:language>en-US</dc:language>
  <cp:lastModifiedBy/>
  <cp:revision>1</cp:revision>
  <dc:subject/>
  <dc:title/>
</cp:coreProperties>
</file>