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71B99-0D4C-45DB-99E4-A8EEC7F449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2D99-8814-40E3-907B-05BD8CCE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6581-5DB3-4DC1-A6AF-94EC5C24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5040-5E22-4166-A1E2-409BA71C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92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16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92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16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9A9-31AD-4657-9E42-9CB047A6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CA36-F41A-4486-8D4F-6BF12CF7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3006-061D-4B16-8E79-27E22D06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288D-FD35-47DB-B54F-3369E765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6C3A-65A9-4E14-B03F-A2693A47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720"/>
            <a:ext cx="81010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3BEB-96B4-4C74-8E6C-2D056294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AFE7-B13E-42FE-9A10-5B40FBE2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DA2-A8F1-4A3B-8A0D-7778E55B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E51A-2D32-44D0-9CD3-0C52AD49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941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9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3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D6A33-7AC2-43F5-8B0A-ECCD1548292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69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ords, Johnson Oatman, Jr., 1897 Tune BLESSINGS, Edwin O. Excell, 18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unt Your Many Blessin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upon life's bill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tempest toss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are discourag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ing all is lo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 your many blessing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them one by o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t will surprise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e Lord hath d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040" y="349200"/>
            <a:ext cx="900612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 your blessings; name them  one  by  on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Count your many blessings,                   name them one by one;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 your blessings; see what God hath  don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Count your many blessings,                 see what God hath done;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 your blessings, name them  one  by  on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Count your many blessings,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your many blessings; see what God hath d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you ever burden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a load of car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es the cross se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vy you are called to b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nt your many blessing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'ry doubt will fl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you will be sing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the days go b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5040" y="349200"/>
            <a:ext cx="900612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 your blessings; name them  one  by  on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Count your many blessings,                   name them one by one;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 your blessings; see what God hath  don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Count your many blessings,                 see what God hath done;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 your blessings, name them  one  by  on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Count your many blessings,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your many blessings; see what God hath d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, amid the conflic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ther great or small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not be discourag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is over al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nt your many blessing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gels will atten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lp and comfort g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to your journey's e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5040" y="349200"/>
            <a:ext cx="900612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 your blessings; name them  one  by  on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Count your many blessings,                   name them one by one;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 your blessings; see what God hath  don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Count your many blessings,                 see what God hath done;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 your blessings, name them  one  by  on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Count your many blessings,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your many blessings; see what God hath d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3:40:09Z</dcterms:created>
  <dc:creator>Lanora Campbell</dc:creator>
  <dc:description/>
  <dc:language>en-US</dc:language>
  <cp:lastModifiedBy/>
  <cp:revision>1</cp:revision>
  <dc:subject/>
  <dc:title>Hymnal</dc:title>
</cp:coreProperties>
</file>