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128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AFD2C9-B9B4-42E0-AD59-1E2EBA591D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4E51-B3C3-459C-B7F0-239B75A53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980C-9AD6-42F6-9A6F-082403038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71F1-CA09-4AEF-A3FB-A92F10338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2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20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2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20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E6EE-4946-4087-9AC8-78112F19B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AC8E-D50C-4B74-8097-C45A3ED5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9311-E4C0-471F-83E3-1D5072B0F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B530-233C-4EA7-AD77-284551E74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9AEA-08C9-4AAF-99AF-A2CB93A90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585360"/>
            <a:ext cx="8097840" cy="44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0D9C-74C4-4603-A088-AE1FD7ADA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5AA3-4DD1-43E6-91E5-F3622768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7FA9-FE70-4690-A3D3-12843045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8BED-EF4C-4F8D-80EC-7456C3C8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088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6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120"/>
            <a:ext cx="2090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49C2E2-AEA5-4357-ABF2-E4647E046C4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70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121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o The Hills I'll Lift Mine Ey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he hills I'll lift mine eye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h, from whence shall come my help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my help comes from the Lor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hath made the heaven and ear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ill e'er be thy guid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y foot shall never slid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Who keepeth Israe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ver slumbers, never slee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thy keeper still shall stan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a shade on thy right han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ither sun by day shall smit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 the silent moon by nigh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shall guard from all il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ep thy soul in safety still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th without and in thy doo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ill keep thee ever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4T16:33:11Z</dcterms:created>
  <dc:creator>Lanora Campbell</dc:creator>
  <dc:description/>
  <dc:language>en-US</dc:language>
  <cp:lastModifiedBy/>
  <cp:revision>1</cp:revision>
  <dc:subject/>
  <dc:title>Hymnal</dc:title>
</cp:coreProperties>
</file>