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D2AD8-1D44-4515-A425-AF4831FF7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434-D6FD-4376-833E-80DA2436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1DB-88D4-4EE0-9647-74C6099D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4B32-557A-493D-A23A-48447260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3090-8737-4A61-AF95-13754D4D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8B06-5D78-4CF0-B1E2-BADEE714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DBF0-ED37-4081-A7D8-E66C96E8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C55-082E-4DA6-BCF1-390CAB73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0EF-2F15-4194-AF71-E5A84A8F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F3E-EA5B-468D-AC35-867EB7F5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8C7-8B89-44C6-AA2A-B5321871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3FC-C92E-40B8-8BA4-30DBBDC2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145F-8F7E-4EDB-BE4C-963055C5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623CB-382E-4B7A-8761-B3AF3631CB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899964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25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84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Lovely Are Thy Dwellin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vely are Thy dwell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ternal Lord of Host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oul is longing, faint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e O living G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, the bird has found its ho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t a nest to lay her you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that I may find Thine altar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Lord, my King, my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vely are Thy dwell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ternal Lord of Host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ose who dwell in Thy ho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ever sing Thy prais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t and happy is the ma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has found his strength in Th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stronger day by d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hall in Zion dw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vely are Thy dwell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ternal Lord of Host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ear unto my pray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od of Israe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day with thee is bet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 a thousand other day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that I may find Thine altar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Lord, my King, my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5:10:27Z</dcterms:created>
  <dc:creator>Lanora Campbell</dc:creator>
  <dc:description/>
  <dc:language>en-US</dc:language>
  <cp:lastModifiedBy/>
  <cp:revision>1</cp:revision>
  <dc:subject/>
  <dc:title>Hymnal</dc:title>
</cp:coreProperties>
</file>