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4032E-28EB-4774-981D-22BB2C1C4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C46-C979-4D37-8E66-973BF83E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1D4-16EC-4B67-AEFE-F2C2AC2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FDA-AB80-43D0-8B96-6D2698BB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530-F48F-42A2-A162-D39262EA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52F-418A-4038-801E-60F32FD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4E-E567-4654-8AD9-FCF776B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56B-EA54-4D6D-AEC3-48CA6142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0F8-A1C1-43EC-A770-13FDB12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C19-E7B1-4CEE-A608-9AD6953B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D9B-5D57-48B5-9873-5554B0B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E6C-74CD-443D-9B1B-B783581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9C8-FB49-4037-861C-419D005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B966E-D273-4FAB-9740-D6C2639475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2, 8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se And Judge, Eternal On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st of magistra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is judgment g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e asks, how long will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 unjustly jud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spect the wicked's c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righteous bl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 the poor and fatherl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 them right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's foundations have been mov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n darkness wa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of the earth know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will underst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said they are like go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God Most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ll shall die like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s princes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not silence, O my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foes plot their schem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 name of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blotted ou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m all to sh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As they would Your s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and judge, Eternal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arth is You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n know that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The Eternal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Most High o'er all the ear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n know Your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know not nor underst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die like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and judge, Eternal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arth is You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59:57Z</dcterms:created>
  <dc:creator>Lanora Campbell</dc:creator>
  <dc:description/>
  <dc:language>en-US</dc:language>
  <cp:lastModifiedBy/>
  <cp:revision>1</cp:revision>
  <dc:subject/>
  <dc:title>Hymnal</dc:title>
</cp:coreProperties>
</file>