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4F063-4ADD-4F6C-8334-911DF9806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5B1-842E-4060-A0AE-471C47EC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2E2-5D93-43F2-99C5-ECA3B5CB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6F9-DC62-4580-9B82-958534E8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2F4-F439-46E2-9BEB-BC70F0C2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932-AFE3-4EDA-900D-68AC6B90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B9C-F25A-47F3-A705-21D51B92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568-B6F7-417B-901A-117CCEA3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5D0-E458-4A56-8312-FC2B26B2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8FA-3717-4643-A985-8D8B919A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4A9-4162-462D-99D7-B66C0AB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F6C-5CF4-45F7-87C7-ADAA13A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2DE-9D32-41DC-A5BD-98DB3220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1C7C2-3173-48FC-8C06-5DC8263A86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ondie Erwin, Audrey Rhodes Adapted from I Corinthians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v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 speak with the tongues of ange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 have the gift of prophes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 understand all myst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ave not love, I have no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is patient, love is ki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es not nor is full of pr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knowledge is, it will pass awa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re are tongues they will be still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 speak with angels' tongu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love in my heart, I have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my faith can make mountains wand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all my goods I give to the po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 give my body to the fl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ave not love, I have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seeks not self nor is ru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s no evil, rejoices in all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now abide faith and hope and lov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ove is greatest of these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 my faith makes mountains mov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love in my heart, I have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6:53:23Z</dcterms:created>
  <dc:creator>Lanora Campbell</dc:creator>
  <dc:description/>
  <dc:language>en-US</dc:language>
  <cp:lastModifiedBy/>
  <cp:revision>1</cp:revision>
  <dc:subject/>
  <dc:title>Hymnal</dc:title>
</cp:coreProperties>
</file>