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B0F61-68DB-4F5E-A96B-54932A368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9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5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09F-E63B-4F50-864D-461EC1F3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784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20D-6476-4FA7-85B9-64006F8A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A6D-7101-4855-9F30-F8C59418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496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784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9B2-BE08-479B-8ED3-21668E6F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4E2-B374-45D9-B050-D276D992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B99-62D7-4E61-AA21-C5CC2A5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C08-5C7D-4EA8-8C39-9F0B68B0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B83-DD72-4784-89E7-7284EF9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117-EABF-490B-8E0E-23C0A543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54A-E95F-4201-96AF-88403C1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784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56F-46CB-4260-9F24-D97A771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496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784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2A2-AD9F-4BBC-8C25-6A6E419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496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6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40A98-EB51-4180-919C-015C82B50C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6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6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, O God, And Save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God, rebuke me not in an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in hot displeasure chastise me, O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gracious,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show me Your mer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 me, O God, for I languish and 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God, how long are You in hel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, O God, and save me; deliver my sou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Your great lov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sake of Your mer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n the grave there is no thought of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ord God, my bed is wet with weep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faint with moa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my f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God has hear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has answered my pray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foes shall turn and shall be ashame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54:46Z</dcterms:created>
  <dc:creator>Lanora Campbell</dc:creator>
  <dc:description/>
  <dc:language>en-US</dc:language>
  <cp:lastModifiedBy/>
  <cp:revision>1</cp:revision>
  <dc:subject/>
  <dc:title/>
</cp:coreProperties>
</file>