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D8313-1E5A-42D7-ADB0-9BBB8D884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00F-7964-43D0-909F-B60EBF19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350-17F4-4CAD-88FD-2CD17616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D30-8983-4102-8060-CC8A06BB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0CC-FAD5-4FD1-9C20-1E4C8ED6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323-3A1D-4293-B72B-2B2EEF43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DDB-90B6-4E71-BAD7-8A37EC5C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B02-A59C-466A-BB64-9971C690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108-CC6C-40EE-92A1-6F90EA99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CFC-4BD3-470C-96D5-01BCC3D5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40A-EE91-4C25-A0DD-CA9E2CAE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010-FDBF-4575-BC59-443A1503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701-00DB-4401-B10A-6D375729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040C9-9208-41BB-ADFB-F0039650EB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1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77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to God I Lift My Vo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o God I lift my voic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o Him I c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day my trouble com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I seek my G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night I do not cea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overwhelm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remember God and moa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close my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onsider days of ol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s of ancient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ommune with mine own hear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and medit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the Lord cast off His lo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no more be ki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is now my lot and tria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His kindness f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the Most High strength no mo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His promise fail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I think of His great work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e on wonders 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talk of His great deed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great like G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's true way is holines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 removed from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God's mighty arm and streng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was sa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waters of the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w and did ob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uds poured forth and lightnings flash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nders rent the ski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rlwinds shook the earth below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o led His f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2:29:05Z</dcterms:created>
  <dc:creator>Lanora Campbell</dc:creator>
  <dc:description/>
  <dc:language>en-US</dc:language>
  <cp:lastModifiedBy/>
  <cp:revision>1</cp:revision>
  <dc:subject/>
  <dc:title>Hymnal</dc:title>
</cp:coreProperties>
</file>