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77C89-F9A5-43B1-8121-35BFAF3246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3AF-DA11-487D-9823-306BC4E6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159D-326D-4C4B-A81D-4DF07ED3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697E-97B7-4759-9D06-58383546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DF4E-368B-4608-ACE2-4924A418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8952-679A-49C1-8037-6D9D3058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0A51-9327-44AF-BAF2-BEE483EA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DCE8-AFD0-4942-B4CE-467B637F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1CC2-C25A-4AA3-AF76-6117927F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4DB5-F68B-4060-8F88-FD63D1A0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6C3D-1674-421E-BD39-3B08739D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29DC-8462-4221-B56E-E10F23E0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CA75-BF09-4B38-A57F-80341468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3F676-3790-45A3-AB87-F3E3D6FCBBD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14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amuel F. Smith 1832, Thesaurus Musicus, 17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y Country, 'Tis Of The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country tis of th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weet land of liberty, Of thee I s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nd where my fathers died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nd of the Pilgrim's prid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every mountain sid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freedom ring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native country, th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nd of the noble fr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name I lov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love thy rocks and rill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woods and templed hill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heart with rapture thril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ke that abo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8920"/>
            <a:ext cx="900756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usic swell the breez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ring from all the tre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weet freedom's so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ortal tongues awak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all that breathe partak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rocks their silence break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ound prol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father's God to, Th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hor of liberty, To Thee we s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ng may our land be br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freedom's holy light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ect us by Thy migh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God, our King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22:00:40Z</dcterms:created>
  <dc:creator>Lanora Campbell</dc:creator>
  <dc:description/>
  <dc:language>en-US</dc:language>
  <cp:lastModifiedBy/>
  <cp:revision>1</cp:revision>
  <dc:subject/>
  <dc:title>Hymnal</dc:title>
</cp:coreProperties>
</file>