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FA5BA-01E4-4B7F-9F3F-C23E1591A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40A-D3D6-4E43-8C1C-CF543F63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A56-535F-463C-A748-26AFF2F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1B5-0C3D-4654-9349-3C1AB021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445-3669-40BA-A32E-E77F98A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7BA-FEE4-4C1E-93D8-6ACEC516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87C-A01C-4701-8592-679B141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3A6-A7C4-42DF-BFE3-610B06A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E7C-9200-4242-9F72-F82C68EE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F71-A4BD-4912-B12A-0344979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113-9BD8-4C37-B7C4-EFE5866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C72-EB37-4E0D-BC69-D870FBC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E87-EAE8-417A-975B-EEA19B9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9B7A4-452D-49D6-A69D-85286F3F8F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Thou God Of My Salv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 God of my salv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and night I cry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humble supplic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bow Thy ear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ed with grief my soul is sigh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grave my life draws n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ed now among the dy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one helpless I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to sleep in death's dark cha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slain within the gra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Thou dost no more 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Thy hand no more shall s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it Thy hand has laid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darkness and in deep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ely has Thy wrath dismayed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my soul affliction swe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rns my eye, my powers languis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e affliction presses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I cry to Thee in anguis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stretch my hands to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O Lord, at dawn awa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and cries I'll send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, my God, my soul forsa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st Thou Thy face from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9:06:09Z</dcterms:created>
  <dc:creator>Lanora Campbell</dc:creator>
  <dc:description/>
  <dc:language>en-US</dc:language>
  <cp:lastModifiedBy/>
  <cp:revision>1</cp:revision>
  <dc:subject/>
  <dc:title>Hymnal</dc:title>
</cp:coreProperties>
</file>