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C5C48-8801-43E2-9A2A-1CEDE0377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341-BA06-4468-8A63-4CA5B867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437F-9105-4E51-811A-B7DCD0A2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B5F-99CA-46E8-9D99-A2DBE2BE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ECC-E1A7-473D-ACBC-21517CA8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BB8-07B6-4E10-9AE5-2B9ED1A4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AEB-F007-4FDC-986A-40C1DBB6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7C0-6338-416E-BB35-8AAA3D10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142-5FB0-4739-B4D9-3C9FC100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08B-EE8F-4AAE-9370-72A83002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8BA4-461E-40AA-8D34-2785B273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E49-3B42-4616-8F50-880645A2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AD4-2F22-4A51-9104-6D5D3464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D54E8-4F3F-4DAD-B037-D826D54D0D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6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Fanny J. Crosby, 1820-1915 William H. Doane, 1832-19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God Be The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od be the glo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things He hath d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loved He the wor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He gave us His S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yielded His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tonement for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pened the life g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all may go 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the Lord, praise th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hear His voic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the Lord, praise th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people rejoic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ome to the Fa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Jesus the S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ive Him the glo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things He hath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perfect redemp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rchase of bloo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very beli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mise of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ilest offen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truly believ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moment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 pardon recei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the Lord, praise th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hear His voic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the Lord, praise th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people rejoic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ome to the Fa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Jesus the S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ive Him the glo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things He hath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things He hath taught 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things He hath do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reat our rejoi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Jesus the So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purer, and hig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reater will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wonder, our transpor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Jesus we s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the Lord, praise th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earth hear His voic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the Lord, praise th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people rejoic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ome to the Fa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Jesus the S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ive Him the glo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things He hath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13:59:10Z</dcterms:created>
  <dc:creator>Lanora Campbell</dc:creator>
  <dc:description/>
  <dc:language>en-US</dc:language>
  <cp:lastModifiedBy/>
  <cp:revision>1</cp:revision>
  <dc:subject/>
  <dc:title>Hymnal</dc:title>
</cp:coreProperties>
</file>