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B124F-3378-4550-BEE4-C3CF331893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F434-5B2B-4ADB-BB8D-E21FECCC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AEA6-7108-45D2-8C5A-6F5920E3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221B-7FB7-4CC4-83BF-AB2881F7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2D6-A931-49D3-AF9E-7B6AEA63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EEB-7354-4F0D-BB1A-478F8711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87D6-38E8-42EA-83B2-039073EC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496-3DCE-4778-AF64-5BA845DB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B925-7271-4D7B-BBFE-709E487E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DA52-96FA-4861-9523-B0C0E8B3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825F-8892-43C8-B0C0-08E4C370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6CC-9116-4726-82DD-E02AC93F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8E31-07DE-422E-BCCF-9BC70326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1C2D4-7B7B-4EC6-87CA-A54BC44C53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3880"/>
            <a:ext cx="900756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63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Robert Grant, 1833, J. Michael Haydn, 1737-18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 Worship The 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worship the K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glorious abo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gratefully 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ower and His lov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Shield and Defend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cient of Day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vilioned in splendo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irded with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ell of His migh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sing of His gra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robe is the ligh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canopy spa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chariots of wra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eep thunderclouds for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dark is His pa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 wings of the stor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bountiful ca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ongue can recit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breathes in the ai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shines in the ligh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streams from the hill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descends to the plai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weetly distil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dew and the r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ail children of du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eeble as fra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e do we tru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find Thee to fai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mercies how tender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firm to the end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Maker, Defend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emer, and Frien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14:24:00Z</dcterms:created>
  <dc:creator>Lanora Campbell</dc:creator>
  <dc:description/>
  <dc:language>en-US</dc:language>
  <cp:lastModifiedBy/>
  <cp:revision>1</cp:revision>
  <dc:subject/>
  <dc:title>Hymnal</dc:title>
</cp:coreProperties>
</file>