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103CD-CA3E-478F-A31F-EA9342A9E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3DE-C5BA-4428-9CBF-4E72C722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C68-732B-410F-B79F-A294F1E9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B6C-2AAD-420A-9D22-DFFABE3B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AC6-1D69-49B4-A8F5-E23963DA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855-653F-4A76-9886-1B241683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8F1-FD67-4392-B411-BE934DE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FFC-EB00-4A44-8027-8C33AC36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300-945E-4ACE-A8C8-6F4480BF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BCB-BB73-472B-8322-355A85F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7D2-A24D-47F4-AB14-B02DB00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311-43B0-40E0-BFFE-A9B1EE5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E35-F62F-47EB-864E-D92B30E2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2A1F1-D617-450A-AAE0-407040945E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oratio R. Palmer, 1834-19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ield Not To Tempt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 not to tempt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ielding is s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victory will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ome other to w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ht manfully onwa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k passions subdu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ever to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ll carry you throug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 the Savior to hel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fort, strengthen and keep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lling to aid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carry you thr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un evil compan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language disd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's Name hold in reveren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take it in v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thoughtful and earn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hearted and tru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ever to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ll carry you throug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 the Savior to hel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fort, strengthen and keep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lling to aid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carry you thr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that o'ercome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giveth a cr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faith we shall conqu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often cast d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is our Sav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trength will rene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ever to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ll carry you throug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 the Savior to hel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fort, strengthen and keep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willing to aid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carry you thr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4:21:29Z</dcterms:created>
  <dc:creator>Lanora Campbell</dc:creator>
  <dc:description/>
  <dc:language>en-US</dc:language>
  <cp:lastModifiedBy/>
  <cp:revision>1</cp:revision>
  <dc:subject/>
  <dc:title>Hymnal</dc:title>
</cp:coreProperties>
</file>