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7BEDE-70F2-4F37-98D8-16CD23F9B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70C-3A5D-40D0-818B-6F6BE20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DE9-25B6-4E29-ABDD-0142B1A4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587-EE43-445E-A48A-F44D00F1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52B-CD8B-4578-A4FC-92BDB7C3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167-9C6C-4B2D-8F99-95C4B12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FC4-27C8-408A-840A-4FF45DCD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ECD-8BD8-490D-91EE-81C358C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686-C5CD-452A-BC77-0A2ADA0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E37-E2DA-430B-A11C-F24B1325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4F5-13B2-4AD7-BEE0-B02785C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2BD-346A-45FB-B690-E3C1C05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158-4689-4C88-A63B-A17F150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5B68C-D1ED-4B2E-91FA-42C6712350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onym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st A Closer Walk With The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weak but Thou art stro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keep me from all wro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be satisfied as long As I walk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walk close to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 closer walk with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it, Jesus, is my pl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walking close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it be, dear Lord, let it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is world of toil and snar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falter, Lord, who car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th me my burden share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but Thee, dear Lord, none but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 closer walk with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it, Jesus, is my pl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walking close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it be, dear Lord, let it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feeble life is o'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e for me will be no mo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me gently, safely o'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kingdom shore, to Thy sho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a closer walk with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it, Jesus, is my pl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walking close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it be, dear Lord, let it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0:16:01Z</dcterms:created>
  <dc:creator>Lanora Campbell</dc:creator>
  <dc:description/>
  <dc:language>en-US</dc:language>
  <cp:lastModifiedBy/>
  <cp:revision>1</cp:revision>
  <dc:subject/>
  <dc:title>Hymnal</dc:title>
</cp:coreProperties>
</file>