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720263" cy="64833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1371240" y="763560"/>
            <a:ext cx="501660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0532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0600" cy="49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60960" cy="49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ftr" idx="5"/>
          </p:nvPr>
        </p:nvSpPr>
        <p:spPr>
          <a:xfrm>
            <a:off x="-360" y="9554760"/>
            <a:ext cx="3360600" cy="49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60960" cy="49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13FE86-EEF8-44FE-BED9-38FA03C5FED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59" name=""/>
          <p:cNvSpPr/>
          <p:nvPr/>
        </p:nvSpPr>
        <p:spPr>
          <a:xfrm>
            <a:off x="777960" y="4776840"/>
            <a:ext cx="6215040" cy="45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1" name=""/>
          <p:cNvSpPr/>
          <p:nvPr/>
        </p:nvSpPr>
        <p:spPr>
          <a:xfrm>
            <a:off x="777960" y="4776840"/>
            <a:ext cx="6215040" cy="45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3" name=""/>
          <p:cNvSpPr/>
          <p:nvPr/>
        </p:nvSpPr>
        <p:spPr>
          <a:xfrm>
            <a:off x="777960" y="4776840"/>
            <a:ext cx="6215040" cy="45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94301-7D6A-4BC7-A778-6285587C3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06040" y="587160"/>
            <a:ext cx="8093160" cy="9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8093160" cy="18104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06040" y="3689280"/>
            <a:ext cx="8093160" cy="18104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485C9-857A-4F56-8E4F-C63330DB6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06040" y="587160"/>
            <a:ext cx="8093160" cy="9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49200" cy="18104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53240" y="1706400"/>
            <a:ext cx="3949200" cy="18104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06040" y="3689280"/>
            <a:ext cx="3949200" cy="18104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53240" y="3689280"/>
            <a:ext cx="3949200" cy="18104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83310-3318-4AB5-BA14-2159F8E9E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06040" y="587160"/>
            <a:ext cx="8093160" cy="9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2605680" cy="18104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2400" y="1706400"/>
            <a:ext cx="2605680" cy="18104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78760" y="1706400"/>
            <a:ext cx="2605680" cy="18104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06040" y="3689280"/>
            <a:ext cx="2605680" cy="18104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2400" y="3689280"/>
            <a:ext cx="2605680" cy="18104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78760" y="3689280"/>
            <a:ext cx="2605680" cy="18104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B71AF-BCF3-474E-B720-C5E469AB0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06040" y="587160"/>
            <a:ext cx="8093160" cy="9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06040" y="1706400"/>
            <a:ext cx="8093160" cy="379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AAE6A-7885-4584-ACB3-D17E175CE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06040" y="587160"/>
            <a:ext cx="8093160" cy="9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8093160" cy="37958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FBA8D-8572-4A5D-B0B4-4F33810B4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06040" y="587160"/>
            <a:ext cx="8093160" cy="9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49200" cy="37958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53240" y="1706400"/>
            <a:ext cx="3949200" cy="37958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732E9-1A6C-4E09-AF19-097A7BE7D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06040" y="587160"/>
            <a:ext cx="8093160" cy="9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FDEF9-FD87-479B-B212-BD9080C11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06040" y="587160"/>
            <a:ext cx="8093160" cy="44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4578C-014E-4A67-BCA8-AB27A1E8B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06040" y="587160"/>
            <a:ext cx="8093160" cy="9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49200" cy="18104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53240" y="1706400"/>
            <a:ext cx="3949200" cy="37958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06040" y="3689280"/>
            <a:ext cx="3949200" cy="18104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B59E6-9073-447A-951A-B9608B0B0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06040" y="587160"/>
            <a:ext cx="8093160" cy="9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49200" cy="37958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53240" y="1706400"/>
            <a:ext cx="3949200" cy="18104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53240" y="3689280"/>
            <a:ext cx="3949200" cy="18104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61FB6-3B85-4B66-98E7-33CB126D2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06040" y="587160"/>
            <a:ext cx="8093160" cy="9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49200" cy="18104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53240" y="1706400"/>
            <a:ext cx="3949200" cy="18104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06040" y="3689280"/>
            <a:ext cx="8093160" cy="18104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70F95-9978-4F50-A829-0753ACD79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06040" y="587160"/>
            <a:ext cx="8093160" cy="9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06040" y="1706400"/>
            <a:ext cx="8093160" cy="37958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074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074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074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074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074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074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06040" y="5613120"/>
            <a:ext cx="208620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560" y="5613120"/>
            <a:ext cx="284148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13360" y="5613120"/>
            <a:ext cx="208404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90B139-ED3C-4CD8-A6A7-22A8DD7BC8F8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7120" y="357120"/>
            <a:ext cx="900756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2600" bIns="45000" anchor="t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ge 7 - 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Psalm 7 - Dwight Armstro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Vindicate The Justice You Comman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 Lord, my God, in You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 I my confidence repos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ve and deliver me fro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 my persecuting foes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st they should seize my lif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om me and, like a lion tear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vouring and rending it wit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 one to defe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57120" y="357120"/>
            <a:ext cx="900756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1040" bIns="45000" anchor="t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Verse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 Lord, my God, if it be so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at I committed this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f it be so that in my hand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iquity there is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f evil I repaid to him who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as at peace with me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Yea, Lord, did I my fo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elease and aid, without a caus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7120" y="357120"/>
            <a:ext cx="900756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1040" bIns="45000" anchor="t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Verse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n let the foe pursu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y life and thrust it to the earth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n let him take my soul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lay my honour in the dust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ise in Your wrath, Lord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tir Yourself, for my foes raging be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wake, my God, and vindicat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justice You command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14T15:58:28Z</dcterms:created>
  <dc:creator>Lanora Campbell</dc:creator>
  <dc:description/>
  <dc:language>en-US</dc:language>
  <cp:lastModifiedBy/>
  <cp:revision>1</cp:revision>
  <dc:subject/>
  <dc:title/>
</cp:coreProperties>
</file>