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72899-6AA6-46FE-9747-CCF26644A5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6E5D-8273-4FC0-87D4-8A4DC555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A9CA-6453-4113-B340-F86D722E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416F-A938-45D7-9CC8-50037013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92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416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92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416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D754-BD6F-4C27-B5C6-5117438F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3A18-A679-434B-8782-E01919B8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CF43-17C0-4051-8999-2A7A3484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4E94-1586-4B9C-B7A0-BBB07C1E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95F0-9631-4BE9-9CC2-C7A54C62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720"/>
            <a:ext cx="81010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89D3-B97B-4076-B41D-3440C2BE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38F5-D74F-4294-9DD5-AECBBA68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FFD7-E285-4832-A814-9500F65D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8D82-3587-4426-AFC7-A233B772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941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9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3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487AD-5D2A-449C-B070-8F5F21FA4BC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28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Henry Alford, 1844, Hugh Hartshorne, 1915 George J. Elvey, 18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e, Ye Thankful People, Co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, ye thankful people, co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ise the song of harvest hom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is safely gathered i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re the winter storms begi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our Maker doth provi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our want to be supplie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o God's own temple, co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ise the song of harvest h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blessings of the fiel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stores of gardens yiel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fruits in full suppl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pened 'neath the summer sk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at spring with bounteous h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tters o'er the smiling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at liberal autumn po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her rich o'er flowing st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to Thee, our God, we ow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rce whence all our blessings flow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for those our souls shall rai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teful vows and solemn prai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, then, thankful people, co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se the song of harvest hom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to God's own temple, co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se the song of harves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9T16:38:53Z</dcterms:created>
  <dc:creator>Lanora Campbell</dc:creator>
  <dc:description/>
  <dc:language>en-US</dc:language>
  <cp:lastModifiedBy/>
  <cp:revision>1</cp:revision>
  <dc:subject/>
  <dc:title>Hymnal</dc:title>
</cp:coreProperties>
</file>