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91B3B-D1EC-4550-AE1E-9C85BF4765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3484-8567-418C-8D26-3B3E639D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812-3F82-4574-BD8B-BF249E0C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D152-CBE3-4B8D-8CF0-72222362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5C4-0980-49AA-B6D3-51A5D216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E8C2-5B4D-4E38-B037-A840E790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E0D5-758D-46DC-B8B8-1C5D1F6B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C050-2E75-4DE7-B984-87D17B91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B3D-DDC5-4070-B7A2-9EB983BC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F6CB-5D34-426B-BCBC-53F03F89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536-A7D0-4441-AC75-A2E4F507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A073-1A09-4BE2-8B23-45B44DB1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6AC2-F42C-4BA2-BF55-2BF9F638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BA87D-00DD-4834-BAE6-A7397B6E87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9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55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to My Earnest Prayer Give E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o my earnest prayer give e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 hide Thee, O Most Hig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d my sad complai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ar my mourning, bitter c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of sinful men I wee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persecuting fo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ickedness upon me hea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e wrath oppos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re pain in heart, I find no ea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th's terrors fill my sou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fear and trembling on me seiz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orrors o'er me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O had I wings," I sigh and s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like some swift dove to roa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ould I hasten far aw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find a peaceful home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49200"/>
            <a:ext cx="900612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, wand'ring far, my r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be in some lone desert was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from the windy storm would fl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from the tempest ha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troyed, Eternal, let them b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, confuse their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n the city, lo I see great str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rievous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7T16:47:15Z</dcterms:created>
  <dc:creator>Lanora Campbell</dc:creator>
  <dc:description/>
  <dc:language>en-US</dc:language>
  <cp:lastModifiedBy/>
  <cp:revision>1</cp:revision>
  <dc:subject/>
  <dc:title>Hymnal</dc:title>
</cp:coreProperties>
</file>