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C6081-48AD-4AAC-8CEF-783A682DA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37E-C7B6-44AE-9A57-4524B2B4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0D7-165C-4FF8-95C4-F8F339BC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546-6FAC-4ED5-A34A-04302E74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536-AE66-48C3-94DD-73392F51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CDF-9BCA-470E-9041-C104167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636-4793-4890-87C1-5A124DFA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BF3-60EF-4005-A3DF-BC933DD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9B4-562A-43D2-BA6E-70F8AD4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1A6-97AD-4B70-A281-0114FB3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6CE-1B9C-4F64-95CC-C3A24D40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154-3327-4109-ABA3-D9FFD4A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AEB-BAE0-4575-A5AA-785C3C8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0984D-C4BA-45CA-872D-FDD4DB4E8D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Bless And Praise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less and praise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 praise His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ternal One, my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very great! O Th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t arrayed in glorious majes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cov'rest Thysel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light as with a ro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preadest the heaven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them like a ten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buildest Thy cha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waters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formest the clou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Thy chario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alketh and rid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e wings of w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makest the wi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be Thy messenger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lso Thy ministers flames of fi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didst set the ea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its foundatio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that it never should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ken or be mov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deep Thou didst c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 as with a ro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waters rose and 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ve the mountain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fled at Thy rebuk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voice of thund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untains rose and valley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ed at Thy comm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28:01Z</dcterms:created>
  <dc:creator>Lanora Campbell</dc:creator>
  <dc:description/>
  <dc:language>en-US</dc:language>
  <cp:lastModifiedBy/>
  <cp:revision>1</cp:revision>
  <dc:subject/>
  <dc:title>Hymnal</dc:title>
</cp:coreProperties>
</file>