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3580C-6492-4DF1-9869-14FA29411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14D-E0C9-46D5-93C9-7B6D0FE4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6CA-BD64-48B1-A066-56701BA4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FB1-06F8-4A5D-8CDC-B20F0DED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1F5-3788-4B2B-B694-64E87D15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497-1332-4B9B-893B-588F1ABB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6A1-77E7-43BE-BD2C-B106A99D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4AE-7553-467B-9D1E-06078903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C0D-CB97-49DD-9BFB-B870C3D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35D-49FF-47F2-9134-C4E353B9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CC3-4376-4D38-AB7C-A00522E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66B-D39B-4F51-AEEC-4251B876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AF3-617C-48D7-A6EB-6678FBFB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EC095-7DD5-4FB0-895A-304E95FBA4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27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less The Lord Shall Build The Hou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ess the Lord shall build the hou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ry builders toil in v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ess the Lord the city shiel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uards maintain a useless wat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vain you rise ere morning br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ate your nightly vigils kee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read of anxious care partak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gives to His beloved 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, children are the gift of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ons the blessing He comman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whom in youthful days bestow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like the shafts in warrior's ha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appy they whose quivers b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store of arrows such as the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in the gate are free from f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oldly face thei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an is blest who fears the L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lives and walks in all His way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f his labor shall he ea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shall prosper all his 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ife shall be a fruitful v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children all like olive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 the man who fears the Lor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his blessing will aff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6:42:34Z</dcterms:created>
  <dc:creator>Lanora Campbell</dc:creator>
  <dc:description/>
  <dc:language>en-US</dc:language>
  <cp:lastModifiedBy/>
  <cp:revision>1</cp:revision>
  <dc:subject/>
  <dc:title>Hymnal</dc:title>
</cp:coreProperties>
</file>