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DC9DA-0961-44EA-92DF-E7E6D0576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C8A-789B-4C7F-9D4B-EA32A74B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73A-CC05-4DE7-8EFD-27CB73E3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8DB-5CB6-41F8-BEE4-459A4E5D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5D8-DE4A-41C6-9BB0-A16F7672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41B-96B1-4A74-B627-11F16771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BBA-BFCD-48E5-A95B-57884DB2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E88-C213-4CEE-95B5-1E02ED43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570-2DDF-4DC8-9382-9B90DD14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579-D8C1-4139-B2C4-6D8869BD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EA4-D092-4F7B-8BAA-E39569C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79C-5405-4423-AB61-0613C5BF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60F-1DCF-45CF-9850-4F85665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33004-0275-4876-A76F-CEAA70D859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3880"/>
            <a:ext cx="900612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5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36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Wicked M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cked man doth c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hought within my heart to r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oubtedly the fear of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before his ey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n his deceitful ey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ays are always r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the vileness of his s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all be brought to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s that from his mo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ed are wickedness and l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refrained from doing g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eased from being 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unningly he plotteth mischi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ing on his b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ts himself in ways not go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ll abhorreth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t the foot of cruel p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and against me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et me never be remov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by the wicked'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're fallen, they are ruin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at work iniquiti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cast down and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be able to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4:25:08Z</dcterms:created>
  <dc:creator>Lanora Campbell</dc:creator>
  <dc:description/>
  <dc:language>en-US</dc:language>
  <cp:lastModifiedBy/>
  <cp:revision>1</cp:revision>
  <dc:subject/>
  <dc:title>Hymnal</dc:title>
</cp:coreProperties>
</file>