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4151E-109F-4803-8693-B83DBC55D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43C-4335-4B7B-97D2-3FB565E4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707-7D5E-49F9-9C65-3D2C2BC2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496-85CA-42AC-9581-5FF5425B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069-942D-4E94-95FE-1A134C40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676-1502-4FF3-B9CE-159314D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EC9-D1D8-45CE-BF0E-E9A8B709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95C-80C5-48BF-A46C-2223374C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837-1B50-4B2C-9378-32C2A93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F24-28E4-4707-96F0-3621B81C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EE3-F58E-42C9-A4D5-D88B8D48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3CA-02A6-44D7-A17C-B0A44FE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778-3C17-4168-85DB-4287DE87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19E79-1F26-490E-8A1F-CA614F0115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7 -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Words, Frederick W. Faber, 1849 Tune, Henri F. Hemy, 1864, Arranged, James G. Walton, 187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ith Of Our Fath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of our fathers, living sti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pite of dungeon, fire and sw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our hearts beat high with joy, Whene'er we hear that glorious w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of our fathers, holy faith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be true to thee till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of our fathers, we will str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win all nations unto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rough the truth that comes from God, Mankind shall then be truly fr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of our fathers, holy faith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be true to thee till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of our fathers, we will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friend and foe in all our strif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each Thee, too, as love knows how By kindly words and virtuous lif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of our fathers, holy faith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be true to thee till dea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6:33:28Z</dcterms:created>
  <dc:creator>Lanora Campbell</dc:creator>
  <dc:description/>
  <dc:language>en-US</dc:language>
  <cp:lastModifiedBy/>
  <cp:revision>1</cp:revision>
  <dc:subject/>
  <dc:title>Hymnal</dc:title>
</cp:coreProperties>
</file>