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0FF56-E94D-46F3-8E50-0A4E9F0856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0A1-B985-4B15-8811-4CF1DA10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695-FE0D-43C2-B633-73C18B8D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E87-734C-4626-9DE0-D84A61BC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650-8251-4829-8214-3E0FEEF6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55E-6AE9-430A-91F9-5EB0FE0C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3C8-B8E9-4115-89B7-0D05015B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921-0D98-449B-B853-3D580F98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B4D-8F46-48FC-BB2D-FB878A4D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A16-81ED-42F9-8929-B4CD7EC1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AA6-FDFA-4182-8B77-511EFE66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3A2-C238-4DA0-A3DC-EE4EADC7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F2B-FB62-4E0B-A36F-EB8E316F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5D7F9-9B77-47B1-927F-4732745D07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6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39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r It Is God Who Orders Lif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aid my ways I'll guard with ca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t with my tongue I sin, O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ut a bridle on my lip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n the presence of ungodly 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silence I became as dumb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eld my peace but to no ava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rrow within my heart was stirr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distress grew hot as fi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8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ith my tongue I spoke these word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e know my end, O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number of my day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et me know how fleeting is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hast made my days as a spa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as nothing in Thy sigh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ely before Thee all men sta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mere breath they stand before The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surely man is but a breat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 shadow he goes abou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are in turmoil all for nough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lth do they gather but all in v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, O God, for what do I wa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ope in Thee is; my sin forg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make me not the scorn of fool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hall not speak but remain as du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t is God who orders lif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way Thy stroke from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consumed by Thine own ha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ou dost chasten man for all his s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's life is vain and wasted aw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 Thou my cry and hold not Thy peac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re me that I may gladness kn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God, recall how fleeting i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3:12:07Z</dcterms:created>
  <dc:creator>Lanora Campbell</dc:creator>
  <dc:description/>
  <dc:language>en-US</dc:language>
  <cp:lastModifiedBy/>
  <cp:revision>1</cp:revision>
  <dc:subject/>
  <dc:title>Hymnal</dc:title>
</cp:coreProperties>
</file>