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54430-213B-4B33-8F2E-88F69591C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24B-7AC3-4068-8A96-90A90A7E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727-332B-496E-B677-3A97BBB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D62-B143-4163-9DE5-77875CD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D15-1B35-4FB4-B675-2D1D0970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15D-37A4-4AAA-9FE5-8037CF2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3C4-123F-4E39-816B-0FB18591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785-CC4E-49DE-A87D-8F856DF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9FF-9AE7-4141-9B48-C6E4E1D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01C-4D43-47EF-A61D-4EDAA2B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A3E-8475-43A5-A1DD-F7981D1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BFB-09C8-46D3-BC87-BD49023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7DD-2FD4-4ED6-B68F-CBEC890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36DFE-6302-44F5-832E-DACFA09577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. Catherine Hankey, 1834-1911, William H. Doane, 1832-1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l me The Old, Old Stor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me the old, old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unseen things ab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Jesus and His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Jesus and His l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me the story simp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o a little chi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weak and we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lpless and def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story slow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may take it 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wonderful redemp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's remedy fo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story oft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 forget so soo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arly dew of mo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passed away at no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story soft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arnest tones and gra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I'm the sin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m Jesus came to sa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story alway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ould really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y time of troub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forter to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same old story 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cause to f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is world's empty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costing me too de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, and when that world's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dawning on my sou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Christ Jesus makes thee whol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me the old, old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00:15:45Z</dcterms:created>
  <dc:creator>Lanora Campbell</dc:creator>
  <dc:description/>
  <dc:language>en-US</dc:language>
  <cp:lastModifiedBy/>
  <cp:revision>1</cp:revision>
  <dc:subject/>
  <dc:title>Hymnal</dc:title>
</cp:coreProperties>
</file>