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12443-3DB6-4539-B3CD-A0B44798C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4F2-D2F2-4001-BF21-6E25E19B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1F3-0620-482B-9683-173597EF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71B-9E93-41E0-BC9A-7C69EB95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FA9-5E51-4DDA-8163-FFAB6607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C3A-ACEB-48C7-B43F-847DDBFF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71C-5915-4A10-AC71-E3289E4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A0E-7FE8-4C22-8DE8-3716FF61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720-8A84-481C-8BD0-D2906C5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3D5-E1CF-4010-87C8-2D06DC24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365-0D2B-4774-8540-ECE67FC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CB5-16B9-4AD8-8C62-8FFABB5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F04-FFA0-4E2D-AA3B-901AE8E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3FBFD-856C-4CF6-9355-1CA8DEFD56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hilip P. Bliss, 1838-1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wer Ligh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ly beams our Father's mer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is lighthouse evermo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o us He gives the keep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e lights along the sho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lower lights be burning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a gleam across the wa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poor fainting, struggling seama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may rescue, you may s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9440" y="357120"/>
            <a:ext cx="8983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 the night of sin has settl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d the angry billows roa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ger eyes are watching, long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ights, along the sho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lower lights be burning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a gleam across the wa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poor fainting, struggling seama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may rescue, you may s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3880" y="357120"/>
            <a:ext cx="90093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m your feeble lamp, my broth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poor seaman tempest toss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ing now to make the harb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darkness may be los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lower lights be burning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d a gleam across the wa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poor fainting, struggling seam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may rescue, you may s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3:58:59Z</dcterms:created>
  <dc:creator>Lanora Campbell</dc:creator>
  <dc:description/>
  <dc:language>en-US</dc:language>
  <cp:lastModifiedBy/>
  <cp:revision>1</cp:revision>
  <dc:subject/>
  <dc:title>Hymnal</dc:title>
</cp:coreProperties>
</file>