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007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189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4476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4512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4476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4512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3A91E-2646-4F96-AFD3-7BA3D1922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1992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1992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77960" y="4776840"/>
            <a:ext cx="61992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78" name=""/>
          <p:cNvSpPr/>
          <p:nvPr/>
        </p:nvSpPr>
        <p:spPr>
          <a:xfrm>
            <a:off x="777960" y="4776840"/>
            <a:ext cx="61992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"/>
          <p:cNvSpPr/>
          <p:nvPr/>
        </p:nvSpPr>
        <p:spPr>
          <a:xfrm>
            <a:off x="777960" y="4776840"/>
            <a:ext cx="61992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82" name=""/>
          <p:cNvSpPr/>
          <p:nvPr/>
        </p:nvSpPr>
        <p:spPr>
          <a:xfrm>
            <a:off x="777960" y="4776840"/>
            <a:ext cx="61992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559-BAAE-459C-B83E-BB578D49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1874880"/>
            <a:ext cx="748332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03040" y="3632400"/>
            <a:ext cx="748332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9FA-E8D9-40A3-95A2-26C6BD17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03040" y="187488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7760" y="187488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3040" y="363240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7760" y="363240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11B-5E4D-4910-9FD5-8CB2DE17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1874880"/>
            <a:ext cx="240948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480" y="1874880"/>
            <a:ext cx="240948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3560" y="1874880"/>
            <a:ext cx="240948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03040" y="3632400"/>
            <a:ext cx="240948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480" y="3632400"/>
            <a:ext cx="240948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3560" y="3632400"/>
            <a:ext cx="240948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7AF-F1DE-43AC-9C5C-8E61E451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03040" y="1874880"/>
            <a:ext cx="74833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7D7-DD0F-4A5A-8D65-8CBACE73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03040" y="1874880"/>
            <a:ext cx="74833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6FE-AAD2-4A2D-95E4-23C0E892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3040" y="1874880"/>
            <a:ext cx="365184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7760" y="1874880"/>
            <a:ext cx="365184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FC6-93B6-40EB-9096-5CC8E6E7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19E-758B-4788-AEBA-B7D0EC1D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3040" y="879480"/>
            <a:ext cx="748332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1F7-5CE1-4570-BE47-EC3D880C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03040" y="187488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7760" y="1874880"/>
            <a:ext cx="365184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3040" y="363240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622-2C80-4D33-B043-FEF3CF6C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03040" y="1874880"/>
            <a:ext cx="365184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760" y="187488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7760" y="363240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4CD-5478-4B9C-AD8F-0DE70803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187488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7760" y="1874880"/>
            <a:ext cx="365184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3632400"/>
            <a:ext cx="7483320" cy="16045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E1C-DAE9-4614-8D9A-789D4034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3040" y="879480"/>
            <a:ext cx="74833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3040" y="1874880"/>
            <a:ext cx="74833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9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95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03040" y="5351040"/>
            <a:ext cx="191772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680" y="5351040"/>
            <a:ext cx="261936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70440" y="5351040"/>
            <a:ext cx="191772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4EDBD-A558-4D86-92FF-B7D358FA1D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1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salm 1 - Dwight Arm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est And Happy Is The M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est and happy is the m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oes never walk astr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 with the ungodly 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s in sinner's w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 does prospers we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wicked are not s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are chaff before the wi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ven to and f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'er in scorner's chair he sit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e places his de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God's law and medit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it day and n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 does prospers we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wicked are not s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are chaff before the wi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ven to and f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hall be a tree that grow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ed by the river's si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in season yields its frui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en its leaves abid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he does prospers wel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the wicked are not s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are chaff before the win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ven to and f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00:36:35Z</dcterms:created>
  <dc:creator>Lanora Campbell</dc:creator>
  <dc:description/>
  <dc:language>en-US</dc:language>
  <cp:lastModifiedBy/>
  <cp:revision>1</cp:revision>
  <dc:subject/>
  <dc:title/>
</cp:coreProperties>
</file>