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9C0B2-76BF-4743-85E4-6AD59034C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60D-ABFF-4E8A-8847-8381A6D4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250-0B54-4FF2-84D2-22B287E7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612-EE7C-4F0A-8414-E26E0022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C6F-4838-42DC-92CD-AC2F85ED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6D5-2514-4E90-92BC-8D273342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99D-A044-4A92-8960-0088801C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304-1610-4D5E-97C8-37E1465B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242-C628-4C82-88F3-473597DA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C33-0472-4339-8D5B-2F335AD1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1A7-77AB-48DD-8139-B726654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918-A28A-4D66-8859-9DC78679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80A-9E68-4531-A612-BC5C0D2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E8362-222A-400A-9EF4-D616CD9D66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920" y="357120"/>
            <a:ext cx="90072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anny J. Crosby, 1820-1915, alt. William H. Doane, 1832-19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The 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work! To the wor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servants of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follow the path that 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has tr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balm of His couns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trength to rene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do with our m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our hands find to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hop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watc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trust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p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abor till the Master 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work! To the wor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hungry be f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fountain of life let the weary be l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is Life and its banner our glory shall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we herald the tidings, "Salvation is free!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hop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watc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trust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p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abor till the Master 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work! To the wor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labor for 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kingdom of darkness and error shall f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name of our Jehovah exalted shall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oud swelling chorus, "Salvation is free!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hop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watc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trust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p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abor till the Master 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work! To the work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strength of the Lo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 robe and a crown shall our labor rewa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home of the faithful our dwelling shall b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e shout with the ransomed, "Salvation is free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ing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iling 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hop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watc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trust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p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abor till the Master 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5:07:28Z</dcterms:created>
  <dc:creator>Lanora Campbell</dc:creator>
  <dc:description/>
  <dc:language>en-US</dc:language>
  <cp:lastModifiedBy/>
  <cp:revision>1</cp:revision>
  <dc:subject/>
  <dc:title>Hymnal</dc:title>
</cp:coreProperties>
</file>