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AF725-6BFC-4B64-BF8A-85B7C6D58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464-CBAC-4721-8F4C-15EA8FAD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9640"/>
            <a:ext cx="80964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B03-52D7-4FE2-833A-75FD575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96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896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B63-4869-45B0-B153-3B76C034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9640"/>
            <a:ext cx="26067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89640"/>
            <a:ext cx="26067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89640"/>
            <a:ext cx="26067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929-9856-4F87-83AE-1645D487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09D-1F6A-4C8D-8BFD-87D33B5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4BD-B595-4700-A072-4A611253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39C-8AFC-40C2-AD23-F4755DA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3F8-F6E5-46F1-AE34-3D0D84AB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BAC-84AE-44FD-8B36-316CA35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96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8E3-AEDB-43EF-A304-4F8BEBB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896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AEB-61FD-41C6-9D31-399DBD1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9640"/>
            <a:ext cx="80964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075-E162-4602-AF31-EFBA5AD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1320"/>
            <a:ext cx="208764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1320"/>
            <a:ext cx="28465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1320"/>
            <a:ext cx="20872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3660D-61AE-4A83-AF86-BB8EC532E5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ay Palmer, 1830, alt. Lowell Mason, 18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Faith Looks Up To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aith looks up to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Lamb of Calvary, Savior div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hear me while I pr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all my guilt a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me from this day be wholly thi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y rich grace impart streng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y fainting heart, My zeal inspi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Thou has died for 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y my love to Thee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rm and changeless be, a living fi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life's dark maze I t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riefs around me sprea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my Gu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darkness turn to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pe sorrow's tears aw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let me ever stray from Thee a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ends life's transient drea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eath's cold, sullen strea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o'er me roll, Blest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, in love, fear and distrust rem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ear me save in love, a ransomed sou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00:31:54Z</dcterms:created>
  <dc:creator>Lanora Campbell</dc:creator>
  <dc:description/>
  <dc:language>en-US</dc:language>
  <cp:lastModifiedBy/>
  <cp:revision>1</cp:revision>
  <dc:subject/>
  <dc:title/>
</cp:coreProperties>
</file>