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00513-F8A7-4908-AB4F-D13BD8B18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1CE-9C82-4F30-9F6A-74924AB2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89B-E5C9-413F-B0AA-65F4F8B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E86-EDB7-41CC-8261-F04F62A8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027-2EE6-43C7-80C4-C722706E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BAB-E7EB-4AAF-B95B-4B93E029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314-5D16-471F-9448-9EBE8FE0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8FB-0D34-47C2-8078-99969F7F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A34-1B03-4376-884C-B66702C4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BE6-7103-474D-8E7E-D209AE5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B41-D25A-4C9E-8A45-FD91B55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18B-B4E3-473B-9A28-D4160E5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077-30E7-4CC7-9396-00BAADA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45B8D-EF3D-4DD0-8B98-B40E29ADF9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George Matheson, 1882, alt., Albert L. Peace, 18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Love That Wilt Not Let Me G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that wilt not let me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my weary soul in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Thee back the life I o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ine ocean dept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flow may richer, fuller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ight that followest all my w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yield my flickering torch to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restores its borrowed ray tha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sunshine's gl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day may brighter, fairer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oy that seekest me through pa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annot close my heart to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ace the rainbow through the ra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eel the promise is not v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orn shall tearless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ve that liftest up my hea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are not ask to hide from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ay in dust life's glory dea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om the ground t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ssoms red, life that shall endless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4:27:17Z</dcterms:created>
  <dc:creator>Lanora Campbell</dc:creator>
  <dc:description/>
  <dc:language>en-US</dc:language>
  <cp:lastModifiedBy/>
  <cp:revision>1</cp:revision>
  <dc:subject/>
  <dc:title>Hymnal</dc:title>
</cp:coreProperties>
</file>