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0BB49-6B46-4F10-8A86-3B819BA6F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8B4-16CA-441C-9EE4-4AB4EDBC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E91-82B0-471F-9E7A-921A27A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481-90C6-4408-930E-E85ED3F0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360-C2BC-4002-A267-CFA22C57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C4F-84B3-4DF7-B30B-DEAA3B46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AF4-4AE2-487C-88B7-EDDE9B9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3C8-EF30-48F3-B809-55A45C2F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747-A4E2-49D2-B1A3-5BC00BD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4B2-9E97-4263-9728-DF713F6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85A-8426-4C90-8193-D84AAC8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E64-2FC8-41C6-A92C-DD6C958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174-4773-4600-8C07-74DDC9B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90486-4132-4883-A85E-6731CD72BF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lara H.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en My Eyes That I May S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eyes, that I may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impses of truth Thou hast for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in my hands the wonderful 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hall unclasp, and set me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ently now I wait for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y, my God, Thy will to s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eyes, illu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, 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ears, that I may h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s of truth Thou sendest cl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le the wave notes fall on my 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'rything false will disappe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ently now I wait for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y, my God, Thy will to s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eyes, illu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, 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mouth and let me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dly the warm truth ev'rywhe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heart, and let me pre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with Thy children thus to sh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ently now I wait for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y, my God, Thy will to s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y eyes, illu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, 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33:06Z</dcterms:created>
  <dc:creator>Lanora Campbell</dc:creator>
  <dc:description/>
  <dc:language>en-US</dc:language>
  <cp:lastModifiedBy/>
  <cp:revision>1</cp:revision>
  <dc:subject/>
  <dc:title>Hymnal</dc:title>
</cp:coreProperties>
</file>