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6EDE1F-2FE4-4D6E-BF1B-D14A97CD9D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7760" cy="37702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25F7-88FF-4B6A-AF88-69F704DA4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C19A-3645-47C8-A7E9-D8CB7495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B317-DEE1-4B1D-93AC-CA849082E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FE94-F115-4C15-B197-20B37490F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28B3-35B7-49AF-BCA7-97E52374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C9F8-CC7B-4399-A07E-8DDB3E97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9A60-111C-4663-B793-55126817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3FA6-FFCF-45C4-B20D-6470AC4F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2B2B-7DE1-48E9-951E-530E996F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2ADD-5A70-4FEC-9E88-9993E0B0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8E25-F157-409B-832A-01E112AA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A75C-E921-4A8B-901A-237C14CE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FB95B-1779-43EB-8CC4-8E86967B32A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03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62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od Is My Rock, My Salv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is my rock, my salvatio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hope My soul in sil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its for my God al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is my fort, I shall not be remove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is my refuge, my high tower of str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cue shall come from my God alon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 shall never be greatly remo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ll, O my soul, wait in silence for Go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hope and refuge is in my God alon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is my Rock, my salvation and strength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God alone shall my deliverance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long will men take pleasure in sin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plot and threaten the life of the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in men are they, delighting in craf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lips they bless wi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y curse inwardl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men or high, both are less than a breath; Trust and rely not on extortion and 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dness and pow'r belong to our Go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shall reward ev'ry man for his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8T00:32:15Z</dcterms:created>
  <dc:creator>Lanora Campbell</dc:creator>
  <dc:description/>
  <dc:language>en-US</dc:language>
  <cp:lastModifiedBy/>
  <cp:revision>1</cp:revision>
  <dc:subject/>
  <dc:title>Hymnal</dc:title>
</cp:coreProperties>
</file>