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E4BBF-AF4D-4D75-8CB7-7C99CDDC8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A95-D3F2-4A4A-AF04-981752F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F40-8CC0-4B1A-B97C-A0B01FB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18D-707E-4B9B-8EED-21FD7836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A3C-9640-4354-B6E6-630E6126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9BF-DB33-4299-8922-AFCD2F9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934-061A-4813-BFFD-4A2C56E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1A3-98E8-464F-9383-0182CDE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754-3E1D-465C-BA9E-CA88AC38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517-9D62-4CAB-B3CE-7C75B961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B6C-87E4-4590-95CE-EC72BB7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CE9-D07B-4209-B020-6724657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9B3-7711-49B8-94CF-907A159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B6F37-17A2-41E2-BEFA-BA11BCD172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1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Ear To My Prayer, O Lo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 to my prayer, O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supplications h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me in faithful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y righteous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judgment enter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y servant Lord, I pr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o living man i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 in Thy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nemy, my fo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ed he my sou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hath he smitten d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unto the grou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me in the darkness dw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ose that have long been d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pirit is overwhel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deso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member days of o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ate on all Thy w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muse on all Thy work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y hands have wr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e my soul does thir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thirsty land, Sela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e, Lord, make haste I pr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spirit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hear me, I pray of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not Thou Thy face from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t like unto them I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unto the du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Thy servant, Lord, to h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Thy loving kindness,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lift my soul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in Thee do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3:47:01Z</dcterms:created>
  <dc:creator>Lanora Campbell</dc:creator>
  <dc:description/>
  <dc:language>en-US</dc:language>
  <cp:lastModifiedBy/>
  <cp:revision>1</cp:revision>
  <dc:subject/>
  <dc:title>Hymnal</dc:title>
</cp:coreProperties>
</file>