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D5BB7-CD22-4FD0-AC0E-37C787FCF2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781C-A3A0-40E6-86F2-94C0BD26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6EB7-68DD-4D38-9080-08782712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218-CEF8-4BEE-AE32-31EC4336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51BE-48F0-4677-B634-24C89942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696B-AE12-4FE1-9D6C-AE3CD9AD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6C65-E62E-4486-89D2-8401FA5C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5187-20A6-4751-9D13-9B1A5E50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667B-CA2F-4422-AA64-68349EF0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F4E2-3D49-473A-9CCF-959E923F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D783-65CF-48C5-82CC-ECCBE56E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DC5E-6EBB-4AF3-A059-BCF9C72C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B1B5-1386-4C3B-81FF-734B691F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1146D-6EAE-4A06-928B-1ACA0338BE5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05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harlotte G. Homer, W.A. Og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e To The Fea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All things are ready,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o the feast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for the table now is sprea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famishing, ye wear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and thou shalt be richly f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              the invitation.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 the invitation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whosoever will,"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, "whosoever            will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 the invitation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soever wi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ise God    for full sal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ise God for full salvation, For "whosoever will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"whosoever will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All things are ready,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o the feast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for the door is open wid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place of honor is reserv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you at the Master's sid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              the invitation.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 the invitation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whosoever will,"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, "whosoever            will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 the invitation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soever wi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ise God    for full sal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ise God for full salvation, For "whosoever will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"whosoever will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All things are ready,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o the feast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while He waits to welcome the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lay not while this day is thin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morrow may never b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              the invitation.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 the invitation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whosoever will,"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, "whosoever            will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 the invitation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soever wi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ise God    for full sal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ise God for full salvation, For "whosoever will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"whosoever will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93840"/>
            <a:ext cx="900612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All things are ready,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o the feast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ve ev'ry care and worldly strif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feast upon the love of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drink everlasting lif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              the invitation.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 the invitation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whosoever will,"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, "whosoever            will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 the invitation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soever wi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ise God    for full sal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ise God for full salvation, For "whosoever will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"whosoever will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4T18:55:26Z</dcterms:created>
  <dc:creator>Lanora Campbell</dc:creator>
  <dc:description/>
  <dc:language>en-US</dc:language>
  <cp:lastModifiedBy/>
  <cp:revision>1</cp:revision>
  <dc:subject/>
  <dc:title>Hymnal</dc:title>
</cp:coreProperties>
</file>