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78982-EC39-40D3-8A5B-38E502239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ADA-0ED2-4231-B70C-B4653659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C6E-B3D0-4E04-803D-DFDA277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EF2-F8FA-4EC0-87A0-B742FD6D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04A-E2A4-4B45-8070-26B5B41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91F-085A-4974-978F-CE536E5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EA6-BC6F-4EB3-A9C5-A205FA1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9AB-0507-4064-85AE-65546574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BB6-BDFF-4200-96A1-FFC1EB8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7A0-BDD6-4229-8E18-CA8E42A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636-169B-4D83-ACE1-8CF1459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05C-B516-41CB-B7A5-0CA988E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A4D-7EE5-4547-B929-C89C333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4B417-F3EE-4827-8D8C-9C862CB1AF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.B. McKinney, 1886-19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Others See Jesus In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passing thro' this world of s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thers your life shall vie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clean and pure without, with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elling the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aithful and tru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life's a book before their e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're reading it thro' and thro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, does it point them to the sk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others see Jesus in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elling the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aithful and tru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live for Christ both day and n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aithful, be brave and tru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ad the lost to life and Chris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 you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elling the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faithful and tru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others see Jesus in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3:30:13Z</dcterms:created>
  <dc:creator>Lanora Campbell</dc:creator>
  <dc:description/>
  <dc:language>en-US</dc:language>
  <cp:lastModifiedBy/>
  <cp:revision>1</cp:revision>
  <dc:subject/>
  <dc:title>Hymnal</dc:title>
</cp:coreProperties>
</file>