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720263" cy="64833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19840" cy="37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0856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63840" cy="4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4200" cy="4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0" y="9555120"/>
            <a:ext cx="3363840" cy="4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4200" cy="4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A12781-0AD5-466F-9C39-FFAACB335F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7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9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1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CF29-F195-4709-B7FB-36B0BC686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6400" y="585720"/>
            <a:ext cx="809640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8096400" cy="1811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6400" y="3690360"/>
            <a:ext cx="8096400" cy="1811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3B75-1EE3-4003-B94A-19909C6F5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6400" y="585720"/>
            <a:ext cx="809640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000" cy="1811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5400" y="1706040"/>
            <a:ext cx="3951000" cy="1811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6400" y="3690360"/>
            <a:ext cx="3951000" cy="1811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55400" y="3690360"/>
            <a:ext cx="3951000" cy="1811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530C-3FD4-4D55-AD06-4596732E2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6400" y="585720"/>
            <a:ext cx="809640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2606760" cy="1811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3840" y="1706040"/>
            <a:ext cx="2606760" cy="1811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81280" y="1706040"/>
            <a:ext cx="2606760" cy="1811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6400" y="3690360"/>
            <a:ext cx="2606760" cy="1811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3840" y="3690360"/>
            <a:ext cx="2606760" cy="1811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81280" y="3690360"/>
            <a:ext cx="2606760" cy="1811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32EA-DA7C-44B1-A4B1-F27F40153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6400" y="585720"/>
            <a:ext cx="809640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6400" y="1706040"/>
            <a:ext cx="8096400" cy="37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94C7-6D0B-4D94-AD12-85D4839B5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6400" y="585720"/>
            <a:ext cx="809640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8096400" cy="37990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AF48-AB22-4A03-A642-1343B1E80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6400" y="585720"/>
            <a:ext cx="809640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000" cy="37990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55400" y="1706040"/>
            <a:ext cx="3951000" cy="37990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012D-F685-45A3-BB36-077B2E30F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6400" y="585720"/>
            <a:ext cx="809640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B68F-314E-44B0-9C49-A02F2E1EB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6400" y="585720"/>
            <a:ext cx="8096400" cy="442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D27B-5176-4107-A45B-5BF245701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6400" y="585720"/>
            <a:ext cx="809640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000" cy="1811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55400" y="1706040"/>
            <a:ext cx="3951000" cy="37990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6400" y="3690360"/>
            <a:ext cx="3951000" cy="1811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71A6-F697-43BA-AEC9-159930FCA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6400" y="585720"/>
            <a:ext cx="809640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000" cy="37990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55400" y="1706040"/>
            <a:ext cx="3951000" cy="1811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5400" y="3690360"/>
            <a:ext cx="3951000" cy="1811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A177-49E4-4E4F-97E9-7726EEABF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6400" y="585720"/>
            <a:ext cx="809640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000" cy="1811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5400" y="1706040"/>
            <a:ext cx="3951000" cy="1811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6400" y="3690360"/>
            <a:ext cx="8096400" cy="1811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4F66-5011-49D3-BF1D-C1AB998BE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6400" y="585720"/>
            <a:ext cx="809640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6400" y="1706040"/>
            <a:ext cx="8096400" cy="37990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06040" y="5613480"/>
            <a:ext cx="2089080" cy="3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5613480"/>
            <a:ext cx="2844720" cy="3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13360" y="5613480"/>
            <a:ext cx="2089080" cy="3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94CF12-BA69-4AFF-863B-B23FD94F73A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e 46 -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Psalm 25 - Dwight Armstro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ine Eyes Upon The Lor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inually Are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ne eyes upon the Lord continually are set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He it is that shall bring forth my feet out of the net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urn unto me Thy face, and to me mercy show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cause that I am desolate and am brought very l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s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y heart's griefs are increased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lieve me from distress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e mine affliction and my pain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all my sins forgiv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sider Thou my fo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they many are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it a cruel hatred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ich they against me b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s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 do Thou keep my sou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 Thou deliver me;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let me never be asham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I trust in Thee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 uprightness and truth keep m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o Thee atten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demption, Lord, to Israe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om all his troubles s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15T12:24:44Z</dcterms:created>
  <dc:creator>Lanora Campbell</dc:creator>
  <dc:description/>
  <dc:language>en-US</dc:language>
  <cp:lastModifiedBy/>
  <cp:revision>1</cp:revision>
  <dc:subject/>
  <dc:title/>
</cp:coreProperties>
</file>