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04AF1-28BA-4CDE-A6F9-AF80E77C2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6B6A-9BE7-4191-A178-37F31A82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2AE6-1B46-4BB5-AA7A-7E0A5C9F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7015-3FF1-42B0-B72A-C402E9D3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2B18-0946-45B0-AD32-79C58428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A51-3486-490D-86BD-E0B4D7F3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0E0-4BA5-4612-9C96-774E9C86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0F08-533C-48A6-936C-9F179F9F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D277-0D3E-4C15-A2EE-691C1CD1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E4D-E365-45AD-8DFA-97453CDF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FE70-ED35-48A2-A8CF-0F27D8BC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A62-04DE-4BC7-94B0-5AD1A46E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2CA-F738-48FE-BF06-4F48667D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50364-1EB3-4C16-83CF-C91424B0DA0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72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43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ghteous Jud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eous Judge, from foes defend 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deceitful charges l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, my strength, my soul deliv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y treach'rous foes dism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send out Thy light and tru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m lead and guide me stil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m bring me to Thy dwell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 me to Thy holy h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ill I come to Thine alt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of my exceeding jo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, with lyre will I sing prais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o God, my God I'll sing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t thou, my soul, cast dow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t thou disquie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hall yet have hope and praise Hi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o God shall I give prais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4:29:16Z</dcterms:created>
  <dc:creator>Lanora Campbell</dc:creator>
  <dc:description/>
  <dc:language>en-US</dc:language>
  <cp:lastModifiedBy/>
  <cp:revision>1</cp:revision>
  <dc:subject/>
  <dc:title>Hymnal</dc:title>
</cp:coreProperties>
</file>