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2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1E491A-6E94-493B-916A-5B6067D608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C170-9DFA-405F-8542-FDDF412CC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324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9872-FEAF-4588-923F-68CD176F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720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BE8D-0AC7-4197-BB9B-B9E5212E6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920" y="17064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4160" y="17064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324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920" y="369324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4160" y="369324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BBD2-1A85-4D15-BBA6-B43BE50C0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DF9B-93AD-428D-AB17-968307AE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F2B3-E06A-4285-8F62-EDEE78F4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7D73-8BC0-40CE-A664-2B52D84A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0D52-BBF5-4F27-97E0-045D942A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720"/>
            <a:ext cx="81010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2E99-4DBB-4F6B-A914-C94D83DC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45B6-E303-4EAD-B55E-54251F2E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720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F240-6F8F-4507-B601-532077C2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324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CE9B-1E52-4D3E-9EB5-ADE423EB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040" y="5613120"/>
            <a:ext cx="20941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5613120"/>
            <a:ext cx="284976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376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7C6DE-B1E3-4EA5-AC85-3AC945E7EDF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97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John Greenleaf Whittier, 1873, William Gardiner's Sacred Melodies, 18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l Things Are Thine, No Gift Have W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ings are Thine; no gift have w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 of all gifts, to offer The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ence with grateful hearts toda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ne own before Thy feet we l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2440" y="357120"/>
            <a:ext cx="901080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will was in the builders' thought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hand unseen amidst us wrought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mortal motive, scheme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an Thy wise eternal purpose r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weakness and in want we cal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Thee for Whom the heavens are smal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glory is Thy children's go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joy Thy tender Fatherho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Father, deign these walls to bless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ll with Thy love their emptiness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let their door a gateway b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lead us from ourselves to Th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8T14:51:10Z</dcterms:created>
  <dc:creator>Lanora Campbell</dc:creator>
  <dc:description/>
  <dc:language>en-US</dc:language>
  <cp:lastModifiedBy/>
  <cp:revision>1</cp:revision>
  <dc:subject/>
  <dc:title>Hymnal</dc:title>
</cp:coreProperties>
</file>