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CC966-F5F7-4CB4-B200-75A9F0AA9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822-E0C0-41EA-B79A-4E37A6A3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962-2BEB-4685-84E5-4F3F404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3B1-E1EB-4A58-8AD4-F92D7C64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325-CE0B-4176-901F-826D9AE7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9B7-C16C-4FCA-BA57-C69E09B9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1F2-6164-4288-9B91-F8D32EC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AB5-ED7E-4CB2-8C55-F0E95D3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8E6-CBA5-42DC-B60C-16BFF1D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7DC-784C-4FA3-AA9D-97E75FD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0B3-2BDF-4BA8-9710-1A17410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EF8-6451-48B0-980B-148C7D0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004-1D39-44DB-80C4-3747720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41A2B-6DED-4876-B8F1-630903B8C3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u Shepherd That Dost Israel Kee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Shepherd that dost Israel kee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 in time of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leadest like a flock of sh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loved one, Joseph's se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it'st between the Cherubs br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their wings out-spre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ne forth, and from Thy cloud give l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our foes Thy drea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phraim's and in Benjamin's vie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Manassah's s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ke thy strength, come, and be s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ave us by Thy m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us again; thy grace div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, O God, vouchsa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Thou, Thy face on us to s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n we shall be s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God of Hosts, how long wilt Th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t thou decl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moking wrath, and angry br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thy people's pray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us Thy grace div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of Hosts vouchsa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Thou, Thy face on us to s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n we shall be sa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2:59:45Z</dcterms:created>
  <dc:creator>Lanora Campbell</dc:creator>
  <dc:description/>
  <dc:language>en-US</dc:language>
  <cp:lastModifiedBy/>
  <cp:revision>1</cp:revision>
  <dc:subject/>
  <dc:title>Hymnal</dc:title>
</cp:coreProperties>
</file>