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A3ADB-6C56-4B9C-B732-1C3CA9BD2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150-C20B-43DF-ABCA-C8C2B276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AF3-D474-473A-AF54-929F1F21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163-D33E-42A0-9B41-ECD70264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27D-9AF1-4B7C-A394-919C6D27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17E-53BE-45AE-8AA0-DB694913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4B3-51D0-4CFB-9DD4-07B6A40E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F8A-6FBA-4AA0-A0EF-05FC95A4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664-E057-47A1-9576-FB0C64B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99F-E62F-4099-B13A-B4F58671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7AE-7314-4DA8-ADB5-F1A9FFF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AF9-178F-4840-B791-1D20473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D48-4A43-4640-9857-9B857AD6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79437-80A7-4F2A-A47F-F9BFD69ADD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ember Us, O Eter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anks to God! Hallelujah, praise Hi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Him for He is good and His mercy en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show forth the Eternal's great wor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show praise that is due unto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 are they who observe righteousnes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all rejoice, with the Lord's chosen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us, O Eternal, our Go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 Your people with Your great saving pow'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all sinned as our fathers of ol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were they saved that Your works might be kn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d not then understand those great work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 us, O Lord our God, with Your own chosen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held the sea, and the waters were drie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athers crossed the sea as on wilderness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s then rushed over all of their fo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ang His praise but they soon did for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gave them up to their selfish desir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 us, O Lord our God, that we may give You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36:01Z</dcterms:created>
  <dc:creator>Lanora Campbell</dc:creator>
  <dc:description/>
  <dc:language>en-US</dc:language>
  <cp:lastModifiedBy/>
  <cp:revision>1</cp:revision>
  <dc:subject/>
  <dc:title>Hymnal</dc:title>
</cp:coreProperties>
</file>