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354DF-7B39-4B7B-98E3-18399EFBE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62C-F9B1-48B3-BA69-BB386F8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F33-046E-4858-A993-3EEA4A7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FD0-25B7-40A3-A91D-44BECF60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94D-13AE-4A50-A609-46B5F745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96D-E8D4-4F7E-BA9F-C837FFC3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475-CDD4-4E1B-A54A-BC5BB39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3DA-5A75-40FC-8061-0F5068CC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EAB-D899-4BAA-A4AB-9AA19B0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AAB-C824-474C-8A4E-E9BD56F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16A-1C41-4360-9B93-290A356F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A63-3861-43D7-8BB0-7E011C1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C7F-A611-4E54-9345-A4BD984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70DFF-E7EE-4DF4-907D-C2454E799D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Give Thanks Unto Our Go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ive thanks unto 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be His name His mer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always endu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kindness never fai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Israel confess t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His mercy always shall endu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aron's house-hold now repe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ercy never fai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lled upon the Lord my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istress I cri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swered me and set me fr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your confidence in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ternal on my s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I fear what men can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not in princes nor in m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far to trust in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ations compassed me abou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ed me like be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Eternal is my streng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s name I cut them o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he gates of righteous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ll the righteous enter 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all not die but there shall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tell of all His wo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ive thanks unto 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answered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y salvation has bec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he chief, the corner-st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y the builders was refus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rejected by His 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the Lord who show'd us l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-ed be the name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9:15:57Z</dcterms:created>
  <dc:creator>Lanora Campbell</dc:creator>
  <dc:description/>
  <dc:language>en-US</dc:language>
  <cp:lastModifiedBy/>
  <cp:revision>1</cp:revision>
  <dc:subject/>
  <dc:title>Hymnal</dc:title>
</cp:coreProperties>
</file>