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AE99A-E69F-494D-9030-7CD1CDB5B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2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6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0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4E0-F9C7-4FD5-BE4A-B555BE6E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492-7741-4FC4-A58E-10944DD3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A68-7724-44A4-8402-68AF6848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28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28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247-D785-492E-A39D-2CB0796C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0EC4-2513-401E-A965-0050F368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DA8-655E-40E6-BFF1-0C5036A2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D85-2145-4343-8D6B-2336F116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11AE-962E-4796-85A7-9B91253D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7520"/>
            <a:ext cx="80964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894-1F22-46B4-8875-53EF60F3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65C-3D68-401B-8FE8-2BD6F945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55E-3BC3-421D-987F-22C184C4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E8A-413C-4520-885D-C4197B65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90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480"/>
            <a:ext cx="284472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480"/>
            <a:ext cx="20872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FA9D3-DD5D-4973-90DE-B3389CF686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nnie S. Hawks, 1872 Refrain, Robert Lowry, 187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Need Thee Every H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'ry hou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gracious Lor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tender voice like Th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peace affo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, O I need Th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'ry hour I need The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less me now, my Savi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ome to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, O I need Th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'ry hour I need The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less me now, my Savi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ome to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'ry hou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y Thou near b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mptations lose their pow'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ou art nig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, O I need Th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'ry hour I need The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less me now, my Savi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ome to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 ev'ry hour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joy or pai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quickly and abid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life is va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, O I need Th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'ry hour I need The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less me now, my Savi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ome to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'ry hou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ach me Thy wi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promises so ri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e fulfi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, O I need Th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'ry hour I need The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bless me now, my Savi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come to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ed Thee ev'ry hou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 Holy  On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make me Thine inde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blessed S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8:15:07Z</dcterms:created>
  <dc:creator>Lanora Campbell</dc:creator>
  <dc:description/>
  <dc:language>en-US</dc:language>
  <cp:lastModifiedBy/>
  <cp:revision>1</cp:revision>
  <dc:subject/>
  <dc:title/>
</cp:coreProperties>
</file>