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1868D-E847-472F-9A1B-16F6538C0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A10-65A9-4A50-8BC5-9341BD3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266-D8B8-47AC-962A-A2A13A4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1D-E2F7-4B44-8B65-55B1B509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094-66BD-4257-BEED-B19AC75F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FBA-428D-4371-A0EB-D6C02D7B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03A-FC89-409C-9227-78C67869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E1A-F487-4A75-A6C0-FD02CAAF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74A-042D-4A07-AEDC-532C226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408-0BC2-4287-B275-A0BBF84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89A-5729-4228-B6DC-0F08BAA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58-3605-4648-A158-11E2064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2B4-DF1D-4DFD-A4FA-E0EB801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BC81-0E9B-4D95-B7FE-AD232CAB3E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Even From My Youth, O Go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ven from my youth, O G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e I have been taugh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itherto I have decla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nders thou hast wr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now, O God, forsake m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 am old and gra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ll I proclaim Thy wondrous d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and every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erfect righteousness, 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ven's height excee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who is lik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s performed such mighty d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who hast shown me trials s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 adversit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quicken me agai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me from the depths of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reatness and my pow'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will increase and far ext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all grief on ev'ry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e will comfort s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also praise Thy tru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with psalte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oly One of Isra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arp I'll sing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0:49:26Z</dcterms:created>
  <dc:creator>Lanora Campbell</dc:creator>
  <dc:description/>
  <dc:language>en-US</dc:language>
  <cp:lastModifiedBy/>
  <cp:revision>1</cp:revision>
  <dc:subject/>
  <dc:title>Hymnal</dc:title>
</cp:coreProperties>
</file>