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D98A2-949A-416C-B59E-22481F542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B7B-0FA2-490A-A7F4-0F01FBE3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9F1-C5DC-4F26-AECC-3187947B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F27-D9E4-496C-B989-4AC13DAD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8C7-1510-4EBD-A4FC-A1F726BD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918-2008-4DEB-B245-6C4D4A8F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5B9-0B4C-41FE-A2D8-7CC45E83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CE1-CFE2-4F29-A62F-5CDE3B82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BA6-8FF7-46AF-846B-0125F5EB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DC0-65B2-4A39-87AD-7F4ADDE0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3F5-F2C6-4CE0-8F82-F64AD1BD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073-DB2A-4FA4-9154-5446287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10D-AD2B-47FE-A2EC-50A7A58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5A75-11F6-4EA6-9DF2-8C2E027848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harles H. Gabriel, 1856-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nd The 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’s a call comes ringing over the restless wa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souls to rescue there are souls to sa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gospel ligh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hore to shor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rom shore to sh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lessed gospel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oreverm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heard the Macedonian call to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 golden offering at His feet we l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gospel ligh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hore to shor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rom shore to sh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lessed gospel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oreverm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us pray that grace may everywhere abou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 Christ like spirit everywhere be fou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gospel ligh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hore to shor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rom shore to sh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lessed gospel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oreverm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us not grow weary till the work be d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us gather jewels for a crown to co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gospel ligh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hore to shor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rom shore to sh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e ligh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essèd Gospel l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d the light!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lessed gospel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it shi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ver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et it shin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oreverm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20:43:37Z</dcterms:created>
  <dc:creator>Lanora Campbell</dc:creator>
  <dc:description/>
  <dc:language>en-US</dc:language>
  <cp:lastModifiedBy/>
  <cp:revision>1</cp:revision>
  <dc:subject/>
  <dc:title>Hymnal</dc:title>
</cp:coreProperties>
</file>