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3B1B6-C51B-4E18-B2FB-52A408D13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366-BFCD-41B1-B95C-ADA71290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94B-71EC-4275-80D7-576BF410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60B-B3EE-4B33-BB4A-EF2DA455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642-62EE-4023-A59C-18801B18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BF5-D790-4505-909C-B7B387CB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469-0E46-4594-9A3B-EAFD7EAB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FBF-D092-4039-A371-A0991D1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4D2-1F71-4445-864F-60C1B1F1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8EE-90CE-4E87-9870-34C6E255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D17-D2CE-4DA0-960C-C9F1ECE2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53B-EBB7-490D-B044-8E2DD23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B12-4DB7-4BF8-B28F-AEFFA31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42BB0-39E4-4A3E-8F55-4CEF5A670D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Shall I Go From Your Spirit, O God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d, You have searc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ave compassed my path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, O Eternal God, know all my w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before me and you are behin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word on my tongue that You mi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downfall and my uprising You know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knowledge, Lord, is so far above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shall I go from Your Spirit, O Go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shall I flee from Your presence, O Lor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up to heaven, behold You are the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down to hell, You would soon find me the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take wings or dwell far out at s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Your right hand shall hold me, O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darkness comes and the night covers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e darkness hides nothing from G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, even darkness shall shine as the da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Eternal they both are al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knew my life ere before I was bor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vast, O God, is the sum of Your though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3:48:05Z</dcterms:created>
  <dc:creator>Lanora Campbell</dc:creator>
  <dc:description/>
  <dc:language>en-US</dc:language>
  <cp:lastModifiedBy/>
  <cp:revision>1</cp:revision>
  <dc:subject/>
  <dc:title>Hymnal</dc:title>
</cp:coreProperties>
</file>