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128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C514A2-05B3-463F-83A4-FC8EE279B0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6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A5E6-4F72-4B42-B0F9-54519E923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30FB-1713-4F62-9836-6D4DF1BB7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E733-70AD-47F1-85C1-964178CCB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2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20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2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20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4683-2D8C-4CF9-9C80-A22950BD0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11A5-EF60-46F8-9BAD-8FFF6692A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EE05-573F-46A0-8244-628D972B3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4B4D-0AF2-4EDB-A7E5-CD53BD08F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DF42-25D2-486B-9C10-F51D21121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585360"/>
            <a:ext cx="8097840" cy="44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D4D1-000B-480E-8B64-2BD78858A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FF28-74DC-4C22-9849-22DDE96F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F269-88B6-4434-8269-3AC34775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4103-AA4C-466E-8246-560FE8E5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088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6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90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B003B0-7219-46FC-8A4F-0DED7123BC7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13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76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is Name Is Great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Judah God is known and feare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Israel His Name is grea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tent in Salem He hath reare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royal seat in Zion hath mad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He broke arrows of the bow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hield, the sword and war's array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excellent, O Lord, art Thou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glorious far than hills of pr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out of heart are spoiled in figh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deadly sleep the warrior slep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hand of all the men of migh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s wonted strength or cunning kep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Jacob's God, at Thy comman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hariot and the horse went down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ou art dreadful; who can st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fore the tempest of Thy frow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heaven God His judgment gav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embling earth stood still and feare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all the meek on earth to sav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righteous judgment God appear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all around their presents bring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Him whom all the world should fear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cuts off princes, God the King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ll dreadful to earth's kings appe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8T19:20:45Z</dcterms:created>
  <dc:creator>Lanora Campbell</dc:creator>
  <dc:description/>
  <dc:language>en-US</dc:language>
  <cp:lastModifiedBy/>
  <cp:revision>1</cp:revision>
  <dc:subject/>
  <dc:title>Hymnal</dc:title>
</cp:coreProperties>
</file>