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67B5E-E45A-4454-BC0A-3E5117BEB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E02-3019-4DF5-917D-2619EDD0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0CC-2E0E-4042-BC3A-2757FDDB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1C8-20C8-4AE3-B2D7-3004C8CC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7A1-663F-456C-8C39-1C3A924A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068-193E-4DEB-8280-03D6253B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EAB-77C4-4703-85EF-D00E082B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8E6-EEF4-4E21-A034-65C1F9DF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C4D-C78E-48AC-B703-E421EE07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174-38FD-46DA-919B-500422B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190-B051-40C9-9415-790E94FC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E20-F53A-4AD8-AF77-95ED3EC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31F-0DDF-4D2B-A428-D3C02D7C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C79AF-3AA0-42E3-9E33-56AA947CC0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xodus 1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Will Sing To The Eter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ing to the Etern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triumphed gloriousl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stretched out His right h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urled the foe into the se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, You are my streng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ng, my salvatio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, He is my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will glorify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I will chase them and overtake th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ch them and divide the spoil;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foe, "I will destroy them,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foe drowned in the se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, at Your bl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ters piled up, tides were damm'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, who is lik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ious in hol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s heard of it and trembl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ad and terror on them fe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efs of Edom all were affright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l trembled in their fea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aoh's horsemen and his chari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k into the churning se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, led His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dry land through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5:44:30Z</dcterms:created>
  <dc:creator>Lanora Campbell</dc:creator>
  <dc:description/>
  <dc:language>en-US</dc:language>
  <cp:lastModifiedBy/>
  <cp:revision>1</cp:revision>
  <dc:subject/>
  <dc:title>Hymnal</dc:title>
</cp:coreProperties>
</file>