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A5E63-DC12-45DA-9279-603A15177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534-02DC-45CD-8328-3644FBCE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14B-FD4F-435F-96A9-21B90CB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F22-D065-4BE9-8268-4352A595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571-0B8C-4FBD-9B5A-93C35A4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77D-F0C0-49CC-B122-0311EA1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E24-BDCE-47F0-977F-95CF6D6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263-D4F9-4E29-94BE-86B87683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8C2-FA84-45D4-8427-CE3D2D8F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D3B-8D7D-4869-B764-9A4858E2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F1F-84BF-4DA4-8CF7-74E3556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E13-04D6-40D3-A210-72D1FDE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882-E78F-4498-B56F-9F86017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AB3F2-1F45-46C4-84E2-69AEDEB427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8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8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Excellent Is Thy Na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excellent in all the ear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our Lord is Thy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st Thy glory far adva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ve the starry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mouths of babes and inf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Strength by Thee is ordai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Thy enemies by crush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vengeful foes restr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 look up unto the heav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Thine own fingers fram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to the moon and to the sta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were by Thee ordaine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ay I, what is man that Th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uld be mindful of hi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what, the son of man, that Th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kind to him should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has made Him little l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the angels ab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glory and with dignity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onor crowned his he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ointed Lord of all Thy work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ings under His fee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sheep and oxen, yes, and bea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n the field do stray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6:03:23Z</dcterms:created>
  <dc:creator>Lanora Campbell</dc:creator>
  <dc:description/>
  <dc:language>en-US</dc:language>
  <cp:lastModifiedBy/>
  <cp:revision>1</cp:revision>
  <dc:subject/>
  <dc:title/>
</cp:coreProperties>
</file>