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53CA2-74C0-49B5-AD2A-7A008C4E4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02C-2103-4536-B4D7-A78810C1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784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47E-4432-4324-A888-F319342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349-7269-4D35-BA27-BAA1A843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326-8B18-40F4-9735-C1B506E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5E8-17F0-4E21-9A8B-134E0DF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E98-9713-43C5-8E66-8C7400A0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3C1-BD56-4DF2-9E7D-F7E9370E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B9D-7033-477B-B4E3-EDBDB473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5B0-585E-4E4B-867D-E6FA4BC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4F2-F4BA-4F41-9403-50AA2F9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9A6-7FEB-4E9C-84F9-04740FC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B6E-A2C6-413A-BD08-1F5DBEE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159A-9506-4487-A502-6DA9A4DE46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 -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William Williams, Welsh, 745 Verse 1, Trans. Peter Williams, 1771 Verses 2, 3, Trans. William Williams, 1772 John Hughes, 19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uide Me, O Thou Great Eter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me, O Thou great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grim through this barren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weak, but Thou art might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me with Thy pow'rful han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 of heaven.  Bread of heav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 me till I want no m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 me till I want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now the crystal founta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ce the healing stream doth flow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fire and cloudy pil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me all my journey throug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ong Deliverer.  Strong Delive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still my Strength and Shie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Thou still my Strength and Shie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tread the verge of Jord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d my anxious fears subsid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 of death and hell's destruc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 me safe on Canaan's sid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ngs of praises.  Songs of prais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ever give to Th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ever give to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42:27Z</dcterms:created>
  <dc:creator>Lanora Campbell</dc:creator>
  <dc:description/>
  <dc:language>en-US</dc:language>
  <cp:lastModifiedBy/>
  <cp:revision>1</cp:revision>
  <dc:subject/>
  <dc:title/>
</cp:coreProperties>
</file>