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F99C3-45D8-457E-965B-B9382F2AE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B18-4749-42BB-B981-4A958E1D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7E4-AC9F-462A-8A14-BCDE2073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1D46-8CC9-4FA2-873F-1A95A385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A77-DB09-4217-9769-E2F34FCB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DB2-4AC2-4026-BBB5-932A39F3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2C4-E5D0-411E-8A7F-7B0EFC3A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E6E7-AF15-4721-80C1-E53CE613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4A0-2416-4050-B98F-E19C39F1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85D-5CCB-4581-860F-7CB1F7EF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F86-A216-4B80-ACAE-C95C8AEB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D30-F432-40A6-9637-B835BAF9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EB6-6EF8-419D-8F2C-715319F0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D6E87-9E5D-4938-86C4-828941A179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3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92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Good It Is To Thank The L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good it is to thank th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o Thy name our praise to s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y loving kindness in the mo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y faithfulness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 to the music of the lu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ith a solemn sound upon the ly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y works have made me gl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joyfully of Thy deeds I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re Thy works Eternal Lor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ep are Thy thoughts, O Thou Most Hig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eless men and fools will n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nor understand Thy w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the wicked sprout as gras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evil doers flourish for awhil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hall all be rooted up from their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ou art supreme forever on hig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men shall flourish like the pal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s a cedar shall they b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y are planted in the House of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n His courts shall they grow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in age shall they bear frui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 and green they ever shall b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God is faithful evermo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re is no unrighteousness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9:34:51Z</dcterms:created>
  <dc:creator>Lanora Campbell</dc:creator>
  <dc:description/>
  <dc:language>en-US</dc:language>
  <cp:lastModifiedBy/>
  <cp:revision>1</cp:revision>
  <dc:subject/>
  <dc:title>Hymnal</dc:title>
</cp:coreProperties>
</file>