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99DB7-1384-482C-B12C-CA08F6D100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5E47-9D07-4D03-A677-17DD79A7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FEDD-D36F-4193-9A5B-67ECA505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379E-420A-479D-845C-15107F67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97FF-C735-4E36-8E18-CD2E6B30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A59A-9C81-45A0-9F46-4A5BCC6C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719A-42A5-4592-90D8-5D82774D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1646-2147-4E5F-A751-B774D04C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4DCF-525F-439F-B0AA-6780A008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576D-D914-484F-A0B7-5977976F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5E92-20AB-4073-93BD-94C452ED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9D20-EE91-4C67-B933-56AD993A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83BF-B2D6-4BB9-A30F-D8EB3965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6AEF1-1632-472B-A813-27C51222AF6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3880"/>
            <a:ext cx="900612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02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61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ive Ear Unto My Prayer, O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ear unto my pray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God, from earth's far end I cal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lead me to the Rock to r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higher is than 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you have been a shel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 fort against the fo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let me in Your dwelling pl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de for ever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God has heard my v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granted righteous heritag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hare for those who trust in Hi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fear His holy na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God prolong the true king's lif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ver let him reign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He may sit before our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hroned in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 was faint I cried to G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did hear my pray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e has been my dwelling plac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helter from the fo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o will I forever mo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 praises to His nam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 praises to His Name fore'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daily pay my v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7T19:00:54Z</dcterms:created>
  <dc:creator>Lanora Campbell</dc:creator>
  <dc:description/>
  <dc:language>en-US</dc:language>
  <cp:lastModifiedBy/>
  <cp:revision>1</cp:revision>
  <dc:subject/>
  <dc:title>Hymnal</dc:title>
</cp:coreProperties>
</file>