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2720" cy="37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A771B2-5D7B-4A08-8194-1B6BD7DDEB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6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8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0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2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0233-6F8E-46D9-9025-701BE00A8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EAB1-37DA-420C-9281-8F32D344F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089E-C897-43E3-BC36-2F8E0DA69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56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34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0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56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34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D796-6394-47C1-8170-67BB54D00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68AA-99FB-48F7-9060-807E3B2C7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43AC-07E9-440B-AD6B-362BC65B1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783A-EF41-4E44-86B0-49FF1F567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8278-D366-414B-B000-979F1AAF6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040" y="585360"/>
            <a:ext cx="80996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5571-1887-428A-AD59-A14F9D491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AB36-E744-4178-A85F-44CCFF124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598F-E6C1-47AE-A70F-DA029730B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2148-8218-4B9F-9193-889D033C8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796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72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E1C610-BE14-4324-BC99-F9ADBB14706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60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Frances Ridley Havergal, 1874 Henri A. Cesar Malan, 18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ake My Life And Let It B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ke my life and let it b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secrated, Lord, to Thee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ke my hands and let them mov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t the impulse of Thy lov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t the impulse of Thy lov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ke my feet and let them b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wift and beautiful for Thee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ke my voice and let me s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ways, only, for my King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ways only, for my K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ke my lips and let them b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lled with messages from Thee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ke my silver and my gol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t a mite would I withhol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t a mite would I withhol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ke my love, my God, I pour A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feet its treasure store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ke myself, and I will b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ver, only, all for The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ver, only, all for The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5T19:57:36Z</dcterms:created>
  <dc:creator>Lanora Campbell</dc:creator>
  <dc:description/>
  <dc:language>en-US</dc:language>
  <cp:lastModifiedBy/>
  <cp:revision>1</cp:revision>
  <dc:subject/>
  <dc:title>Hymnal</dc:title>
</cp:coreProperties>
</file>