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C3AF7-63A3-4ABB-B283-55856C7BF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BF8-67DA-4E0A-A551-97C8BD0B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922-5C03-414A-9291-F1BEFE6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699-A829-4793-B9F3-C885A1FC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8A3-4DBF-4FF8-96B4-33228C0B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474-98A4-44FE-8856-062D6F0F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D3D-946B-406E-AD1E-8BD98D1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6A2-261B-4227-8850-4FD0BF39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555-7451-4F72-B464-C1E65885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DBC-EC98-436C-A2D4-08ADED7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E27-E5A1-4DC7-8AFF-3AD028A2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71F-9996-4B15-ACD4-6CB76A5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48D-B7CA-4650-BB30-357681F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43296-15EF-485D-BDCE-CAC55EFB18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enry F. Lyte, 1820 William H. Monk, 18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bide With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ide with me:  fast falls the event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arkness deepen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with me abid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other helpers fail and comforts fle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of the helpless, O, abid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ift to its close ebbs out life's little da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th's joys grow d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glories pass a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and decay in all around I 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ou, who changest not, abid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fear no foe, with Thee at hand to bl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s have no weight and tears no bittern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s death's sting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, grave, thy vic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triumph still if Thou abid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y presence ev'ry passing hou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ut Thy grace can f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mpter's pow'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, like Thyself, my gu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ay can b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cloud and sunsh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abid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20:01:58Z</dcterms:created>
  <dc:creator>Lanora Campbell</dc:creator>
  <dc:description/>
  <dc:language>en-US</dc:language>
  <cp:lastModifiedBy/>
  <cp:revision>1</cp:revision>
  <dc:subject/>
  <dc:title/>
</cp:coreProperties>
</file>