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4EAB7-0FD6-466C-95F7-BBA399078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9CB-515F-4A6C-BEA1-55D77B1A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D47-7DB0-4496-B2E7-2309A610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A39-29AA-4367-8CED-C548D7EF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532-FE5D-4C22-86BC-FEE456F4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B35-1AC5-4611-801D-C91AAB90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9FE-1FD1-46B7-A783-CD8DAD3A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928-9394-4D8A-BFAD-440284CB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049-A677-43FB-9B8E-3A6419DB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C53-7F11-4267-BE2B-558D98BC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EC1-1DA7-4C9C-BD84-76AD721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C21-F3AC-4E36-8C07-06ECC4E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1C6-67F0-4AFC-84C1-B5FFDF57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37EC5-4936-498D-8C4D-4FBBC78F34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5680" y="353880"/>
            <a:ext cx="90075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harles Wesley, 1744, 1747, Rowland Hugh Prichard, 1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, Thou Long-Expected Jesu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, Thou long expected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to set Thy people fr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our fears and sins release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find our rest in Th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's strength and consol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 of all the earth Thou ar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r desire of every n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y of every long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Thy people to deli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a child and yet a K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to reign in us fore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y gracious kingdom b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ine own eternal Spir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 in all our hearts al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ine all sufficient meri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us to Thy gloriou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, Almighty, to deli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all Thy life recei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ddenly return, and ne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more thy temples le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e we would be always bless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 Thee as Thy hosts ab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, and praise Thee without ceas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y in Thy perfec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33:28Z</dcterms:created>
  <dc:creator>Lanora Campbell</dc:creator>
  <dc:description/>
  <dc:language>en-US</dc:language>
  <cp:lastModifiedBy/>
  <cp:revision>1</cp:revision>
  <dc:subject/>
  <dc:title>Hymnal</dc:title>
</cp:coreProperties>
</file>