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E203D-50CA-4A5F-A8C9-F1411B66D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9E6-5A7B-4525-A65D-A8D159D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AED-2CA4-402C-8077-BC2EA83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7CE-B371-426A-BEDE-873EF897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2C7-1C17-4A4E-82D9-5F1F2A6D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A65-E567-4645-A89B-82E07E5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6BC-D8CB-48D6-8467-28EAE1A2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E8D-3241-4CD9-866E-56BEA4B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67D-05C9-42D2-B975-458B5F4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5B0-ABC9-4A60-AE62-49A0C4B1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2BA-26FB-47C9-ACDB-CBFF100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0E7-E20C-48B3-9179-282D086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B9B-D5EE-4424-B2FE-357B919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BBCB7-D6A3-4746-BF55-F48BEC0A93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elaide A. Pollard, 1907, George C. Stebbins, 19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ve Thine Own Way, Lo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,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the Potter, I am the cl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ld me and make me after Thy wi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I am waiting, yielded and st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,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me and try me, Master, tod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r than snow, Lord, wash me just n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in Thy presence humbly I b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,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nded and weary, help me, I pr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, all power, surely is Thin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uch me and heal me, Savior div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,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Thine own 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d o'er my being absolute s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with Thy Spirit 'till all shall s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only, always, Living in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26:14Z</dcterms:created>
  <dc:creator>Lanora Campbell</dc:creator>
  <dc:description/>
  <dc:language>en-US</dc:language>
  <cp:lastModifiedBy/>
  <cp:revision>1</cp:revision>
  <dc:subject/>
  <dc:title>Hymnal</dc:title>
</cp:coreProperties>
</file>