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A689E-B58C-4DCA-B33A-89437EAD9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893-A49E-49F5-9C22-F4E991F0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020-C5AA-4990-A22B-CDA3966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69C-06A7-46FC-8382-C2A93315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F87-D0E3-4161-9E26-4006CF6F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4F4-B143-4C9A-BF5E-E9FB939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1CC-96F2-4961-8F95-36C9DC9E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863-3D97-45C3-BDB0-104C071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36D-B425-4395-BF38-507BA88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59C-9F8D-412D-999C-8E8F87B8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788-F8D3-4AAF-A8DD-77140520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80A-906D-4EA5-AC4A-6FAAA26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DCB-6E58-4890-B53E-181DEE9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51BB4-88A9-48C5-843F-892C193A13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oward Arnold Walter, 1883-1918, Joseph Y. Peek, 1843-1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Would Be Tr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true, for t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trust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pure, for there are those who c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strong, for there is much to suff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brave, for there is much to d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brave, for there is much to d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friend of all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e, the friendl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giving, and forget the gif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humble, for I know my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look up, and laugh, and love and l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look up, and laugh, and love and li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38:24Z</dcterms:created>
  <dc:creator>Lanora Campbell</dc:creator>
  <dc:description/>
  <dc:language>en-US</dc:language>
  <cp:lastModifiedBy/>
  <cp:revision>1</cp:revision>
  <dc:subject/>
  <dc:title>Hymnal</dc:title>
</cp:coreProperties>
</file>