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B0233-A26C-4E98-B77D-7C2C618F5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39A-E938-48F0-84A4-D57584C5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FA7-EF7C-4035-9F4E-8B59346C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C94-C726-45E3-A40F-26734E9B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19D-E2E4-4B21-A6EA-EF90912F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B9E6-0DAA-4D13-A79F-75178AE8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A04-027C-4D76-831F-300DFE6C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1A8-ED27-4A0F-88F7-4A3485AC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85C-2EAF-4AD9-8D96-C467F87B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360"/>
            <a:ext cx="809784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B3C-15ED-456D-994B-6779E6E5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F07-37F5-43C8-8B42-7FC9942D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BF9-3FF9-4849-8E28-30F40FAB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064-EB46-4734-85F6-9F2601B1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360"/>
            <a:ext cx="80978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908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6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905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E73BC-FC26-4F89-862C-F599547C58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4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25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Thee I Lift My Sou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e I lift my sou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rust Thee, O my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e not be asham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let my foes triumph o'er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none that wait on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put to shame at a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ose that without cause transgres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shame upon them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 me Thy ways, O Lo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teach Thou me Thy path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 Thy truth lead me Thyself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in my teacher 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u art God that d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e salvation se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upon Thee all the d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cting, do at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tender mercies,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pray I Th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oving kindness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y have ever been of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ins and faults of you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ou, O Lord, forge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y mercy think on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or Thy goodness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2:33:41Z</dcterms:created>
  <dc:creator>Lanora Campbell</dc:creator>
  <dc:description/>
  <dc:language>en-US</dc:language>
  <cp:lastModifiedBy/>
  <cp:revision>1</cp:revision>
  <dc:subject/>
  <dc:title/>
</cp:coreProperties>
</file>