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D1918-8419-4C05-BEC9-87DD1BAD3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71A-5AB2-4AC4-B3DE-F1DE2B0D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57C-E90C-48BE-9B9E-8C3FB6DB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9F33-D50B-4D4C-B668-1BF900B4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BA6-5A67-452C-A23A-989F6DDA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5BD-68C7-4857-84A4-706C65D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FAB-14CA-49FD-9DAC-5B2E98E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FE1-B7A5-400E-85E6-723C8A31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37F-C89D-4CF7-BCE7-4415AB00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88F-EA4B-41DC-97B1-2BDA1578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204-6033-4505-954B-7AA030A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2D3-023F-4A2D-AAE5-FB1EF834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469-B009-4322-9ACF-483EBF55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061AB-1D6F-428F-B0EA-9248422D75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olin Sterne, 1896, H. Ernest Nichol, 18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've A Story To Tell To The N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ve a story to tell to the n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hall turn their hearts to the r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tory of truth and merc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tory of peace and l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tory of peace and l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rkness shall turn to dawn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dawning to noonday br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hrist's great Kingd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come on ear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dom of love and l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ve a song to be sung to the n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hall lift their hearts to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ong that shall conquer ev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atter the spear and sw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atter the spear and sw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rkness shall turn to dawn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dawning to noonday br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hrist's great Kingd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come on ear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dom of love and l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ve a message to give to the nations, that the Lord who reigneth ab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th sent us His Son to save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ow us that God is l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ow us that God is lo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rkness shall turn to dawn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dawning to noonday br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hrist's great Kingd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come on ear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dom of love and l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ve a Savior to show to the nation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the path of sorrow hath tr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all of the world's great peop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ht come to the truth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ht come to the truth of G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darkness shall turn to dawn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dawning to noonday br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hrist's great Kingd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come on ear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dom of love and l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4T18:41:57Z</dcterms:created>
  <dc:creator>Lanora Campbell</dc:creator>
  <dc:description/>
  <dc:language>en-US</dc:language>
  <cp:lastModifiedBy/>
  <cp:revision>1</cp:revision>
  <dc:subject/>
  <dc:title>Hymnal</dc:title>
</cp:coreProperties>
</file>