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3F91B-4EF5-40A1-AD9E-DF10FC564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1DB-C4BE-403F-B4EC-F2E02789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067-90B4-447E-979E-5157057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2C2-EEB7-48C1-8866-B11D747B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474-3138-47F8-9E76-78362669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899-ABC2-4B0F-8ABD-A8D9FC4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355-37A3-4DBA-B16C-55733B0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F5A-9D5A-4E15-8425-80B9266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2D5-4694-4314-B58A-5FF01852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B0B-B955-4319-B008-87E1D5E1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95D-BD12-49F3-9EFD-BBD96E4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6CD-B1FF-4FA1-A146-E6555B6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8F2-3099-44E1-8543-6E7B48C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9A84E-4910-4E2F-BA34-2B206BDEB9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m. W. Walford, William B. Bradb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weet Hour Of Pray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t hour of prayer! sweet hour of pray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calls me from a world of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ids me at my Father's thr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ll my wants and wishes kn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asons of distress and grie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ul has often found reli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ft escaped the tempter's sn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y return, sweet hour of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t hour of prayer! sweet hour of pray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ings shall my petition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whose truth and faithful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 the waiting soul to b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ince He bids me seek His f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His Word and trust His gr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cast on Him my every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it for thee, sweet hour of pray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00:35:41Z</dcterms:created>
  <dc:creator>Lanora Campbell</dc:creator>
  <dc:description/>
  <dc:language>en-US</dc:language>
  <cp:lastModifiedBy/>
  <cp:revision>1</cp:revision>
  <dc:subject/>
  <dc:title>Hymnal</dc:title>
</cp:coreProperties>
</file>