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D471B-CB26-4A63-A414-A52EA8D76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F09-1614-4797-8158-CE5AE5E6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D5AA-E7FF-492E-B741-995D71B8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B23C-EBF6-49C6-A72C-6204F70D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2E0-4AF7-4EE4-807D-545E5759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8E58-0436-446E-B48E-8E21B7A3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AF98-48DC-49A1-BAFD-2A9B953D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214-0329-421F-A235-5298D37A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CDA-3037-4510-ACF0-372F457D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855-E7BA-4B2A-95A4-2C2A6705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5BE-BBF2-4F00-990A-1FEBE980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1D6-334C-417F-84A5-024F5441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F15-9E52-4F30-B633-7A39AA91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BAD74-3236-472D-BBB3-0FD374149F3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6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abine Baring-Go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w The Day Is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he day is ov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ght is drawing nigh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dows of the eve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al across the sk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, give the weary cal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weet repos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y tend'rest bles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our eyelids clo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morning waken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may I ar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re and fresh and sinl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holy ey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3:06:07Z</dcterms:created>
  <dc:creator>Lanora Campbell</dc:creator>
  <dc:description/>
  <dc:language>en-US</dc:language>
  <cp:lastModifiedBy/>
  <cp:revision>1</cp:revision>
  <dc:subject/>
  <dc:title>Hymnal</dc:title>
</cp:coreProperties>
</file>