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75583-C376-430C-A736-F1AF2BB7D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69C-9358-42C6-8A66-827A7AF9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CD9-BBAD-45F2-9404-D1F6499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066-7D46-4DDB-8775-FFBDBDFD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929-38B2-44E4-944E-6F4C492E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8BD-F82F-47DD-B789-9029B0B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0C-27D1-4F1C-B029-024FE05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6B3-B29D-4198-A7CB-BB07A73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426-BE87-41BD-B3D6-BF7BF5F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E46-67C4-40F1-BE8B-D85BC7B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089-5115-4789-AEBD-CEDDE20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166-4324-4A29-8F8E-BAE64BA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BF3-AE86-4B14-9BEE-C1B221F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E852B-D4BB-47E3-9046-99B2337901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iscilla Owens, 1882, William J. Kirkpatrick, 18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esus Sa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heard the joyful s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the tidings all arou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 the news to ev'ry l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b the steeps and cross the w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ward! 'tis our Lord's comm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ft it on the rolling t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to sinners far and w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, ye islands of the se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 back ye ocean cav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shall keep her jubil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above the battle str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is death and endless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it softly thro' the gloo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heart for mercy crav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in triumph o'er the tom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winds a mighty v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nations now rejo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t salvation full and fr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st hills and deepest cav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ur song of victo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ves!  Jesus sa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3:41:50Z</dcterms:created>
  <dc:creator>Lanora Campbell</dc:creator>
  <dc:description/>
  <dc:language>en-US</dc:language>
  <cp:lastModifiedBy/>
  <cp:revision>1</cp:revision>
  <dc:subject/>
  <dc:title>Hymnal</dc:title>
</cp:coreProperties>
</file>