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C0423-B292-4951-BCD3-2B48C2156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F2B-513D-4A24-9B6C-BCB32763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23F-19B2-4019-AE5F-8908C437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F6D-00B1-4E2B-A284-BF0812B1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622-993D-4D46-A99C-67868E2D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BA9-A2A3-4575-A9BA-AB5B18E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368-D6B5-4BA5-9900-926A89EF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64E-EF94-48EB-BD2C-F3F68C1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76A-4A22-4A96-9D57-4BA27DDF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FB4-3B36-4C07-9F2A-8F528E7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C58-4516-414F-AAD9-F6FDB963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34E-665E-4630-9836-ED5F719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E29-959A-44FC-8E14-AA0BECE8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85BAF-2969-4BDB-B06E-EAF65DDEFF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 The Eternal With A Psalm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Eternal with a Psal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to the God of Jac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the chorus,make a joyful noi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out the harp and timbr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w on the trumpet, sound the dru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our solemn feast 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tatute and a law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ordained for Isr'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Hear, O my people, hear my vo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dmonish Isr'e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have no other foreign go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God who freed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were troubled you did c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elivered Isr'el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nswer'd in the secret pla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under He did comman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I am the God who brought you ou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from the land of Egyp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, O Isr'el, open wide your mou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urely then will fill it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srael would not heed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ave their own way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if they only had obey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God would have surely fre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Eternal with a Psal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to the God of Jac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the chorus, make a joyful noi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out the harp and timbr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w on the trumpet, sound the dru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our solemn feast 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tatute and a law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ordained for Isr'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4:34:43Z</dcterms:created>
  <dc:creator>Lanora Campbell</dc:creator>
  <dc:description/>
  <dc:language>en-US</dc:language>
  <cp:lastModifiedBy/>
  <cp:revision>1</cp:revision>
  <dc:subject/>
  <dc:title>Hymnal</dc:title>
</cp:coreProperties>
</file>