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44A5D-FEEF-4359-953C-EADB035EBB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BC01-147C-4CAF-9BDE-79A43C50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F995-0005-4B01-9FF4-19BC9C91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8B33-2E77-409D-85F8-540AB326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720B-4DDC-4964-AEAD-9B0FB477C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36E0-BB02-4265-BC4F-2DAF3436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BCFF-F495-4610-9F83-A5CD2A60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6195-9FB5-4219-8AE9-09F19A2E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E8CA-8052-4C43-987A-C7BC2C51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C205-E78E-4ED9-8BA6-325E54A6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22D4-1B33-48C2-9E0B-8B6B3140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726A-D24A-4FF6-9382-D5A22A7D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4D34-ABA3-443F-8841-FAF62502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7DDCA-9966-41E4-85E7-75C0E9E28B9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35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97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Lord Eternal Reigns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Eternal reigns! Let us rejoic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all the multitudes of earth be glad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rk clouds surround Hi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fire burns His foe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wax the mountains melt at his retu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lightnings bare the earth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n see and shak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high authority heavens proclaim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ose who idols ser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ll be ashame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dah rejoices and Zion is Gla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God is far above all other gods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is exalted above all the earth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ill preserve His saint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se who love Him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joice you righteo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give thanks to Go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1T19:45:53Z</dcterms:created>
  <dc:creator>Lanora Campbell</dc:creator>
  <dc:description/>
  <dc:language>en-US</dc:language>
  <cp:lastModifiedBy/>
  <cp:revision>1</cp:revision>
  <dc:subject/>
  <dc:title>Hymnal</dc:title>
</cp:coreProperties>
</file>