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E3A85-05A2-4A3F-9ED0-2C6F5CEA0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694-E907-4F7C-BFFA-280E5926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40B-B678-4DD0-A5BB-290F375B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3CF-7B14-41B1-83B1-E90CB4B8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4E8-2F65-4EB1-B9E8-7EF5E453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BA5-4FBE-4304-A808-8DE0DB7D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429-2E55-415B-8D37-8BA727A0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FBC-65F3-4E37-BA07-3313C8B2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CD4-03FF-4A1A-B98D-00DC3E03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0C2-B281-4C31-A36E-11FC7DFD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B90-2F37-4332-811B-C7AF08AA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599-6E44-4A2C-97E7-49FF0B5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AC8-6389-42DD-B04C-5E38D88F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ED673-8B35-4063-8A4B-923489B688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3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s Mercy Never Fail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ive thanks, unto the L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thanks unto the Lord of Lord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performs wonderful work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tretch'd the earth above the sea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thanks to God for He is goo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alone doeth great work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kindness shall always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mercy never fail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ive thanks, unto the L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t was He who made great light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y He made the su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or the night the moon and star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thanks to God for He is goo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alone doeth great work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kindness shall always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mercy never fail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ive thanks, unto the L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truck at Egypt's stubborn prid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first born He took in wrath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d His people through the sea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thanks to God for He is goo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alone doeth great work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kindness shall always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mercy never fail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ive thanks, unto the L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ighty kings of mighty nam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destroyed and put to sha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r'el was saved from all their foe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thanks to God for He is goo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alone doeth great work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kindness shall always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mercy never fail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5T14:38:25Z</dcterms:created>
  <dc:creator>Lanora Campbell</dc:creator>
  <dc:description/>
  <dc:language>en-US</dc:language>
  <cp:lastModifiedBy/>
  <cp:revision>1</cp:revision>
  <dc:subject/>
  <dc:title>Hymnal</dc:title>
</cp:coreProperties>
</file>