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BC748-08FF-429D-B919-F7D721912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3CB-DB09-488F-871C-0E6ABB6D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E6A-0AD1-4B8A-B0CB-A9E761C1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21E-39A9-4C4F-BA15-6DBF49F5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154-B6AA-494B-8FFD-4F05FA41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4BC-3416-4E73-AA90-9F69501D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E8B-B8F1-4E90-9DBE-43AD1805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4D2-328E-47CC-8746-233B0DB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154-8D5E-4454-8D6E-EC005877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AF2-5BB2-42C9-93AE-F8717008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568-5228-443B-B5A5-38B5599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218-2519-4455-BD2D-EDE7085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C1C-6167-45FB-9FEF-5891971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61D7-C085-43BB-B573-C4323E5DCE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3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opyright 1990, Martha Dalton, Sharon See, 20th cent. Arr. Audrey Rhodes, 20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I Take The Wings Of The Mo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take the wings of the mor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y away to an isle of the se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there would Your eye behold me; Whither from your presence I fl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ill I hide from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; Whither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her will I fl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me and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thoughts of my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ver will I sing prais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say, "I'll hide in the darkn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it be a concealment to m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the night shall be light around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and night are alike unto Th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ill I hide from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; Whither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her will I fl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me and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thoughts of my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ver will I sing prais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8632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your precious though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 I count the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would be as the grains of s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know before I was fashion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book was my substance plann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ill I hide from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; Whither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her will I fl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me and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thoughts of my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ver will I sing prais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9:46:50Z</dcterms:created>
  <dc:creator>Lanora Campbell</dc:creator>
  <dc:description/>
  <dc:language>en-US</dc:language>
  <cp:lastModifiedBy/>
  <cp:revision>1</cp:revision>
  <dc:subject/>
  <dc:title>Hymnal</dc:title>
</cp:coreProperties>
</file>