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7152D-3E31-4091-83D8-DA27D35DA1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A0A9-B4FE-45F8-AD31-F318782A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5D9B-0909-4DF1-83D5-680F8CD2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392F-F503-4F21-A252-81FE4799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2993-C0C6-4D19-AB88-1020933D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63C2-7B9B-4A01-8792-8C8489E5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2EA1-E89A-47CE-9275-C99B2801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EF90-C11A-4703-808F-CC373E06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875B-5573-46A0-AAA5-7340BF5C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A5FA-326D-4EB4-B671-F8519F69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241A-680C-420D-9DD2-3DB9B2F7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4E22-2913-472C-8268-998B27A1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FB3F-C4D1-41B4-9B8E-EBBCDC22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010E7-83F5-4FE4-9140-9CDC57A1F1B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3880"/>
            <a:ext cx="900612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22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John Newton, Lowell Ma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afely Thro' Another Wee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ly through another we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has brought us on our wa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us now a blessing see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iting in His courts toda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of all the week the bes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blem of eternal res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of all the week the bes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blem of eternal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le we seek supplies of gr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 the great Redeemer's Na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 Thy reconciling f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away our sin and sham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our worldly cares set fre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we rest this day in The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our worldly cares set fre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we rest this day in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Thy gospel's joyful sou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quer sinners, comfort saint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the fruits of grace aboun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ng relief from all complaint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us let all your Sabbaths pro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ll on earth Thy Kingdom com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us let all your Sabbaths pro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ll on earth Thy Kingdom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9T15:41:41Z</dcterms:created>
  <dc:creator>Lanora Campbell</dc:creator>
  <dc:description/>
  <dc:language>en-US</dc:language>
  <cp:lastModifiedBy/>
  <cp:revision>1</cp:revision>
  <dc:subject/>
  <dc:title>Hymnal</dc:title>
</cp:coreProperties>
</file>