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70F6B-3DD8-4E92-8FE5-5E4CFA1C82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"/>
          <p:cNvSpPr/>
          <p:nvPr/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43B7-EA4B-4E99-A9EF-1E297CC9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978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C4A2-F147-4291-B885-9E1423D0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978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74A5-E1D0-452D-BB18-150170D9C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978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0" y="170604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2000" y="3691080"/>
            <a:ext cx="26071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317B-2ABC-45B7-8FA1-DE7862F0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978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ABEF-D202-43E2-A3B9-031A5922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978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6F5D-69A4-41D7-B778-8DF086DD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978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FA2B-BECD-490B-A66F-82E5EB71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978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F047-1F54-4812-ADD4-A448B625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7520"/>
            <a:ext cx="80978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B19B-832D-44FB-9F06-3D9FB560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978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0CC2-F56F-4356-950B-A5E0E881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978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6120" y="369108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0528-E7D4-45E1-A0B0-71B1FF19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978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6120" y="1706040"/>
            <a:ext cx="395172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1080"/>
            <a:ext cx="8097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C559-3685-499C-896E-CDD48F4C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978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784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480"/>
            <a:ext cx="208908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480"/>
            <a:ext cx="284796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480"/>
            <a:ext cx="208908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BDD99-19CF-48A0-BF88-0ECC5F319A9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2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41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scribed to Dorothy A. Thrupp, 1836 William B. Bradbury, 18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avior, Like A Shepherd Lead 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ior, like a shepherd lead u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 we need Thy tender car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y pleasant pastures feed u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our use Thy folds prep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ssed Jesus, Blessed Jes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hast bought us; Thine we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ssed Jesus, Blessed Jes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hast bought us; Thine we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0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Thine, do Thou befriend u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the Guardian of our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Thy flock, from sin defend u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k us when we go ast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ssed Jesus, Blessed Jes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 the children when they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ssed Jesus, Blessed Jes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 the children when they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0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hast promised to receive 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or and sinful though we b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hast mercy to relieve 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ce to cleanse and pow'r to fr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ssed Jesus, Blessed Jes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let us turn to Th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ssed Jesus, Blessed Jes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let us turn to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0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let us seek Thy favo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let us do Thy w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ssed Lord and only Savio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y love our bosoms f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ssed Jesus, Blessed Jes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hast loved us, love us sti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ssed Jesus, Blessed Jes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hast loved us, love us st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19:56:01Z</dcterms:created>
  <dc:creator>Lanora Campbell</dc:creator>
  <dc:description/>
  <dc:language>en-US</dc:language>
  <cp:lastModifiedBy/>
  <cp:revision>1</cp:revision>
  <dc:subject/>
  <dc:title/>
</cp:coreProperties>
</file>