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E2270-A0E3-4345-A7B7-0AB1987B59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EB21-A492-44A5-B4BD-6A57CA37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9F8C-979C-4895-9F07-C7561682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2E7B-E540-4328-8548-630E2A6A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92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416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92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416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1FAE-D640-4A13-8084-3B272BE4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5822-C741-4183-84EF-7925E6EC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AB5-7E39-409F-942B-C5356230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FDC2-DB8C-4136-B396-72231208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D987-170C-4DAE-888D-7827CD69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720"/>
            <a:ext cx="81010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EB86-E2C8-46AB-83C1-6D7E2510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C23B-0209-4989-8B7A-942CD92D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7BF0-F845-4042-B564-E1994D3C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96EE-2054-4803-A8EB-0E8C2DEF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941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9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3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EAF0C-CB65-4768-964F-708305AC141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99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zekiel 34:26 Words, Daniel W. Whittle, 1863 Tune, James McGranahan, 18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re Shall Be Showers Of Bless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shall be showers of blessing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the promise of lov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shall be seasons refresh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nt from the Savior abov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wers of bless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Showers, showers of bless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wers of blessing we nee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rcy drops round us are fall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for the showers we pl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shall be showers of blessing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ous reviving agai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the hills and the valley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 of abundance of ra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wers of bless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Showers, showers of bless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wers of blessing we nee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rcy drops round us are fall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for the showers we pl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shall be showers of blessing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nd them upon us, O Lor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nt to us now a refresh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and now honor Thy Wor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wers of bless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Showers, showers of bless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wers of blessing we nee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rcy drops round us are fall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for the showers we pl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shall be showers of blessing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, that today they might fal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as to God we're confess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as on Jesus we call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wers of bless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Showers, showers of bless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wers of blessing we nee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rcy drops round us are fall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for the showers we pl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8T15:09:48Z</dcterms:created>
  <dc:creator>Lanora Campbell</dc:creator>
  <dc:description/>
  <dc:language>en-US</dc:language>
  <cp:lastModifiedBy/>
  <cp:revision>1</cp:revision>
  <dc:subject/>
  <dc:title>Hymnal</dc:title>
</cp:coreProperties>
</file>