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2E0FD-BC34-4683-91E2-195938BAF2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78D1-0800-42D7-B362-557DAFC9F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7B16-122C-4337-B71F-9D89B86D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4443-CA21-4E34-9693-2C22D1591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078B-BBE0-4C7A-A468-BD322762F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9FDF-15F2-42A7-8962-637E141E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BF67-36E9-49F0-9854-1015CAE9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10FD-756A-4330-9C77-ED8C2450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E2A9-EBF2-4087-B72F-C511A425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44E8-2956-4A35-A85F-FD65D501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B6AC-8E48-4945-9952-943D6310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5665-76F2-4763-98C1-AA9333AC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BC4C-17C8-4D7E-9F2B-33B64B86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4328F-3655-49E5-95A0-1FE81A93DBC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218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Julia Ward Howe, William Stef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ttle Hymn Of The Republic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e eyes have seen th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the coming of the Lor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is trampling out the vint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the grapes of wrath are store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hath loosed the fateful light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His terrible swift swor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truth is marching 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y! Glory! Hallelujah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y! Glory! Hallelujah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y! Glory! Hallelujah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truth is marching 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has sounded forth the trump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shall never sound retrea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is sifting out the hearts of 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His judgment sea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h, be swift, my soul, to answer Him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jubilant, my feet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God is marching 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y! Glory! Hallelujah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y! Glory! Hallelujah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y! Glory! Hallelujah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God is marching 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beauty of the autum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 was born across the se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a glory in His bos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transfigures you and m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He lives to make men hol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us live to make men fre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le God is marching 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y! Glory! Hallelujah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y! Glory! Hallelujah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y! Glory! Hallelujah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God is marching 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9T15:04:46Z</dcterms:created>
  <dc:creator>Lanora Campbell</dc:creator>
  <dc:description/>
  <dc:language>en-US</dc:language>
  <cp:lastModifiedBy/>
  <cp:revision>1</cp:revision>
  <dc:subject/>
  <dc:title>Hymnal</dc:title>
</cp:coreProperties>
</file>