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2DE7B-DEAB-4CA5-8270-43D545865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D16-B878-4B3D-B105-A2458131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AD2-6700-4C02-AC7D-18A51D83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476-1A91-49C3-A9B6-D0D3954D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C0B-9D19-4C3A-9DF7-995149D2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3CA-33C5-4705-94A3-4195F4DB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A7E-CE0A-46A2-8854-271B1C7B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619-A2DB-4B55-84F7-16F58B5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108-FCA5-4F90-9BEA-7C4FB386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D30-0C5D-4ED1-8564-05CCE677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FB6-BAE1-49B0-8352-9D6CC6B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613-59F2-4098-B594-6048CB60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5EB-0DD6-4278-883A-48001C2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6DD93-E582-421E-B1D5-5E39296169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ob 19:25 Words, Jessie Brown Pounds, 1893 Tune HANNAH, James H. Fillmore, 18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Know That My Redeemer Liv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that my Redeemer live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n the earth again shall sta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eternal life He give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grace and power are in His ha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, I know               that Jesus live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know, I k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n the earth          again shall sta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n the earth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, I know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life He give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know, I k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grace and power    are in His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grace and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 His promise never faile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He speaks, it cannot di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cruel death my flesh assaile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t I shall see Him by and b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, I know               that Jesus live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know, I k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on the earth          again shall stan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n the earth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know, I know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life He give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know, I k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grace and power    are in His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grace and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18:59Z</dcterms:created>
  <dc:creator>Lanora Campbell</dc:creator>
  <dc:description/>
  <dc:language>en-US</dc:language>
  <cp:lastModifiedBy/>
  <cp:revision>1</cp:revision>
  <dc:subject/>
  <dc:title/>
</cp:coreProperties>
</file>