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CFB43-6052-4E0E-8E44-8FF4DAA4E9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5A6-E4C6-4B70-8C78-EE044AF1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AB13-0D21-43C4-92BA-D2B6DF40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95E-DD99-4C24-881C-787FB0A8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128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128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DB4-D0B1-404E-9257-EA10AFC9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F89-9292-4AC2-8666-C50A56A1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17E-3C59-4345-B6B1-59FB1C29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3BC9-B25B-43DD-B277-39F318FB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6E8D-5436-46AE-BF10-0C16C2DE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720"/>
            <a:ext cx="809640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9E7-EDD8-4AAB-A07B-8CF0D520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97C-0DF7-458E-8F0E-914EC4DF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ACE3-C20C-4D7A-956B-7F01C7B1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F96-C3A4-477C-91C6-76FE1137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480"/>
            <a:ext cx="28447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4A01E-BB62-4398-8E42-FE0DC435A0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9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55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t As For Me, I'll Call On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'Twas not a foe who did deri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at I could endu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hater thus who rose in pri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se would I hide sec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ou it was, my friend and guid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did as equals mee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lked to God's house side by si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ounsel blended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49200"/>
            <a:ext cx="900612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speech more smooth than butter w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 in his heart was w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oft than oil his words appe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 sharp as drawn swords were th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Lord Thou will in judgment s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ring them down to wo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n the deep and darksome pi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uin lay them 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 shall them seize, and to the tomb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ive they shall go dow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wickedness is in their ho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ng them abound their s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s for me, I'll call on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will safety giv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'll hear me when I cry alou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morning, noon and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7T16:40:03Z</dcterms:created>
  <dc:creator>Lanora Campbell</dc:creator>
  <dc:description/>
  <dc:language>en-US</dc:language>
  <cp:lastModifiedBy/>
  <cp:revision>1</cp:revision>
  <dc:subject/>
  <dc:title>Hymnal</dc:title>
</cp:coreProperties>
</file>