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02CAE-49E3-4EF3-809F-8416C2969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E6D-D9D1-42C5-B287-7217B724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355-2BE3-4454-9D20-C388CD58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F61-9E7D-4429-9F7E-50A06C91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3C5-5714-4377-B7D6-19DDECCC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510-EBB5-4324-9953-F8E8E9E4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6D1-DF07-4056-98EB-AE663DE7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E3C-66AC-43F8-AF25-96038514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DBF-4C8E-4E9C-A324-31AF843C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A5D-6723-469D-B89B-F96C8E18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3A3-C99D-4399-814F-ECCD9172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59D-B3ED-42F2-BA5E-04EF646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0A8-6EC4-4FA0-BC95-D7AC06C6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97EC2-FF74-44B1-A214-F0D79F2B06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756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3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thor unknown, Felice de Giard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Thou Almighty 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Thou almighty K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 us Thy Name to s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 us to prais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 all glorious, o'er all victorio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reign over 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cient of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Thou incarnate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rd on Thy mighty sw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us def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and Thy people ble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ive Thy Word succes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irit of holine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prayer att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Holy Advocat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ure heart in us creat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is glad hou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who almighty ar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our minds to s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hrist would have us b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irit of pow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9:59:47Z</dcterms:created>
  <dc:creator>Lanora Campbell</dc:creator>
  <dc:description/>
  <dc:language>en-US</dc:language>
  <cp:lastModifiedBy/>
  <cp:revision>1</cp:revision>
  <dc:subject/>
  <dc:title>Hymnal</dc:title>
</cp:coreProperties>
</file>