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B970B-D1B6-46A0-9279-28C2248EE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56D-5123-4B19-8BAB-1466B316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702-C02A-4389-AF8D-FAA7BAA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567-1E33-405B-8AC1-6F45CCA7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F2A-070D-457F-BA65-479A9814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D88-6EAC-4C96-AB58-AFC5B1AB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00C-22B2-41CA-897C-C8150FE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C69-9608-4940-8B50-9533E96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874-1D10-4946-AAA5-25481032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D53-6CD9-473E-9125-B6B9ED68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BD7-04B3-44E6-85F3-A5D7BCC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965-C537-4927-AD00-4DA35CE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936-9322-4008-89C3-8E167D6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64B9D-2905-4255-B359-D05F349E94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90600"/>
            <a:ext cx="9006120" cy="57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Thou The Shepherd Of Israel A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Thou the Shepherd of Israel ar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ou our prayer and Thy favor impar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leader of Joseph, Thou guide of his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Mid cherubim dwelling Thy glory displ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phriam's, Manasseh's, and Benjamin's sig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 Thou and save us; awake in Thy m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in anger will Thou turn a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 of Hos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y people do pr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ears and sorrow their table is lai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bitter mixture their dr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 Thou m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s Thy favor, restore us Th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shall live in the light of Thy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made us a scorn to 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ghbors arou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foes in laughter and scoffing ab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, God of Isr'el, return unto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down from heaven and visit this v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ore shall we wander, delighting in sh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us, O Lord, for we call on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2:50:59Z</dcterms:created>
  <dc:creator>Lanora Campbell</dc:creator>
  <dc:description/>
  <dc:language>en-US</dc:language>
  <cp:lastModifiedBy/>
  <cp:revision>1</cp:revision>
  <dc:subject/>
  <dc:title>Hymnal</dc:title>
</cp:coreProperties>
</file>