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18040" cy="37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0712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624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24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624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624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A9227F-EBD7-462A-88AE-D09EF8AAE4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9" name=""/>
          <p:cNvSpPr/>
          <p:nvPr/>
        </p:nvSpPr>
        <p:spPr>
          <a:xfrm>
            <a:off x="777960" y="4776840"/>
            <a:ext cx="621504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1" name=""/>
          <p:cNvSpPr/>
          <p:nvPr/>
        </p:nvSpPr>
        <p:spPr>
          <a:xfrm>
            <a:off x="777960" y="4776840"/>
            <a:ext cx="621504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3" name=""/>
          <p:cNvSpPr/>
          <p:nvPr/>
        </p:nvSpPr>
        <p:spPr>
          <a:xfrm>
            <a:off x="777960" y="4776840"/>
            <a:ext cx="621504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5" name=""/>
          <p:cNvSpPr/>
          <p:nvPr/>
        </p:nvSpPr>
        <p:spPr>
          <a:xfrm>
            <a:off x="777960" y="4776840"/>
            <a:ext cx="621504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A79F-3C6B-4AFA-A8CA-28C12ECF3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4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040" y="1706040"/>
            <a:ext cx="809460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040" y="3689640"/>
            <a:ext cx="809460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3E6E-25D5-47B8-81E2-79DE2421C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4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040" y="1706040"/>
            <a:ext cx="394992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3960" y="1706040"/>
            <a:ext cx="394992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040" y="3689640"/>
            <a:ext cx="394992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3960" y="3689640"/>
            <a:ext cx="394992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6D7F-B55F-4CE2-AFA4-BF384827C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4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040" y="1706040"/>
            <a:ext cx="260604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760" y="1706040"/>
            <a:ext cx="260604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79480" y="1706040"/>
            <a:ext cx="260604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040" y="3689640"/>
            <a:ext cx="260604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760" y="3689640"/>
            <a:ext cx="260604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79480" y="3689640"/>
            <a:ext cx="260604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38CA-4EB3-4E73-93F6-FE27D6EDE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4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040" y="1706040"/>
            <a:ext cx="8094600" cy="37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9B2A-C461-4E15-A647-74695B2EF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4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040" y="1706040"/>
            <a:ext cx="8094600" cy="37976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E5D3-7B92-4676-A1F4-799913101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4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040" y="1706040"/>
            <a:ext cx="3949920" cy="37976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3960" y="1706040"/>
            <a:ext cx="3949920" cy="37976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2BA2-7950-4433-A88E-67ECAB63E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4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4887-7BEB-4FF8-9C51-41424D582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040" y="587160"/>
            <a:ext cx="8094600" cy="44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E507-61D0-49A3-9CC0-02B38A00C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4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040" y="1706040"/>
            <a:ext cx="394992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3960" y="1706040"/>
            <a:ext cx="3949920" cy="37976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040" y="3689640"/>
            <a:ext cx="394992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0C7F-CE6C-4D94-A351-1599F984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4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040" y="1706040"/>
            <a:ext cx="3949920" cy="37976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3960" y="1706040"/>
            <a:ext cx="394992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3960" y="3689640"/>
            <a:ext cx="394992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3E4E-948A-4A2D-80AC-C3BC3712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4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040" y="1706040"/>
            <a:ext cx="394992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3960" y="1706040"/>
            <a:ext cx="394992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040" y="3689640"/>
            <a:ext cx="809460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A9A7-12FA-49D8-9C53-51528D61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4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706040"/>
            <a:ext cx="8094600" cy="37976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040" y="5613120"/>
            <a:ext cx="2087640" cy="3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5613120"/>
            <a:ext cx="2843280" cy="3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720" y="5613120"/>
            <a:ext cx="2085840" cy="3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83C336-090D-4F65-AF99-19804B0D382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4240" bIns="45000" anchor="t">
            <a:noAutofit/>
          </a:bodyPr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32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Henry van Dyke, 1907 Ludwig van Beethoven, 18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Joyful, Joyful, We Adore The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yful, joyful, we adore The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of glory, Lord of lov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rts unfold like flow'rs before The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'ning to the sun ab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lt the clouds of sin and sadnes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ive the dark of doubt awa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r of immortal glad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ll us with the light of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040" bIns="45000" anchor="t">
            <a:noAutofit/>
          </a:bodyPr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Thy works with joy surround The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th and heav'n reflect Thy ray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s and angels sing around The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nter of unbroken prai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eld and forest, vale and mountain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ow'ry meadow, flashing se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nting bird and flowing fountain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l us to rejoice in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040" bIns="45000" anchor="t">
            <a:noAutofit/>
          </a:bodyPr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u art giving and forgiving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 blessing, ever bles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llspring of the joy of living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cean depth of happy rest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u our Father, Christ our brothe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who live in love are Thi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 us how to love each other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ft us to the joy div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040" bIns="45000" anchor="t">
            <a:noAutofit/>
          </a:bodyPr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tals, join the happy chor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the morning stars began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ther-love is reigning o'er u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other-love binds man to ma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 singing, march we onwar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ctors in the midst of strif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yful music leads us onwar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triumph song of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4T19:05:09Z</dcterms:created>
  <dc:creator>Lanora Campbell</dc:creator>
  <dc:description/>
  <dc:language>en-US</dc:language>
  <cp:lastModifiedBy/>
  <cp:revision>1</cp:revision>
  <dc:subject/>
  <dc:title/>
</cp:coreProperties>
</file>