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1660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060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096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-360" y="9554760"/>
            <a:ext cx="336060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096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C5EF71-65F7-4948-8C17-7431D17397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4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6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E98A-BEB1-4212-B07D-B15FE1805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316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040" y="3689280"/>
            <a:ext cx="809316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651B-30AF-47A0-AD40-52BA1756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040" y="368928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3240" y="368928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15EA-E861-4F7A-A18F-464E71B37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70640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8760" y="170640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040" y="368928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68928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8760" y="3689280"/>
            <a:ext cx="260568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6B5B-CA5B-4AE4-B459-1575B494D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040" y="1706400"/>
            <a:ext cx="809316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46D2-7EA0-4B01-986B-6DF3483E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809316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7718-E2AF-48DA-AA9F-507A15E2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0D78-E201-472B-997E-5CF5C3B7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D514-C8EA-421D-BA48-56F857CC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040" y="587160"/>
            <a:ext cx="809316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6304-FFB3-499F-8418-CB0BC7AF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040" y="368928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0AA9-0541-453A-A767-B6E6C2E3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240" y="368928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1964-BA8C-4F15-839B-7937DA3C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0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3240" y="1706400"/>
            <a:ext cx="394920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040" y="3689280"/>
            <a:ext cx="8093160" cy="18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C0B4-6062-43FC-9BDC-60E9BEB6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587160"/>
            <a:ext cx="809316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1706400"/>
            <a:ext cx="809316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8440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5613120"/>
            <a:ext cx="284328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8404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37818-CE61-4CD8-8E62-8A9BBE8D46C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26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5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5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ive Ear Unto My Words, O Lor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ear unto my words, O lor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meditation weigh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r my loud cry, my King, my Go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I to Thee will pr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d Thou shalt early hear my voic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early will dir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prayer to Thee, and looking up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nswer will exp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ou art not a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does In wickedness delight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evil shall abide with The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fools stand in Thy sigh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evil doers Thou dost hat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ut off shall liars b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bloody and deceitful ma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bhorred is by Th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I into Thy house will co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y abundant grac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I will worship in Thy fe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ward Thy holy plac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cause of watchful enemie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ead me by Thy grac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in Thy righteousnes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y way Make straight before my f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all who trust in Thee be gla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shouts their praise proclaim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savest them; let all rejo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love Thy Holy Nam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Lord, unto the righteous ma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 wilt Thy blessing yiel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favor Thou wilt compass hi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bout as with a shiel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4T15:50:50Z</dcterms:created>
  <dc:creator>Lanora Campbell</dc:creator>
  <dc:description/>
  <dc:language>en-US</dc:language>
  <cp:lastModifiedBy/>
  <cp:revision>1</cp:revision>
  <dc:subject/>
  <dc:title/>
</cp:coreProperties>
</file>