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31BA4-342F-4C60-9E26-0F9961DEC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0BF-2BDC-4400-AB31-97A83F15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410-5A45-4CD2-9BAF-E190B974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1A1-3AB2-435F-A8F9-AD0AA78C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1F1-3D5E-4D12-8D09-75ABC4DF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4E4-5604-45B6-A419-1442282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CC2-BA3F-48B5-8C70-B6286F5E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D56-FD1E-4F51-AF65-753D659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428-FF9B-4868-B4E4-BA8608B3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E0D-22B9-4083-BB64-C73B8366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54A-6049-4091-A7FE-E777172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8FD-FDA0-4363-B998-29F9F3CC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C81-F214-4F76-BB25-06ADC3E5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01AAE-DB07-427C-939B-C209B684B1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ords, Daniel C. Roberts, 1876 Tune, George W. Warren, 1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Of Our Fa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ATIONAL HY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umpets before each st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our fath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se almighty 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forth in beau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starry b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hining wor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plendor through the sk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grateful so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Thy throne a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umpets before each 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love divine hath 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in the pa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free land by Th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lot is ca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Thou our Rul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dian, Guide and St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Word our la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paths our chosen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8920" y="357120"/>
            <a:ext cx="9004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umpets before each 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ar's alar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deadly pestilen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Thy strong a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ever sure defen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true reli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ur hearts incre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bounteous goo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urish us in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umpets before each 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esh Thy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ir toilsome 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us from n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never ending 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all our live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and grace div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lory, la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aise be ever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4:30:42Z</dcterms:created>
  <dc:creator>Lanora Campbell</dc:creator>
  <dc:description/>
  <dc:language>en-US</dc:language>
  <cp:lastModifiedBy/>
  <cp:revision>1</cp:revision>
  <dc:subject/>
  <dc:title>Hymnal</dc:title>
</cp:coreProperties>
</file>