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2B71E-B395-4D18-A64F-E985D5A282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1A44-FD56-41D6-BAF9-BDECA0CB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D042-49E5-47BD-9E65-A13124BE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4E3-F7CE-41F2-A86C-3F78C9B4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15C-AF76-4230-8C47-9945C8AC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57A-9648-4596-AB2E-F1B941B1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5FC-8A35-45C3-93C8-075E5BF5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E46-46AA-4FE9-B157-62418350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814-A161-4F3B-8F67-C78E6859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0483-A996-4493-A75F-DEBEFBAA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568-29A4-45A0-A7C2-B013B280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EF5-072C-47BC-89F6-B95DA9AF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DC8-3DF3-4E39-9CF5-233E8A35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F17B8-3F5C-420E-ADE8-B224608741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87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ohn Greenleaf Whittier, 1872 Frederick C. Maker, 18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ar Lord And Father Of Mankin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r Lord and Father of mankin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give our foolish way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-clothe us in our rightful min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purer lives Thy service fin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deeper rev'rence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simple trust like theirs who hea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side the Syrian Se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racious calling of the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, like them, without a w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se up and follow Th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op Thy still dews of quietn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l all our strivings ceas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from our souls the strain and stres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et our ordered l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fess the beauty of Thy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eathe through the heats of 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ire Thy coolness and Thy balm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sense be dumb, let flesh retir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ak through the earthquak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nd and fi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still, small voice of cal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5T15:34:12Z</dcterms:created>
  <dc:creator>Lanora Campbell</dc:creator>
  <dc:description/>
  <dc:language>en-US</dc:language>
  <cp:lastModifiedBy/>
  <cp:revision>1</cp:revision>
  <dc:subject/>
  <dc:title>Hymnal</dc:title>
</cp:coreProperties>
</file>