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6D54-78A4-415D-A035-8E0C34C8C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22D-E2EF-46B1-9FE6-21F9DF13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18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5EF-2664-41A0-AD04-D0EDAFC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F94-8C8E-4A45-8D94-BAFF4923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496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496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18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18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18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4CF-9F55-4FF8-9034-5AA96740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496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BDE-F313-43EF-AD34-69E0FA8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F09-052E-4BBD-9E10-557680D2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0A3-CCD0-4290-AC80-985FC89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9C9-92B3-4C44-832D-E252D52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BE0-8AB9-44A4-BFC0-89C3CCD4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89A-D688-4DD7-97A8-6A4E483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3A7-D27B-4B09-97E3-A2A963C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18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5D7-8238-4104-A9EB-BB0A1C4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496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543B5-AF7B-44E9-A3AB-0C4C968F65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illiam G. Tarrant, 1888, Berthold Tours, 18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 Happy Voices Sing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appy voices sing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children, Lord, app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joyous praises bri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thems full and cl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kies of golden splend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zure rolling se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lossoms sweet and te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we worship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gh no eye beholds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and Thy touch may fe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universe unfolds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starry heav'ns reve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 and all its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omes and all we l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forth the wondrous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One Who reign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we not adore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ore than joyous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 in truth before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eautiful and stro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bless our life's ende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servants true to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rough all life, for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ive our prais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6:27:14Z</dcterms:created>
  <dc:creator>Lanora Campbell</dc:creator>
  <dc:description/>
  <dc:language>en-US</dc:language>
  <cp:lastModifiedBy/>
  <cp:revision>1</cp:revision>
  <dc:subject/>
  <dc:title>Hymnal</dc:title>
</cp:coreProperties>
</file>