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7064C-7350-4378-8E46-9B765D957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151-93F1-4525-B431-E46DB2D8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0C6-15E7-4802-9D4C-DADA118F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A836-CD33-4FDC-BC03-6F6F5C35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474-0AF1-438A-9F86-82797122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3E7-89C7-4FE6-8827-4B5D62F4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7D4-FADC-49A4-8D8D-FED858EE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4372-5A6F-4098-AFD5-0CAD99CA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086-2A3E-4F87-876C-FEB6BEFB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FE36-AAE3-40AB-BF3B-596E0AA0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D9F0-BDD6-4915-A5B5-A29A90AD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A21C-7482-49C1-AA68-D3014BAA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71B-4FB9-44F5-8D66-B67ECC66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115F6-0526-44F8-9467-01DF6C2A8D3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3880"/>
            <a:ext cx="9006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08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71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 God, Forsake Me No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ernal God, my hope and refug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art my rock and fortres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God incline Thine ear to 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me from the unjust m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art my help and trust, O Lor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raise shall always be to The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mouth is filled with praise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God, forsake me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ernal God, be not far from 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God, make haste to help 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'll hope and praise Thee more and mo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tell of Thy great wor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when I'm old forsake me no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enemies against me pla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y, His God will not protect hi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God, forsake me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ernal God, our great creato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justice reaches heave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who hast shown me many trial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shalt give me life once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lips will shout for joy, O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 sing songs of praise to The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Holy One who hast redeemed 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God, forsake me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14:35:35Z</dcterms:created>
  <dc:creator>Lanora Campbell</dc:creator>
  <dc:description/>
  <dc:language>en-US</dc:language>
  <cp:lastModifiedBy/>
  <cp:revision>1</cp:revision>
  <dc:subject/>
  <dc:title>Hymnal</dc:title>
</cp:coreProperties>
</file>