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5871C-F14E-4270-AF37-04F7D328A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91A-622A-4FEE-AD90-45F3DCCF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D65-22C0-4EED-AA3D-ABF5EE59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337-3A2D-4CEE-B2E6-C30AAE41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EAD-FAA4-4229-BFD6-E0C23535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ED2-385A-439C-8199-A0D92DE1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69F-CE3F-42A5-9075-0802AE40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72D-E582-45F7-9509-7B97D68C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279-9686-408D-9B5A-21B93869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E00-C221-46A2-BBFB-CCDC2506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E24-6D4C-4B6C-9E6D-B8A42D8B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4D3-343A-4050-B4AD-786020FC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7AA-50BC-49FC-AA09-38FDC54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CE0F4-ACF6-4095-98A0-26B5586306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1880" y="365040"/>
            <a:ext cx="8631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8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Lord Of Hosts, My King, My Go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Eternal, Lord of Host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y heart cries out for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y soul longs for thy court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or Thy tabernacles d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e sparrow finds a h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e swallow finds a nes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t are those who dwell with Thee,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of Hosts, my King, my G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2240" y="182520"/>
            <a:ext cx="859464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y house, Lord, all are bles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ever sing Thy prai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t an happy is the 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se strength is in the Lord his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ll go from strength to streng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ppear before their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of Jacob, hear my pray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 of Hosts, my King,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82520"/>
            <a:ext cx="8906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ehold, O God, our shie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on Thine anointed on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my prayer, O Lord of Hos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 of Jacob, now give 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one day in Thy hou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a thousand days withou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one day in Thy hou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 of Hosts, my King,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5:26:02Z</dcterms:created>
  <dc:creator>Lanora Campbell</dc:creator>
  <dc:description/>
  <dc:language>en-US</dc:language>
  <cp:lastModifiedBy/>
  <cp:revision>1</cp:revision>
  <dc:subject/>
  <dc:title>Hymnal</dc:title>
</cp:coreProperties>
</file>