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3866C-8B78-4104-A9D2-3D50E3A2D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D70-5F1F-4D40-B2E3-ED1F4608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150-A957-4938-8AC1-F0E67C19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912-B898-47F3-A54C-11E5B798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FF1-36B5-4558-9783-49CC3333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FC3-183D-4F87-A0FC-F747A2F8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A62-588D-4843-9102-A8CFCBE1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818-22F1-4987-849B-57EF5ED7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F26-003F-4429-8FEE-34AC8E21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632-7210-4D8C-A95B-07128067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2CF-36CB-4CB0-8305-6FF1F263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245-4F81-4D76-8F20-2F2B5C66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64E-6F4C-4940-B804-EB05EEF9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EBE5C-8DA5-430B-8DCD-3000601C8A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0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60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urn Again, 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thou hast rejected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cattered us abroa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 hast been displeased with 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again, O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 hast made the earth to trembl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it breaches ma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ou thereof the breaches he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land doth sh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to Thy own chosen people h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rd times s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ou hast made us drink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e of sore astonish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et a banner thou hast giv'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thee do f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t may be displayed by the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sake of truth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y beloved peopl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all delivered 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with the pow'r of thy right h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nswer give to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us from trouble; for the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vain which man supp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tread down our enem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u God we'll do great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18:53:31Z</dcterms:created>
  <dc:creator>Lanora Campbell</dc:creator>
  <dc:description/>
  <dc:language>en-US</dc:language>
  <cp:lastModifiedBy/>
  <cp:revision>1</cp:revision>
  <dc:subject/>
  <dc:title>Hymnal</dc:title>
</cp:coreProperties>
</file>