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A568-D8A4-49B9-980C-A5EA2BE12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AF6-1F69-4D4F-816C-7AE617FB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278-F41A-4995-B764-E36EC7F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D68-2D52-4FA5-8433-99E19696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384-369F-442E-B591-6868E20A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7DA-3354-4650-82BA-5B0A65D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FC-2972-41A7-8B02-4FC93D9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AF9-9CAE-465E-8413-912CF7FD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E49-536E-469B-98FE-67F1E02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6D8-6903-4F90-BBED-4C9FD1B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957-DA63-46C0-8A8D-F8BCCDA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7F4-5154-49D1-AC1D-5EAE988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E7C-EE5D-4D5F-8841-C029419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5AAFE-CEC6-47F3-B815-35C4E0BD63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gustus Toplady, 1776 Thomas Hastings, 18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ck Of A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cleft for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hide myself in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water and the blo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y wounded side which flow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of sin the double cu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ve from wrath and make me p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the labor of my h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fulfill Thy law’s demand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 my zeal no respite kn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 my tears forever fl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for sin could not aton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ust save, and Thou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I draw this fleeting brea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ine eyes shall close in dea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rise to worlds unknow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hold thee on thy thr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of Ages, cleft for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hide myself in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35:42Z</dcterms:created>
  <dc:creator>Lanora Campbell</dc:creator>
  <dc:description/>
  <dc:language>en-US</dc:language>
  <cp:lastModifiedBy/>
  <cp:revision>1</cp:revision>
  <dc:subject/>
  <dc:title>Hymnal</dc:title>
</cp:coreProperties>
</file>