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0857E-F73F-4057-8FAB-2901FEA8C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478-C41D-4619-9E7F-A10500A7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55C-0A4C-415B-B6B7-18FC836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478-B2D5-4EFC-9ADC-57938FFA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060-650B-4095-B839-BE6EA6D5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5DD-F900-499B-BB10-2B0E0E7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596-B2F2-4225-ACD3-9032A6A2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5D0-A31E-4D08-8E4F-291B7B6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040-B615-4427-84F6-F725ADE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5D7-1195-4396-9999-9ACA154C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044-4C54-4BF6-B75E-05148C47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424-7725-42CB-B734-00D623C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0DB-0491-41C8-A8A9-D564825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870D5-DDF6-483E-8946-C7684BE2CD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4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Ye The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ye the Lor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ye the Lor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from the heav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aise in the heigh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, ye ange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, ye hos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aise Him ye su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on and stars in the heigh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en of heaven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s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Eter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praise His Na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comman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were creat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y a decree fix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bounds evermo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ye the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mammals and deeps to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e, hail and wind st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lfilling His wo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pours and s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ills too, and mountain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cedars and fruitful tre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's praise His Na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d beasts and catt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s and all reptil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's kings and judg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eople and chief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ng men and maiden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ld men and childre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raise God's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at which only excel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ye the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ye the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from the heave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aise in the height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ye ang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ye hos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lory is hig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heaven abo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lifted high the ho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His peopl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exalted the pra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His saint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re a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 un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ildren of Israe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you the Lo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5:48:38Z</dcterms:created>
  <dc:creator>Lanora Campbell</dc:creator>
  <dc:description/>
  <dc:language>en-US</dc:language>
  <cp:lastModifiedBy/>
  <cp:revision>1</cp:revision>
  <dc:subject/>
  <dc:title>Hymnal</dc:title>
</cp:coreProperties>
</file>