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2ADC4-5E40-4CD5-B172-A2587904C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4EA-8753-4869-8128-997C01B2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03D-84BA-48F7-9BE2-4BB6DFCF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F4E-8C6E-48FD-894E-CE1880FE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FC7-90A8-4C4D-B674-10E210F2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01B-606A-4CFF-9357-C62A1512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BE2-CA77-4EAE-8035-F49DFF9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54D-6801-4273-874F-E3505D9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6DE-B07D-47CE-A85F-B00001A0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110-67B2-4798-AFD8-E1A8B09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365-E74D-48F4-8B3F-74F32BE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799-181A-4E3D-B2D6-2316E78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EFD-5B03-4823-926E-6E82CA4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278D6-7585-4439-8E7B-803EA38D31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Israel Out Of Egypt W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sr'el out of Egypt w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d his dwelling chan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acob's house went out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were of language stran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Judah made to be his 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sr'el His domain. At the s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m the sea quickly f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 was driven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rams the mounta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ke lambs the hills skipped to and f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ea, what ails you, that you fl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ordan, that you turn bac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ils you mountains, that you ski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kip and leap like ram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ils you, hills, that you did lea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you did leap like lam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at the presence of the Lord,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mbled so with f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as the presence of the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Jacob did appe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from the hard and stony r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pools of water br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y his pow'r He turned the fl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a water-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51:56Z</dcterms:created>
  <dc:creator>Lanora Campbell</dc:creator>
  <dc:description/>
  <dc:language>en-US</dc:language>
  <cp:lastModifiedBy/>
  <cp:revision>1</cp:revision>
  <dc:subject/>
  <dc:title>Hymnal</dc:title>
</cp:coreProperties>
</file>