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AC2FE-E9E9-496A-B1CF-C12E58A69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C25-77A7-494C-AB26-BEC38418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404-FEFD-4388-800C-FC26F232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ED8-8D0E-44A5-8408-622DC796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DB0-A919-4242-8DB0-8578E6C9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864-3EEF-494A-BB6B-09B9317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A4B-A226-4D93-BAC9-F2F2B8F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F69-B57B-4701-BD16-110CC075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97B-E671-49EB-9853-81205437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F01-BDB2-4257-BC19-49AC2E5A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1EC-0D93-478F-BFC3-942189F8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A53-CEBB-48F6-A0D6-9230944A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922-E8A9-47DF-A678-25317D02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A9798-1A01-4B63-AB91-EFC653B6CF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anny J. Crosby, W.H. Do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Am Thine, O Lo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Thine, O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heard Thy vo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t told Thy love to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 long to r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arms of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be closer drawn to Th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n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arer,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ar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er blessed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way that thou hast sh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nearer, n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er blessed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ever ruling thr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03320" y="1935000"/>
            <a:ext cx="638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8280" y="357120"/>
            <a:ext cx="89949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crate me 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service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e power of grace divin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y soul look 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 steadfast hop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will be lost in Th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6840" y="357120"/>
            <a:ext cx="90072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n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arer,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ar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er blessed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way that thou hast sh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nearer, n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er blessed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ever ruling thr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e pure de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a single h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before Thy throne I spe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kneel in pray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 Thee, my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mune as friend with frien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n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arer,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ar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er blessed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way that thou hast sh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nearer, n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er blessed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ever ruling thr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6840" y="357120"/>
            <a:ext cx="89964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depths of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cannot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I have immortalit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heights of jo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may not r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I rest in peace with Th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6840" y="357120"/>
            <a:ext cx="8996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n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nearer,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ar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er blessed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way that thou hast sh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 me nearer, n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er blessed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ever ruling thr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4:05:41Z</dcterms:created>
  <dc:creator>Lanora Campbell</dc:creator>
  <dc:description/>
  <dc:language>en-US</dc:language>
  <cp:lastModifiedBy/>
  <cp:revision>1</cp:revision>
  <dc:subject/>
  <dc:title>Hymnal</dc:title>
</cp:coreProperties>
</file>