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1CBDB-ED95-43C2-89EE-90C8E48D8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825D-3731-4EA0-AC92-D2A72372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6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40C2-5639-4467-9AF8-C5F02A27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96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6D16-C77E-479D-9E98-5D094A6F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76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948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76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948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908-F973-4FAA-A841-C1416290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FDA-9612-4D7D-83E6-AE17AA68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878-EE28-4D93-8667-CB9E85C4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E3E0-B6EB-4716-84D2-98464475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3B74-A578-492F-9373-1D74D595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094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9277-D50F-4C27-9223-11562F3C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A466-5AE9-489E-82B4-9B7094D6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96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072-B71A-43AD-B197-865B50B8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FB27-D9E5-41B4-91EC-F03281F6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480"/>
            <a:ext cx="20876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480"/>
            <a:ext cx="28432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480"/>
            <a:ext cx="20872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8DD64-E2B9-41C3-A493-5A6D1B36BA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84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almer Hartsough, 1844-1932, James H. Fillmore, 1849-19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 Am Resolv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resolved no longer to ling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med by the world's deligh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gs that are high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gs that are nobl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se have allured my sigh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     will      hasten to Hi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 will  hasten,   hasten to Him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ten so glad and fre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Hasten so glad and free;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,      Greatest, Highest, I will come to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Jesus, Jes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     will      hasten to Hi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 will  hasten,   hasten to Him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ten so glad and fre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Hasten so glad and free;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,      Greatest, Highest, I will come to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Jesus, Jes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resolved to go to the Savio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ving my sin and strif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the true one, He is the just o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th the words of lif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     will      hasten to Hi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 will  hasten,   hasten to Him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ten so glad and fre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Hasten so glad and free;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,      Greatest, Highest, I will come to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Jesus, Jes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resolved to follow the Savio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thful and true each da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ed what He sayeth, do wh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illeth, He is the living w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     will      hasten to Hi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 will  hasten,   hasten to Him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ten so glad and fre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Hasten so glad and free;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,      Greatest, Highest, I will come to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Jesus, Jes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resolved to enter the kingdo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ving the paths of sin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ends may oppose 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es may beset me; Still will I enter i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     will      hasten to Hi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 will  hasten,   hasten to Him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ten so glad and fre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Hasten so glad and free;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,      Greatest, Highest, I will come to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Jesus, Jes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resolved, and who will go with 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friends, without dela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ught by the Bible, led by the Spir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'll walk the heav'nly w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8:09:39Z</dcterms:created>
  <dc:creator>Lanora Campbell</dc:creator>
  <dc:description/>
  <dc:language>en-US</dc:language>
  <cp:lastModifiedBy/>
  <cp:revision>1</cp:revision>
  <dc:subject/>
  <dc:title>Hymnal</dc:title>
</cp:coreProperties>
</file>