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F7BEA-0F1B-476D-8159-FC80BFA03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735-B18E-49D6-8EF4-EE627159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4C8-DD38-4EC3-B255-EACD60D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06D-BC82-47A0-8DB0-3F9F29D9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F30-7EB1-4C16-830B-815227AC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1E2-2BB6-42FC-858B-B33DFE65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E4D-427E-44F6-BE70-3A081F5A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5D9-1B61-4524-B6A8-93A8AF3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CE5-1C24-4AAF-976F-125F5B33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185-B379-4E27-ACA1-4752C8BF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7CB-6F2D-44FA-8234-CDCB462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BB5-A825-4BE4-B04E-C2E388FF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CE6-0772-47C1-9221-865BAA2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FC733-8BE3-4674-AEFC-AF0B945292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y Are Blest Who Are Forgi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blest who are forgiv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om God imputes no s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go to the Eter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onfess to Him their s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iniquities are cover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the Lord does instruc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ing, I will direc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way that you shoul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orrows have the wick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know not the wa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not as mules or hors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are held by bridles st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be glad in the Eter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joice all you ju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t for joy all you upr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ose spirit is no gu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and night God's hand was on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groaned till I conf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ins I laid before H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ly He forgave them 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'ry godly one shall pray th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the Lord may be f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be glad all you upr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you righteous, shout for 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3:56:52Z</dcterms:created>
  <dc:creator>Lanora Campbell</dc:creator>
  <dc:description/>
  <dc:language>en-US</dc:language>
  <cp:lastModifiedBy/>
  <cp:revision>1</cp:revision>
  <dc:subject/>
  <dc:title/>
</cp:coreProperties>
</file>