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72F99-33CA-477F-B772-6FA398145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885-6B82-4931-B1D5-A91859C5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A9B-94A9-42DC-BE3C-4007844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E4B-513A-4B33-8FF7-EFF33F7C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BCC-A463-44FA-B394-82DC8581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79E-5366-46A1-B9AE-B053CFB6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1C5-EFE0-4707-AA53-57EB7CE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437-C234-40A4-AFF0-00325D8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D2D-4D1D-48CD-AAC6-01D99187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DB5-0CEB-4FFE-BEF9-3043C01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57D-9FB4-4F55-B2B0-CF9677D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404-015E-4A90-A38E-C0F50DB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A09-FBC3-498A-88FF-5AE8622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B5612-DEEA-4910-9518-C7CC9378FD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y, Mighty Majest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reigneth high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mighty, He is grea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between the cherubim He si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praise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King and He maintains the 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storeth equity; Worship and exa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One!  Holy, Mighty Majes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One is God and 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poke unto His pries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illar of the cloud He spo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them who kept His la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is among them, Aaron to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xtolled the Lord their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also called upon His n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did hear, and answer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You did answer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forgave and you aveng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exalt the One Eternal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n Zion is most grea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King and He maintains the 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storeth equit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hip and exalt the Eternal On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, Mighty Majes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3:36:21Z</dcterms:created>
  <dc:creator>Lanora Campbell</dc:creator>
  <dc:description/>
  <dc:language>en-US</dc:language>
  <cp:lastModifiedBy/>
  <cp:revision>1</cp:revision>
  <dc:subject/>
  <dc:title>Hymnal</dc:title>
</cp:coreProperties>
</file>