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F74B6-8F24-4860-B29E-F6C8D8B36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AA7-E905-456A-931A-A80958A7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087-579D-4A4A-8D67-E13B17C3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3E9-13DE-4668-B1F5-47291766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BA6-BEAE-45C4-9A9A-A4D5E8EA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46E-8F3A-46C3-8D17-68F802AD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2E9-10C1-47E5-A6E2-225A83E1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5B5-0B12-48BE-9735-137E566C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CC7-E724-4DAD-914A-0560CBEC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352-E4ED-458A-B3E0-DFB0D8BC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1A4-5CAB-4AD3-8303-4E732EC7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B03-9AAC-48BF-9BCF-2475C577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112-8033-4519-BFD4-1A0E9E0D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60EE7-C70D-4AA5-8597-6488185E70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0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 Shall Reign Forevermor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my prayer, O Thou Eter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e not Thy face from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my cry and quickly 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y day of trouble co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grass my heart is wither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days like grass consum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od, take not my life n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idst of my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n owl in some poor wastel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ourn and cannot slee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melancholy sparr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pelican al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ou, Eternal, hear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nswer speedil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e not Thy face from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For I moan bitt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our God returns from heav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Zion shall be buil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all come in all His glor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all help the destitut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prayers He will despise no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groaning He will h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shall dwell in safet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ur God shall ret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ll people then are gath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rve the Lord their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clare His Name in Z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erusalem His prai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kings shall see His gl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ations hear His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fame shall be declared th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all reign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44Z</dcterms:created>
  <dc:creator>Lanora Campbell</dc:creator>
  <dc:description/>
  <dc:language>en-US</dc:language>
  <cp:lastModifiedBy/>
  <cp:revision>1</cp:revision>
  <dc:subject/>
  <dc:title>Hymnal</dc:title>
</cp:coreProperties>
</file>