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9C73E-D326-48C9-A20C-8534B2279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AAF-3489-4AEC-A967-B16B2852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8B2-3F67-4474-A403-DF83F7E0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37C-CD76-49F3-8E84-07465F91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7C5-FFE6-48FE-BC05-112FF45D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619-B828-48A4-A199-4559E74F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769-49A6-4039-BF31-DD61EA1D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9D9-4CB2-4038-979F-2ECA5EEF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901-E05B-40BA-944C-E6845E1B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D93-0196-4621-B5DE-8DF9C3EC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F37-F1E7-444B-96AE-9C1EE685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D06-9FBA-4793-BE75-1A20EBF6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D5B-3E7D-49B2-A773-99E96C8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CA1CF-7B39-448E-893A-890E3F3057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achim Neander, Lobe Den Her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Ye The Lord, The Almight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y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mighty, the King of creatio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my soul, praise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is thy health and salvatio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ye who h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o His temple draw n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 me in glad ado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y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o'er all things so wondrously reigne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ters thee under His w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, so gently sustainet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 thou not s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y desires e'er have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ed in what He ordaine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y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th marvelous wisdom hath made the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ked thee with heal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 loving hand guided and stayed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oft in gri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h not He brought thee relie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ing His wings for to shade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y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et all that is in me adore H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at hath life and brea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now with praises before H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A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 from His people aga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dly for aye we ad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5:33:23Z</dcterms:created>
  <dc:creator>Lanora Campbell</dc:creator>
  <dc:description/>
  <dc:language>en-US</dc:language>
  <cp:lastModifiedBy/>
  <cp:revision>1</cp:revision>
  <dc:subject/>
  <dc:title>Hymnal</dc:title>
</cp:coreProperties>
</file>