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342B7-B959-4E1C-802B-CD281C95A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CD5-57A0-4A25-8D07-5113FFC0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E76-549F-43DB-8CB2-DF94437F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C2A-0464-44E6-90C0-81BB694A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84EA-CEF7-4623-BD93-C1628AE7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165-2039-4D7E-94A0-42BB08AF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923-8B7E-4C66-BBA1-B3A0D1FE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375-FAEB-49B4-B48E-FDC36FAD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4F9-2186-4E87-88D3-CFFD1521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D38-0A1B-4E99-8406-7F641F14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829-28D5-4980-93D3-FF0758F4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387-F764-4340-8B5B-E1993FA5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076-7425-424A-8105-D42E9C1C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BD248-CA82-4D4C-821B-20E7B2CB73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6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ohn Fawcett, 1782, Johann George Nägeli (1772-1836) Lowell Mason, 18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est Be The T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t be the tie that bin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hearts in Christian lov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ellowship of kindred min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like that to that ab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our Father's thr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pour our ardent prayer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fears, our hop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aims are 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comforts and our ca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share our mutual wo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mutual burdens bea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ften for each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s The sympathizing t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e asunder par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gives us inward pai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e shall still be joined in hear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ope to meet aga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4:12:55Z</dcterms:created>
  <dc:creator>Lanora Campbell</dc:creator>
  <dc:description/>
  <dc:language>en-US</dc:language>
  <cp:lastModifiedBy/>
  <cp:revision>1</cp:revision>
  <dc:subject/>
  <dc:title>Hymnal</dc:title>
</cp:coreProperties>
</file>