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89CA2-A867-4828-8AE1-2D0BF1081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5E3-2E6D-4480-9BCA-4E79595B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F0C-96CF-49E6-A6F5-463D9C3E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60C-CF03-4020-AF23-6659E345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238-FE33-41ED-83D3-C5085FCD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62B-80A3-4CFA-86FD-3FDC8DC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5EA-CB95-4102-B976-EE2EA08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493-2108-4A3A-B596-5B570729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B58-CDCA-48E7-997F-22A1E04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492-6345-43CE-9600-898984A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C92-8877-4731-9707-BD3DA89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728-0A30-456F-BC57-3BAEFF5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64B-C3A7-4FE4-91FF-6DD1738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012E-C9E5-425B-B07F-FF91B239E3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9360" y="357120"/>
            <a:ext cx="8815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anny J. Crosby, Mrs. Jos. F. K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essed Assur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sed assur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rd I am Thin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what a foretas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glory divin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ir of salv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chase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wn of His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ed in His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9360" y="357120"/>
            <a:ext cx="8815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ing my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day lo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ing my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day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9360" y="357120"/>
            <a:ext cx="8815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 submiss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mise of r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in my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 happy and bles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ching and wait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ing ab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ed with His good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t in His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9360" y="357120"/>
            <a:ext cx="88153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ing my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day lo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tor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my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ing my Savi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day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36:00Z</dcterms:created>
  <dc:creator>Lanora Campbell</dc:creator>
  <dc:description/>
  <dc:language>en-US</dc:language>
  <cp:lastModifiedBy/>
  <cp:revision>1</cp:revision>
  <dc:subject/>
  <dc:title/>
</cp:coreProperties>
</file>