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89B14-CD8A-4780-956E-AB473255B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B20-28B8-4C60-9348-EA2EDC64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380-7343-4331-BC08-C30026B1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917-B399-47E6-BAD4-1998874A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871-3CCB-4166-B20E-2919D7DD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6F6-E7F2-428B-AC8E-2BDC3286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573-5D47-4117-B983-3B88254F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BDF-9A08-4C74-904F-D42BB743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4AF-07BB-4EBF-86AC-BD2206E3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2AA-F8B7-4DD4-B811-F289861B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24C-288C-433E-9467-8632CBD0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0C0-D1CE-4DA9-A121-6709DD5A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707-F680-4453-89F8-A17307E9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AD444-CDED-4A22-98FD-399ECFCE6C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4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The Eternal I Will C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Eternal I will c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th my voice will I entrea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ing before Him all my wo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am overwhelmed and fain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path lies a hidden sna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ne who will help nor ca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fuge safe is there but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elp fails that is not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Eternal I will c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art my refuge from all stri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ear, attend my fervent cr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e, for I am very lo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me from my pursuing fo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ir strength is far more than m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hall I give thanks to Thy n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y bountiful goodness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4:04:12Z</dcterms:created>
  <dc:creator>Lanora Campbell</dc:creator>
  <dc:description/>
  <dc:language>en-US</dc:language>
  <cp:lastModifiedBy/>
  <cp:revision>1</cp:revision>
  <dc:subject/>
  <dc:title>Hymnal</dc:title>
</cp:coreProperties>
</file>