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095A2-EA55-48F8-B8B7-D871AB936F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0BEF-84EB-4211-B08F-181A0793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D726-7EA5-440D-825E-B4661EA1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B564-B92B-42E3-896B-751779BF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FF5C-682F-49CC-AE68-9903B4CA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B152-AAE8-478A-8A6B-B55D65A5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5D23-3966-4ACF-96CB-2D35D4D8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E8EE-1911-4A34-BDE9-236B558D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7750-50BD-4899-AB8F-5EB1C0C4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E294-59CE-42B4-84ED-AC2175F1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36D9-CC9E-45C3-A89B-44987D8E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6A48-FAE1-4342-BD32-CDC1D574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78C0-A2FF-4E1B-A48E-6698EB11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C064E-8E38-4F7A-A73F-F136837ECC7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06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Zechariah 14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ehold, The Day Will Co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old, the day will co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ay of the Lord our God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hall bring all nations in that 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st Jerusale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hall take the city and share the spoi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very midst of them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our God Eternal shall go for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hall fight against our fo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at great day of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Lord shall stand on earth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Mount of Olives He shall stan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mount shall cleave in two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shall be a valley of mammoth siz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valley you shall fle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our God Eternal shall b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hall rule over all the ear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at great day of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'will be neither day nor nigh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at even time it shall be ligh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shall be one day to G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 from Zion shall living waters flow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east and to the wes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our God Eternal shall be King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at day shall there be one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old that day shall co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ll nations shall obey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of all the nations that are lef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Jerusalem shall go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hall even go there from year to yea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hall keep the Feast of Booth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shall be one God, the Eterna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is King over all the ear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8T19:35:16Z</dcterms:created>
  <dc:creator>Lanora Campbell</dc:creator>
  <dc:description/>
  <dc:language>en-US</dc:language>
  <cp:lastModifiedBy/>
  <cp:revision>1</cp:revision>
  <dc:subject/>
  <dc:title>Hymnal</dc:title>
</cp:coreProperties>
</file>