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19252-59C5-4533-BB0F-30D896ED6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605-7139-4683-8497-213D6C5B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8DB-CD2A-4BC5-B793-15F0C149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D85-B108-4821-BC54-B6FD6BA1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C35-586C-4DAE-9E5F-6C5B8295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F75-448F-4E3A-BE4E-96F400D1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721-4CC9-48F8-85F3-4FE3C77A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E4A-E60F-49CE-ACD5-1EE41FB4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4C2-EC4E-46F3-A104-65EF221F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6A6-170D-41F2-A58D-4C64EE45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C4D-8A5E-49EA-BF8E-08EB084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6A7-957D-4BBC-885F-A21E1363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854-FE5D-4C47-B0A7-4DF6794F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B239A-7E7D-46EC-8253-F30E757F90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3880"/>
            <a:ext cx="900756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omas O. Chisholm, William M. Runy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eat Is Thy Faithfulnes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God my Fath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no shadow of turning with Th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changest no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compassions, they fail no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u hast been Thou forever will b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ing by morning new mercies I s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 have needed Thy hand hath provi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, Lord, unto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er and winte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gtime and harv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, moon and stars in their courses ab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with all nature in manifold witn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y great faithfulness, mercy and lo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ing by morning new mercies I s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 have needed Thy hand hath provi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, Lord, unto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don for sin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eace that endure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own dear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heer and to guid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ngth for toda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ght hope for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ings, all m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en thousand besid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ing by morning new mercies I s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I have needed Thy hand hath provi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Thy faithfulness, Lord, unto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21:11:38Z</dcterms:created>
  <dc:creator>Lanora Campbell</dc:creator>
  <dc:description/>
  <dc:language>en-US</dc:language>
  <cp:lastModifiedBy/>
  <cp:revision>1</cp:revision>
  <dc:subject/>
  <dc:title>Hymnal</dc:title>
</cp:coreProperties>
</file>