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5E8E59-DBF7-4053-90BD-59FD8C377B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B22A-3DC6-4A20-9109-9B2E26CD9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E18E-465B-46A8-9678-8D673F7A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F201-B9DA-4536-B8FE-3EF3E8D65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885D-6664-44CA-ACBD-93A8DF390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2D89-BA08-402E-AE75-55541746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4B9D-3D4D-4674-A3A8-34605BF7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BD50-5CED-445C-B0BE-1C4662B9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5630-8B36-4487-941C-FFF3D183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1279-5894-44AF-BEAF-BD3A82FA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1326-3230-42F7-8293-ED4AD613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9843-9929-4C03-BB75-6B022B18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0336-8317-4445-A644-CE88B7EE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838A74-8169-4026-B03C-1EF6F6FCFCF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49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107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 That Men Would Praise Their God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that men would praise the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for all His goodness and all His work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He fills the hungry sou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y who are thirsty He satisf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are bound in darkness and chain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ir rebellion against the Most Hig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that men would praise their G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ll His goodness and all his lov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has opened the prisons wid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saved men from dea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they lay enslave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ir trouble they cried to Him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with His word He preserved their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that men would praise their G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ll He does for the sons of men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that they would give thanks to Hi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shouts of joy and with songs of prais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crossed o'er the stormy sea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ee the wonders of God in the de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18:40:07Z</dcterms:created>
  <dc:creator>Lanora Campbell</dc:creator>
  <dc:description/>
  <dc:language>en-US</dc:language>
  <cp:lastModifiedBy/>
  <cp:revision>1</cp:revision>
  <dc:subject/>
  <dc:title>Hymnal</dc:title>
</cp:coreProperties>
</file>