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B0F5E-6A03-41E6-86C4-DF9B27E91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20A-5E51-4645-814B-7F09A9A5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C9D-3704-40CC-936B-B3498CB8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19B-2504-43BE-B670-066AC94F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967-5877-4CFE-A12B-482FF944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B0D-0670-40E0-82C5-E48EB4B0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181-FD68-42BC-8E66-A736E417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2BC-A6C5-4AE7-B5E5-31E34970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659-6682-4ABE-B29A-078CD37C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091-3146-4666-B8DA-CF059395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A99-5903-430D-A3F0-2983F42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413-CC18-401D-BAF7-C19BFF64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1D7-636B-4D3D-969F-BCD58C19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34E20-C5A7-4A63-B2FA-C12FFD442C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56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ge 2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3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Long Wilt Th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get Me, Lor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wilt Thou forget me, L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it forever b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 God, how long wilt Th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 hide Thy face from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take counsel in my so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orrow day by d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exalted over me shall be mine ene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 my God, consider Th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Answer give to m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t I should sleep the sleep of dea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ne eyes enlighten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est mine enemy should s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ainst him I prevaile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 those who troubled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joice when I am shaken,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as for me, I put my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great mercy Go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shall sing unto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praise His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rejoice with my whole hear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His salvation tru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will sing unto my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is great love to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7:27:17Z</dcterms:created>
  <dc:creator>Lanora Campbell</dc:creator>
  <dc:description/>
  <dc:language>en-US</dc:language>
  <cp:lastModifiedBy/>
  <cp:revision>1</cp:revision>
  <dc:subject/>
  <dc:title/>
</cp:coreProperties>
</file>