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05A89-A229-4319-B0F3-AA40F71E9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095-2A51-4E72-AB64-0ACB6835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BF1-8721-495F-B047-C38D3657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F6F-934F-47F1-B57A-F6664E7A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A6E-7AB2-4036-9A1F-DBE3CE58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D8B-E92B-43E9-8752-46CD2FC9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0AF-C47C-498C-B71D-E6D20CD1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77C-FC63-4EC4-A15E-9AFD19E9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04E-1A63-4030-850C-13123FA2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40BC-AD91-474B-99D7-57BCFFB4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7F6-68B6-463D-AC26-8BBA7EAB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9C4-6F3D-4A67-8FC4-F8E92847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90A9-BC2D-460D-9511-629317C9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DCF49-EFD7-4095-BDDF-F91E2D9BF0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4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01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'll Sing Of Mercy And Of Just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'll sing of mercy and of justi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I'll sing to th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wisdom in a perfect 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my behavior 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when, in kindness unto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t thou be pleased to co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th a perfect heart will wal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in my house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endure no wicked t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mine eyes to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te their work that turn asi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shall not cleave to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ubborn and a froward he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quite depart from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son giv'n to wicked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not know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'll cut him off that slandere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neighbor privil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aughty heart I will not b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him that looketh hig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on the faithful of the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 eyes shall always 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favor shall I look on the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y may dwell with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an who practices dece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dwell within my hou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 my presence shall no 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 who utters l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, all the wicked of the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early will destro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ut off evil do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city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09:19Z</dcterms:created>
  <dc:creator>Lanora Campbell</dc:creator>
  <dc:description/>
  <dc:language>en-US</dc:language>
  <cp:lastModifiedBy/>
  <cp:revision>1</cp:revision>
  <dc:subject/>
  <dc:title>Hymnal</dc:title>
</cp:coreProperties>
</file>