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9EB3C-AB25-41FA-99ED-FED87B4D2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67C-2DCB-4CCE-BB40-83531370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05C-ACC8-481D-AB5A-CCC47A1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C22-12CF-4155-BB9B-DE044593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FCA-CCCC-4485-BB16-204AB13E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F8F-F653-42C4-BF85-4353063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77D-A161-47CC-AC40-CD99585C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CED-1A0F-45A8-80AB-1B7B5C40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D04-C551-4E27-B369-1F0C19F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E1F-ECBB-40FA-A9CD-BBF2B062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54F-35CE-4570-8538-11D6112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70F-F730-4D84-8073-571B2E6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52A-0106-41EA-8F01-9CC37C9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125BA-EF9A-4E36-B27A-40BB9C4FC9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illiam Merrill Vories, 1908, William Boyd, 18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There Be Light, Lord God Of Ho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re be light, Lord God of hos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re be wisdom on the eart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broad humanity have bir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re be deeds, instead of boa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in our passioned hearts in sti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alm that endeth strain and strif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us thy ministers of lif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ge us from lusts that curse and k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us the peace of vision cl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ee our brothers' good our ow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joy and suffer not al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ve that casteth out all f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woe and waste of warfare cea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useful labor yet may bui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homes with love and laughter fille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give thy wayward children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5:28:22Z</dcterms:created>
  <dc:creator>Lanora Campbell</dc:creator>
  <dc:description/>
  <dc:language>en-US</dc:language>
  <cp:lastModifiedBy/>
  <cp:revision>1</cp:revision>
  <dc:subject/>
  <dc:title>Hymnal</dc:title>
</cp:coreProperties>
</file>