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60777-342C-4071-87AD-140072882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EDF-1845-4830-9551-B1E3133B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AE1-B5CD-47ED-9FBD-567D9E11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380-D75F-4CD5-90F5-4B638122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BA6-1590-4F43-9018-C11A3D60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1B5-9C25-4E89-BA1C-BC48429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98D-F5DF-4891-B744-26155DEA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9DC-6623-4AF9-B790-21CA1063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B6D-7AE1-4136-9F87-9235DFF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F59-423C-4687-B33C-EDB91D8B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430-E3CC-4F6F-BDE5-F7660638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70A-42FD-4D42-9DBF-27C0BE61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FA7-5DD1-486D-9F6F-499B90E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5CD78-F049-49D8-A05D-6F1AD48FAD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5 -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Katharina von Schlegel, 1697-? Trans. by Jane L. Borthwick, 1813-1897 Jean Sibelius, 1865-19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 Still,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ill, my so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on thy 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 patiently the cross of grief or p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to thy God to order and prov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very change, He faithful will rem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ill, my so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best, thy heavenl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horny ways leads to a joyfu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ill, my so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God doth under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uide the future, as He has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hope, thy conf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thing shak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ow mysterious shall be bright at 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ill, my so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ves and winds still k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voice Who rule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He dwelt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ill, my so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is hastening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 shall be forever with the L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isappoint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ef and fear are g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row forgot, love's purest joys resto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ill, my so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change and tears are pa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afe and blessed we shall mee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4:41:04Z</dcterms:created>
  <dc:creator>Lanora Campbell</dc:creator>
  <dc:description/>
  <dc:language>en-US</dc:language>
  <cp:lastModifiedBy/>
  <cp:revision>1</cp:revision>
  <dc:subject/>
  <dc:title>Hymnal</dc:title>
</cp:coreProperties>
</file>