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CBD98-A035-4212-AA6A-133B3A508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B34-4587-4C97-AEE5-A600887F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788-E3A1-4DA6-A6C9-A9A92B95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843-1A10-4021-BB69-22E4C111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B28-2A00-451D-A791-683092E7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BB1-9994-4F61-AAE4-F6EE7D95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03E-523F-4F74-8841-06C4FE06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14C-51F3-492E-926D-9DF2353C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A84-AC17-47A0-8EB6-BDE75A08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751-FE9B-4FE5-BE33-A31E7E8F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CDB-87ED-459D-9F31-5CD7433A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076-BD99-40E7-929E-E22B9704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C13-B92C-47BC-9D8A-6D56A094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C625F-0B19-45A0-B550-2627E1EEB4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5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19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How Love I Thy Law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how love I Thy law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ever with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my medi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day in my though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held back my fe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ways of this worl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ast given me wisd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y righteous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ow love I Thy law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ever with 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more understan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the ancients of ol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y precepts I lear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'ry false way to hat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more understan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dwell on Thy la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ow love I Thy law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ever with 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commands make me wis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my unfriendly fo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ow sweet are Thy word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than honey is sweet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y Judgments eterna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never dep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3T21:22:12Z</dcterms:created>
  <dc:creator>Lanora Campbell</dc:creator>
  <dc:description/>
  <dc:language>en-US</dc:language>
  <cp:lastModifiedBy/>
  <cp:revision>1</cp:revision>
  <dc:subject/>
  <dc:title>Hymnal</dc:title>
</cp:coreProperties>
</file>