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D903E-6BC9-49FD-A2E7-07E67AF50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0A3-3DCD-4CF1-AF81-CDF80760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611-3782-4359-81F4-034642F0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7B0-B0D7-4B5C-AF3F-FF616F62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E29-0366-41B4-B5BF-D8D76C97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194-69F8-4DF8-872A-707A816F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811-7CA1-4524-97E7-BB5B6214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855-C58F-4D90-BD3B-34809424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3F3-F05F-4969-9C59-3A4E56EE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D19-61AB-44A9-B01A-ED3B82B6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C9F-B04D-4417-BCBB-FE14A1B8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69F-3457-4EDE-9A11-DF6E1F69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F07-BCF6-445E-AFFF-70C65C12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CB7B9-C8ED-4248-B750-2A36532547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7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28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est And Happy Is 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t and happy is h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obeys and fears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hall earn his daily b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 shall be well with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his wife in his hou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vine that bears frui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sons round his 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like olive plants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t and happy is h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obeys and fears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of Zion the Eter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this blessing send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days of his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nd his sons shall thri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all see Israel flouris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erusalem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6:59:55Z</dcterms:created>
  <dc:creator>Lanora Campbell</dc:creator>
  <dc:description/>
  <dc:language>en-US</dc:language>
  <cp:lastModifiedBy/>
  <cp:revision>1</cp:revision>
  <dc:subject/>
  <dc:title>Hymnal</dc:title>
</cp:coreProperties>
</file>