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24841-E229-4787-A20D-FE953F09E4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1486-7641-4194-805D-BEB40736F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324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CEBF-1AE5-4E9F-9DC7-C8B343A2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720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38E3-8DB5-44FF-9689-CE6664C4A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92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416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92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416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315B-7B56-4313-B068-9C81AB0E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F677-57F2-48A5-A3A6-301FAC64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31B7-884B-4872-8908-50E733BD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1C2B-B0D5-445C-960D-AFACB4A4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4257-8B48-4979-A7E7-A75803F3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720"/>
            <a:ext cx="81010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BA1D-B74D-44C0-B04D-216E015E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565E-76CB-4693-B2AF-852C34ED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720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3AB3-C71C-47EB-8A77-6A341C5D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FEBD-A388-4B76-BBDB-0E72A872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120"/>
            <a:ext cx="20941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120"/>
            <a:ext cx="28497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37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AB388-A800-4FC1-A967-87445EEDAA5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57120" y="353880"/>
            <a:ext cx="900612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13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Navy Hymn, William Whiting, 1860, alt. John B. Dykes, 18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ternal Father, Strong To Sa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ternal Father, strong to sav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se arm doth bind the restless wav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 bid'st the mighty oce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ep its own appointed limits keep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, hear us when we cry to The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ose in peril on the sea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Savior, Whose almighty wor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inds and waves submissive hea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walkedst on the foaming dee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alm amid its rage didst sleep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hear us when we cry to The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ose in peril on the se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8920" y="357120"/>
            <a:ext cx="90043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sacred Spirit, Who didst bro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pon the chaos dark and rud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bad'st its angry tumult cea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gavest light and life and peac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hear us when we cry to The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ose in peril on the se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mighty God of love and pow'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brethren shield in danger's hou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rock and tempest, fire and fo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tect them where soe'er they go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ever let there rise to The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ad hymns of praise from land and se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9T14:19:19Z</dcterms:created>
  <dc:creator>Lanora Campbell</dc:creator>
  <dc:description/>
  <dc:language>en-US</dc:language>
  <cp:lastModifiedBy/>
  <cp:revision>1</cp:revision>
  <dc:subject/>
  <dc:title>Hymnal</dc:title>
</cp:coreProperties>
</file>