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F790-C539-4325-BA5D-7445DB191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710-7976-420E-B7CF-E3D6FFFC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ABA-FA0C-4A6C-B455-E80F7B24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D92-0541-4066-9185-D0A23BEE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3D0-3F1F-4A1D-A1D1-B17014EB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B3E-EC00-448E-9F51-BFC56EF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A07-B612-494B-97B6-B6140A9A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7E7-247D-418C-8792-FBB1DB7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F65-D35D-4D38-A905-78E3FD2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B6F-E977-4BE6-BF1C-5BD41EC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99C-C8DA-4AC7-A53A-5BBCC38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600-09E5-4C88-BBA7-D7B4C23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E1F-466E-4BF3-AED7-BC416B0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754D9-45A7-42B9-A844-7863411301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onnie French, 20th cent., Audrey Rhodes, 20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Mercy That Never Fa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soul cries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 heavy hea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h God, again I've failed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He'll lift me up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hrone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mercy that never fai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sing Thy prais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Lord, my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love that doth prevai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'll look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bended kn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mercy that never f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 friend is bo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 sin's dark clou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take your brother's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etitio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forgives your s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mercy that never fai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sing Thy prais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Lord, my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love that doth prevai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'll look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bended kn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mercy that never f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our sins be r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 crimson thre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foolish steps we've stray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 sin's dark n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brings a light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mercy that never fai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sing Thy prais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Lord, my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love that doth prevai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'll look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bended kn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mercy that never f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17:47Z</dcterms:created>
  <dc:creator>Lanora Campbell</dc:creator>
  <dc:description/>
  <dc:language>en-US</dc:language>
  <cp:lastModifiedBy/>
  <cp:revision>1</cp:revision>
  <dc:subject/>
  <dc:title>Hymnal</dc:title>
</cp:coreProperties>
</file>