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14800" cy="37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AB679-91D5-4CE3-9635-F2F4B4F665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A89A-873C-464C-B2A7-FF9A10CB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8856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6402-7D93-4794-A008-B44A86C8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252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ED57-345B-4CBE-9E03-20819C85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064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8400" y="17064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885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6885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8400" y="36885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A86E-C009-43B0-836F-D2497210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400"/>
            <a:ext cx="80913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894E-8B8D-4E26-8471-EA0805CA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80913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7636-631B-457B-A3BB-BD364AA6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9760-7548-4EA8-AA9D-AE85CE39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4F90-D642-4447-9256-E3E0CD14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7160"/>
            <a:ext cx="809136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BFC5-1F98-4830-83CB-DFC18C57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23B4-481D-4008-86B2-0794DD30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252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B7E-F525-4090-8DA4-5C9E82DB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8856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4E1D-19D3-46F0-BBE6-EF460C3F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400"/>
            <a:ext cx="80913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829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1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26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1F3AF-C9F5-40F8-8D1A-C18A3BD9BFD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26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9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9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clare His Works To All Nation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sing, O Most High; Praises to Thy Name with my whole heart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proclaim Thy wonders; I will rejoice and exult in The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foes fall at Thy sight; For Thou hast maintained my cause and my cr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will judge from His throne; He shall remain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will rule, uprightly; Judge the world in righteousn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oppressed who seek Him; He will to them a refuge b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Lord will not forget Those who put their trust and confidence in Hi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the Lord sing praises; Declare His works to all nation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Most High in Zion dwells; He will not forget His peopl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declare His great works; And He will not forget their c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se, O Lord!  Put them all in fear!  All the nations that forget that Thou art Go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dge them Lord before Thee; Let the nations know they are but men!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6:07:27Z</dcterms:created>
  <dc:creator>Lanora Campbell</dc:creator>
  <dc:description/>
  <dc:language>en-US</dc:language>
  <cp:lastModifiedBy/>
  <cp:revision>1</cp:revision>
  <dc:subject/>
  <dc:title/>
</cp:coreProperties>
</file>