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86AEF-3528-4516-B49A-8E97C50E0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2DE-ACBE-4DDE-8291-5F77A366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143-7343-4D20-8A17-4EB45A29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284-2286-4FF1-81C6-2C5AA761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BDE-FC05-41BB-9575-9976625F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5BA-91D3-4A52-B8C5-F77AD544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C2A-E588-443E-AED1-60F144EB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674-CC25-471C-8FF0-29C4860B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35E-646D-4975-A4BE-5CB6E6C6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574-76A0-4E07-B2D3-45A8A4DC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889-AF4D-4057-9C5B-E3AD738A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003-9C5E-42C0-B4BC-6EFC9D31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869-5B97-440E-B81F-69DDE4F9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04E90-C6D8-438C-A459-2923DAB6E9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0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I Samuel 22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e Will I Love, O L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e will I love, O Lord my m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rock my help my saving pow'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God, my trust, my shield in figh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great salvation, my high tow'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Eternal is my pray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hom all praise we ow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shall I by His watchful 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ly be guarded from my fo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y distress I called on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Eternal raised my pray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voice He from his temple hea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cry ascended to His 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owed the heav'ns His high abo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 in the dark of n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on a cherub swiftly ro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the wings of wind His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deadly shafts around He threw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foes dispersed in wild retrea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burning darts his lightnings fle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ing them in sore def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nt from heav'n and rescued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waters swelling hig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ose that hate me set me fr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oes that stronger were than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o but God should be adore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but our God can us befrie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a rock besides the Lor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else is able to defe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Eternal I reli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ver foes prevail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Almighty on my si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lofty walls I fearless sca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5:54:43Z</dcterms:created>
  <dc:creator>Lanora Campbell</dc:creator>
  <dc:description/>
  <dc:language>en-US</dc:language>
  <cp:lastModifiedBy/>
  <cp:revision>1</cp:revision>
  <dc:subject/>
  <dc:title>Hymnal</dc:title>
</cp:coreProperties>
</file>