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4A8CE-8631-450B-B3A3-9D24CEFEB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B33-3DF9-4C60-88E4-2B2C679C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38F-1AEA-40F4-8667-9A4FBD5E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0AA-C52F-40D1-9BAB-B2CD4CC7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A67-345C-4DDE-861F-C9CC64D8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05C-09F1-4FBA-8E98-2B0F199C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E5A-D70E-46C2-84D7-10B712CB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B14-9133-4709-BD5F-0680617B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1E5-48AC-4B6F-915E-B525EAAD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C9F-F72A-4C1C-89FA-8C0F6F36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EFD-90A0-4579-90B6-C4F94D31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1AC-5E90-458E-9A4F-A342F02E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C2C-05BA-4AEC-8DC9-89F79243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62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1B504-E830-4EB7-AD2D-8129D93464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2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 God, My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od, my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why hast Thou forsaken me, Thy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why hast Thou not heard my c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anguished bitter c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Thou art holy and enthro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d the songs of prai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fathers did rely on Th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ou didst rescu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ried to Thee and Thou didst h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rusted Thee, O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 delivered them from fear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not asha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 am just a worm and not a 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scorned by m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ected and despised by m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ocked and scorned b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neer and toss their heads at 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ugly mouths and mock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God deliver him, they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eft it to his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Thou art God, inde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took me from my mother's womb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be not far from me, O G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re is none to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9:37:17Z</dcterms:created>
  <dc:creator>Lanora Campbell</dc:creator>
  <dc:description/>
  <dc:language>en-US</dc:language>
  <cp:lastModifiedBy/>
  <cp:revision>1</cp:revision>
  <dc:subject/>
  <dc:title/>
</cp:coreProperties>
</file>