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B6B9E-FF9E-4BFA-A3F1-70901A88F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508-E31A-4332-B865-5C3E1AFC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132-AE4B-4047-A267-6B731626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9FE-D7CC-46C7-BC71-BA56B195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452-E334-4227-897A-D5C1BD1C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616-9820-45EB-951F-1A3ADF2B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1FA-9748-4790-BA7D-E7EC4AC7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DD7-2043-4490-8555-382EC2D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2DD-81FE-4424-BD3F-07EFDF0F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E85-1601-4327-9EDF-82FDFB4E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121-854E-40DE-82EC-E19D0256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4BC-20BF-445B-A9ED-A8F3B04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7DA-BFED-4CE3-889D-265AD9E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67CB7-6930-4E53-B09E-5BAABF520D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rom Psalm 103 - Henry F. Lyte, Ludvig M. Lind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ise, The 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, my soul, the King of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s feet thy tribute bring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somed, healed, restor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iven, Evermore His praises sing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 Hallelujah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the everlasting 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 for His race and fav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our fathers in distr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Him, still the same as ev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ow to chide, and swift to bl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 Hallelujah!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in His faithful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ther-like, He tends and spares u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our feeble frame He know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hands He gently bears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cues us from all our fo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 Hallelujah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dely as His mercy fl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gels in the height, adore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behold Him face to fac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ints triumphant, bow before Him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thered in from every r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lelujah!  Hallelujah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 with us the God of gr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21:34Z</dcterms:created>
  <dc:creator>Lanora Campbell</dc:creator>
  <dc:description/>
  <dc:language>en-US</dc:language>
  <cp:lastModifiedBy/>
  <cp:revision>1</cp:revision>
  <dc:subject/>
  <dc:title/>
</cp:coreProperties>
</file>