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B0269-0E6D-42C9-AA2B-D8411FF9B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265-6D75-4742-9A19-04739B42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945-6EBD-45A2-82CE-2FD1DC37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DCE-BF62-4F46-982C-F7AC34CC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2E6-8CD6-4C70-8C55-2566183D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E05-7129-49DC-970C-786CC85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DEB-587D-44B7-A82D-0088157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DF8-BA8A-4B04-A022-33265905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99C-8D6F-4658-B60F-CC46C238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0B5-5F47-4070-80FF-F033A24B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90E-FF6A-43D3-8B04-9E29EE5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74C-8B17-4F8D-AB53-2347B75A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F1D-8A73-49DA-BFC1-D4B96EAB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26FA8-C8D7-4CCA-8F76-6F0E039D2C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God, We Have Hea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we have he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ur fathers have tau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s which of 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ir day Thou hast wrou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s were crus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xpelled by thy h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 out that Thy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ht dwell in thei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gained not the 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e edge of the sw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own arm to th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ld no safety affor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by Thy right ha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y Savior and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and, and thy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deliverance br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49200"/>
            <a:ext cx="900612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 trust  will  I  plac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bow to defe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yet on my s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y safety depe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God who has saved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ut them to sha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boast all the 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 praising His nam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6:03:19Z</dcterms:created>
  <dc:creator>Lanora Campbell</dc:creator>
  <dc:description/>
  <dc:language>en-US</dc:language>
  <cp:lastModifiedBy/>
  <cp:revision>1</cp:revision>
  <dc:subject/>
  <dc:title>Hymnal</dc:title>
</cp:coreProperties>
</file>