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EEF25-B14A-4543-B611-A84AF386A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563-9756-419C-8063-E72D2EC8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541-95DC-4D12-9AC9-D34BD45D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975-A1C1-45B7-B603-CA7BD7BA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4DB-516E-437F-B85B-C0FF728F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4D6-C669-4A6C-86EE-CBB0C6DE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8AC-BBB2-473C-9C0C-2F268AB8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769-3C3B-442E-A72D-D624BF16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D6D-0D25-4C4F-8B6F-6A273A03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7D0-E4F2-482A-8B6B-8D123D66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2F2-E0C9-4EA3-BA8A-16E9C222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5D3-38F3-48D8-81DF-A7088A0C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7A7-36DB-45F8-9EE2-596BE19F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77FA9-B653-4DB0-B50D-83C7C85F3C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4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0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Give Thanks And Praise The Eterna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give thanks and praise the Etern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upon His sacred nam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His deeds be known among nation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 to Him, sing songs of pra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of all his marvelous wond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ry in His most holy nam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 hearts of those rejoi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seek God and fear his nam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hip Him for ever and 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forget His wonderful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5680"/>
            <a:ext cx="90061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remember all of His judgme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is deeds and wonders grea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remember, children of Isr'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made you His chosen on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our God now and forever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ternal, great is His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all He reigns supre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is judgments fill the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of Abrah'm, Isaac and Jaco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ry to Him, sing praise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5680"/>
            <a:ext cx="90061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ternal's word is forev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onfirmed His covenan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thousand genera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s people Isr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gave to them a possess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n everlasting doma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ir portion evermore, Canaan's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gave to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of Abrah'm, Isaac and Jaco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ry to Him, Sing praise to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8:20:37Z</dcterms:created>
  <dc:creator>Lanora Campbell</dc:creator>
  <dc:description/>
  <dc:language>en-US</dc:language>
  <cp:lastModifiedBy/>
  <cp:revision>1</cp:revision>
  <dc:subject/>
  <dc:title>Hymnal</dc:title>
</cp:coreProperties>
</file>