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F5970-3429-4981-932D-87646059E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0AE-C373-41C0-937B-AFB6B060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B1B-71DE-4A19-AD4B-F1389AE0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678-38E0-410B-A6A1-B4407F13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A0C-28BC-4A7E-ABBA-1DCE20C9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1DD-C996-41A8-8654-5B8D114C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222-7618-4BCB-A1D2-FD2DF996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B33-FD76-4432-8226-99954AF9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FC6-B596-45D0-B969-7C9D531F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867-02AF-49C2-BE96-DFDAEDA4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21D-690A-446E-B778-30123BAF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84D-8369-4518-847D-6C4CC0A5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652-50FC-4AE8-BC82-EE3412BB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3E707-F753-4819-99AF-377D32B363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ry Ann Lathbury, 1877, alt. William F. Serwin, 1877, a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eak Thou The Bread Of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eak Thou the bread of lif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r Lord, to me, As Th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st break the loaves beside the se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yond the sacred p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eek Thee,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pirit pants for Thee, O living Wo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 Thou the truth, dear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e, to me, As Thou did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 the bread by Galil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l bondage cea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fetters fall; And I shall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peace, my all in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4920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the bread of lif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, to me, Thy holy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rust that saveth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me to eat and l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e in l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o love Thy tru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rt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send Thy Spirit,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unto me, That it m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uch my eyes, and make me se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 me the truth concea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in Thy W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y Book revealed I see The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7:03:18Z</dcterms:created>
  <dc:creator>Lanora Campbell</dc:creator>
  <dc:description/>
  <dc:language>en-US</dc:language>
  <cp:lastModifiedBy/>
  <cp:revision>1</cp:revision>
  <dc:subject/>
  <dc:title>Hymnal</dc:title>
</cp:coreProperties>
</file>