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DB5AE-0145-451A-90F6-6720C4785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DF8-9794-4D93-924B-64FA8111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36A-E6EF-444D-81DD-80ED9280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834-7CEA-4212-ADC7-D05D2B93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DB0-BB63-4020-A7F0-68FDE5A9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361-C553-49A6-8FED-389FAD84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164-1953-43FB-AAF3-F3DE33DF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02E-B193-481D-BF07-DF0A2B75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075-E4B4-4663-B762-F9C66AAE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408-8E91-4265-9236-7420725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119-00E9-474B-9712-A6DA994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694-DE45-438A-9246-3E3BE44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687-E6A7-4915-84E3-46443FF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27BD8-91AD-4435-B999-1AA6D94778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anny J. Crosby, 1820-1915, alt., Chester G. Allen, 19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Him!  Praise Hi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! praise Him!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blessèd Redeemer! S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arth, His wonderful love procla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l Him! hail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st archangels in glo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 and honor give to His holy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shepherd, Jesus will guard His children, In His arms He carries them all day lo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! Praise Him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of His excellent greatn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! Praise Him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in joyful s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! Praise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, our blessed Redeem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ur sins He suffered, and bled, and d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ur Rock, our hope of eternal salv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l Him! Hail Him! Jesus the Glorif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 His praises! Jesus who bore our sorrows, Love unbounded, wonderful, deep and str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! Praise Him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of His excellent greatn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! Praise Him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in joyful s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! Praise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, our blessed Redeem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enly portals loud with hosanna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, Savior, reigneth forever and 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n Him! Crown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t, and Priest, and K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is coming! over the world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and glory unto the Lord bel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! Praise Him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of His excellent greatn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! Praise Him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in joyful s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6:07:19Z</dcterms:created>
  <dc:creator>Lanora Campbell</dc:creator>
  <dc:description/>
  <dc:language>en-US</dc:language>
  <cp:lastModifiedBy/>
  <cp:revision>1</cp:revision>
  <dc:subject/>
  <dc:title>Hymnal</dc:title>
</cp:coreProperties>
</file>